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A78F-5C42-45A2-B0B2-89A45963E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5840" y="42577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C70F-1A81-4B83-A4C8-05F60CF7A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428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6C7B-BF13-4868-A771-4E32DFC3C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384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20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584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384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20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22F0-FA76-4159-B830-B051EB553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8A7F-7716-4A39-8C28-1C12B84B6A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913E4-747A-449F-B154-64256C9D0D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4D07-52E4-460A-8C63-DB9C35EA60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7720E-7107-4517-972E-8B74C3809C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3E9E-2DF9-42BB-B5D2-E7FF3E30AD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8946-213B-454E-8FD9-8D9B340E8E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68C99-EEA0-4359-BDE7-0E8E234911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FEAB-D05E-47D3-9903-19CBA7C74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428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D79F-B9D4-410B-9C40-538224056B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F6218-4389-4BFE-A797-B33FE82B02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5840" y="42577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D4860-6524-4FAD-9ECA-82D370462E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428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8EB9-FC5E-4F16-86B1-25BB562113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9384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220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584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9384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220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DAF9-45EB-4432-8F3F-B5E150B5AA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1385-C1F3-4F3E-A9F5-A83E8594D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8F7F-26C4-4387-8A72-966340C0E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0A01-436F-4C65-BD63-D4540F315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D7F5-D179-45C9-AFFA-C0B1D559A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DEAC-EB93-484D-9F5F-6BAEFF5F2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428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193A-D119-4E97-8B97-FB52826DA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89E2-FAA3-4F0A-B0C3-892E1BE63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42D2-CB78-47E9-9E11-9824367D117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64D6-74CB-43FE-99CB-B27FB21F82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5BFA-25E6-4D56-91A8-FA2DC19F794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anaged Objects: Job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job in the context of a RMS is any agglomeration of computational tasks usually solving a complex probl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29040" indent="-32904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job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y consist of a single program, of several interacting progra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y also utilize operating system command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re are four types of jobs in the context of R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tch Jobs: require no manual interaction as soon as start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active Jobs: require input during runtim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llel Jobs: subtasks spread across several hosts in a clu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eck-pointing Jobs: periodically save status to the file system and can be aborted anytim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anaged Objects: Resour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term resourc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ften called attribut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fers to the available memory, CPU time, and peripheral devi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 job is accompanied by its resource requiremen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n RMS should ensure that resources are not oversubscribed by running job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can be performed by comparing resource utilization information with the thresholds defined by the cluster administ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anaged Objects: Polic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o manage the computational resources of a cluster, categorizing classes of jobs in terms of queues is used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 RMS may offer more </a:t>
            </a:r>
            <a:r>
              <a:rPr b="0" lang="en-US" sz="3400" spc="-1" strike="noStrike" u="sng">
                <a:solidFill>
                  <a:srgbClr val="0000ff"/>
                </a:solidFill>
                <a:uFillTx/>
                <a:latin typeface="Comic Sans MS"/>
              </a:rPr>
              <a:t>abstract and advanced mechanisms</a:t>
            </a: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 to automate control of utilization of a compute server environment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wo types of polici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source Utilization Polici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cheduling Polici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source Utilization Polici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hare base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ource utilization entitlements with respect to the whole cluster are assigned to organization entities such as users, departments or projec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vanced RMS allow the definition of resource shares by means of a hierarchical share tre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 attribute of share based utilization policies is that they attempt to establish the defined resource entitlements within a time windo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unctiona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ike share based policies, they also define resource entitlem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st usage is not taken into account in functional polici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resource entitlements maintained as fixed level of importa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source Utilization Polici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Deadlin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ime critical applications which are required to finish before a given dead-line represent a probl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anual overrid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n administrator may raise the resource entitlement of a certain job or of all jobs of a user, department, project and job class by a certain and well-interpretable quantit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heduling Polic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cheduling policies are meant to apply only to the process of dispatching job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 RMS may provide a variety of scheduling polici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irst-Come-First-Serv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lect-Least-Load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lect-Fixed-Sequenc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mbinations abov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Modern Architectural Approach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 structured design is vital for the quality of service that a RMS provid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central CODINE/GRD functionality is provided by three types of daemon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d_qmaster: master daem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d_schedd: scheduler is implemented in cod_sched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d_execd: execution daem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three daemons communicate over a communication system based upon TCP and provided by the CODINE/GRD communication daemon cod_commd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950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utomated Policy Based Resource Management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Requirements and Goals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imally achieve the performance goals of the enterpr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is accomplished through resource management polic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aknesses in mediating the sharing of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plications will rarely perform at the optimum performance because imbalanced load is the common situation in multiprocessing environm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ortant/urgent work may be deferred or starved for resources while other work is initiated and proces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authorized users may inadvertently dominate shared resources by simply submitting the largest amount of 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user may grossly exceed her/his desired resource utilization level over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ynamic reallocation of resources is a prerequisite to optimal workload manag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950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utomated Policy Based Resource Management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Quantifying Availability and Usage of Resources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D performs resource tasking based upon the utilization and collective capabilities of an entire system of re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order to avoid improper dispatching of jo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D continuously maintains alignment of resource utilization with policies, using a dynamic workload regulation sche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D monitors and adjusts resource usage correlated to all processes of a job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806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utomated Policy Based Resource Management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olicy Models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hared base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s hierarchical allocation of resou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unction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s relative weighting among users, projects, departments, and job classes during exec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itiation deadli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matically escalates a job’s resource entitlement over time as it approaches its dead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verri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justs resource entitlements at the job, job class, user, project, or department lev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Job and Resource Management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200" y="1498320"/>
            <a:ext cx="56088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By: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Fritz Ferst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otivation and Historical Syste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mponents and Architecture of Job- and Resource Managemen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State-of-the-Art in R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hallenges for the Present and the Futur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ummar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102720" y="2125800"/>
            <a:ext cx="2785320" cy="3431160"/>
            <a:chOff x="6102720" y="212580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321240" y="212580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102720" y="524988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RD Policy Integr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160" y="1909800"/>
          <a:ext cx="8991720" cy="40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1909800"/>
                    <a:ext cx="899172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806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utomated Policy Based Resource Management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olicy Enforcement 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GRD is implemented by a dynamic scheduling facili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ultiple feed-back loops to adjust CPU shares of concurrently executing jobs toward dynamically changing requirement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tatic Scheduling Schem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1925640"/>
          <a:ext cx="8791560" cy="37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25640"/>
                    <a:ext cx="879156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RD’s Dynamic Scheduling Schem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3360" y="1498680"/>
          <a:ext cx="8991720" cy="50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498680"/>
                    <a:ext cx="8991720" cy="50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5220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State-of-the-Art of Job Support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rial Batch Job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l RMS allow to submit batch job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ability to suspend and resume execution of batch jobs and to restart batch jobs after system crashes is a standard toda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teractive Suppor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teractive job need to maintain a terminal conne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hen the interactive user suffers from background RMS jobs, “watchdog” program withdraw such machines from the RMS pool subsequentl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State-of-the-Art of Job Support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Parallel Support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ot all RMS provide parallel suppor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kind of support provided differs considerabl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upport of Arbitrary or Particular PP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ixed integrated parallel support (e.g.. Condor) providing an interfaces to PVM onl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DINE/GRD offers freely configurable start-and-stop procedures for each PPE to be support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State-of-the-Art of Job Support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Level of Control for Parallel Process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 simple way to provide an interface between a RMS and PPEs consists of submitting a start-up procedure/script for the run-time environment of PPEs to the RMS instead of a simple job scrip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 approach proposed by the psched initiativ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Is linking a RMS and PPEs to exchange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State-of-the-Art of Job Support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echanisms for dealing with the checkpointing of a job are provided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SF and CODINE/GRD provide interfaces for so-called kernel level, application level and library based checkpoint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oadLeveler and Condor provide checkpointing only for applications linked with operating specific libraries enabling the facilit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llenges for the Present and the Future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Open Interfac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vanced APIs are nee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ers might want to use a RMS’s load balancing and load distribution capabilities to distribute computational subtasks across a network of compute ho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various reasons it is necessary to retrieve the following kind of information from inside RMS relat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overall load situ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tatus of job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tatus of queu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oftware developer might want to pass information to a RMS system to support the schedul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pecially for the purpose of low-level integration of RMS with other software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RMS’s graphical user’s and administrator’s interface should use API to configure RMS objects or to submit and monitor batch reque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MS administrators might wish to write special-purpose RMS commands in case the site’s users expect a very special behavi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llenges for the Present and the Future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Open Interfac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vance RMS API must satisfy following reques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I must be easy to 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I need to be usable from any programming langu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I must hide RMS implementation details from the application develop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al RMS changes should not necessarily require software built upon the API to be chang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DINE/GRD API already meets these requirem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a applicable for any client/server in CODINE/G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extensible without requiring recompilation for every API-based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 a SQL inspired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otivation and Historical Evolu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Need for Job Management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perating system offers job and resource management service for a single compu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batch job control on multi-user mainframes was performed outside the operating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in advantages are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for a structured resource utilization planning and control by the administ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er the resources of a compute center to a user in an abstract, transparent, easy-to-understand and easy-to-use fash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 vendor independent user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first RMS of this type was NQS (Network Queuing Syste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llenges for the Present and the Future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source Control and Mainframe-Like Batch Processing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MS controls the following re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cyc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k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pheral devices such as printer, tape drives, et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operating system and hardware architect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censes for the installed base and application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interconnect and its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llenges for the Present and the Future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eterogeneous Parallel Environments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ared Memory Parallel Machi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or affinity is one of the common requirements that are demanded by users of shared memory parallel mach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dicated Distributed Memory Parallel Machi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blem is that there are several types of machines available from several vendors showing strongly different characteris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 Based Distributed Memory Parallel Machi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clusters as distributed memory parallel machines brings in several com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ost important are difficulties in interfacing parallel programming environ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s caused by the multi-user and multitasking nature of cluster comp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llenges for the Present and the Future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MS in a WAN Environment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ny large industrial and research organizations operate with several branches being separated by long distan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plying a RMS to a WAN yields a number of problems related 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file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oday’s RMS offer good utilization of compute resources for a wide variety of application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y have proven their usefulness in production environments and still extend their application area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eed to evolve and integrate with other client/server softwar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DINE/GRD is well recognized as one of the leading RMS for clusters today and is well-equipped for the challenges of the futur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950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Job Management Systems on Workstation Clus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ing workstation clusters imposes specific requirements on job management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typical job management system usually off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terogeneous Suppo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tch Suppo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llel Suppo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active Suppo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eck-pointing and Process Migr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ad Balanc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Job Run-Time Limi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U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imary application fiel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eckpointing and migrating job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llel programs or I/O intensive job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806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nents and Architecture of Job and Resource Management Systems (I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erequisit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ic prerequisit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mputers are interconnected by a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mputers provide multi-user as well as multitasking capab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omogeneous operating system architectures are not a restric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practice, the following situation occurs frequentl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” operating systems run on all mach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X (in all variants) is very customary in the context of using R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soft’s Windows NT introduced the interest in the usage of relatively cheap PC hardware for clustered batch proc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806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nents and Architecture of Job and Resource Management Systems (II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ser interfac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MS at least provides a command line user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ypical command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job submission command to register jobs for execution with the R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us display command to monitor progress or failure of a j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job deletion command to cancel jobs no longer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e of the popular RMS also offer a GUI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640" y="66600"/>
            <a:ext cx="899172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nents and Architecture of Job and Resource Management Systems (III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dministrative environmen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ecify machine characteristics for the hosts in the RMS poo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fine feasible job classes and the appropriate hosts for the job clas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fine user access permiss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ecify resource limitations for users and job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ecify policies for the assignment of jobs according to load or other site specific preferen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trol and ensure proper operation of the R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alyze accounting data to tune the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command line interface needs to be availabl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n administrative GUI is offered in some R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anaged Objects: Queu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he concept of queues refers to the standard computer science first-in-first-out queu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echanism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 job is assigned to a queue and processed on a host bound to the queu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f all queues are busy with a job when a new job is submitted, the new job waits until a queue becomes availabl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anaged Objects: Hos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erver nod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mpute services: consists of executing job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MS management services: covers all types of tasks to guarantee the operability of the RMS (network communication, scheduling, RMS configuration, etc.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ubmit/control host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 pass jobs to the RMS for execution and to control jobs respectivel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2-01-06T08:55:50Z</dcterms:modified>
  <cp:revision>780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