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23AF-F839-407A-B902-F32D5F843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E62B-9E22-4ABB-A113-C58351716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E358-78EF-4F7D-B74A-AFBE85D66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5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140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5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68C2-C1CC-4B86-AEE6-0E5C7A0A1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BD1C8-7914-46F9-927B-835577F77D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B6C0-46B8-4892-8137-E789ECBFDA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5063-BC47-480B-B381-AE391CB4CE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014E-7673-488A-B48F-B5482F5059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C75E-8338-4ED3-A14A-167DD2A6CC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AB7D-0EDE-46A9-866A-CCE8E015AA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64D5-4DE6-496E-B970-4D806BB79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70DA-B489-4F50-ACB4-0D2F974F5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00E7-8851-4D5E-BE4A-DCDA3187BA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D1B9D-07AC-4688-8CF5-14B5BB445C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8377-7A98-49A4-A3E6-750A22B414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AB94-8E94-4322-A609-14E14E1F12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8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5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140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8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5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02F4-C6BE-44C7-B7EB-A42403816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102E-8769-4442-ABB8-145088FBC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BD9D-9114-41CA-8672-985B57624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91D1-EB9B-4CEB-8C32-4C038D619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5DF6-E45F-4EF5-A30F-B6A480E48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3A28-7EBE-48C2-8DB3-290B016A5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39F5-B1B3-45A0-9CB0-CD55018CA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64E1-8365-4BE8-866A-F821ED83D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975E-E792-43C5-985B-7E5EC9BA40A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4D62-2926-4D3C-AE73-1B4B6CD344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F257-93F9-469B-8F8F-1AA25346F6D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ame Resol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consists of locating a file or directory given its na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wo approaches to this probl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alized name-resolution sche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name-resolution sche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entralized name-resolution sche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node is responsible for mapping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failure in the node results in a failure of the whole filesystem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alized server might become a bottleneck in larger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ame Resol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tributed name-resolution sche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different w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system builds its own name space (Sun NF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system knows the filesystems that have been mounted and the node that holds them  - movement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is a unique global structure (domain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name space for all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 sever is responsible for one of these doma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increase the performance of this name resolution, the system may keep a cache of which nodes have the most popular files or directo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Dividing a Directory Tree into Domai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60520" y="1574640"/>
          <a:ext cx="845496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1574640"/>
                    <a:ext cx="845496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ata Strip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stribute the data among the disks so that it can be fetched from as many disks as possible in parall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first time this idea was used was in building a high-bandwidth “single disk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 several disks to a single controller and give the impression that the disk had a higher data transfer bandwid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AID – Redundant Arrays of Inexpensive Disk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ree reasons of the high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from each disk can be fetched at the same time, increasing the disk 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disks can perform the seek operation in parallel, decreasing its ti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e than one request may be handled in parall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nterleav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e-grained disk array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leave data in relatively small units so that all I/O requests access all the disks in the disk arra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ery high data transfer rates for all I/O reques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ly one logical I/O request can be serv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ste time positioning for every requ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arse-grained disk arra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leave data in relatively large units so that all I/O requests need only to access a small number of disks &amp; large requests can access all disk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ple small requests to be serviced in parall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needs a fault-tolerance mechanism to allow a disk failure without losing the information kept in the failed di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RAID Level 0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D 0 implements a striped disk array, the data is broken down into blocks and each block is written to a separate disk driv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/O performance is greatly improved by spreading the I/O load across many channels and driv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est performance is achieved when data is striped across multiple controllers with only one drive per control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 parity calculation overhead is involv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ery simple desig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asy to imple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t a "True" RAID because it is NOT fault-tolera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failure of just one drive will result in all data in an array being lo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hould never be used in mission critical environme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ideo Production and Editing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mage Editing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e-Press Application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y application requiring high bandwidth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0: Striped Disk Array without Fault Toler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00" descr=""/>
          <p:cNvPicPr/>
          <p:nvPr/>
        </p:nvPicPr>
        <p:blipFill>
          <a:blip r:embed="rId1"/>
          <a:srcRect l="25811" t="11766" r="27055" b="11147"/>
          <a:stretch/>
        </p:blipFill>
        <p:spPr>
          <a:xfrm>
            <a:off x="1089000" y="1500120"/>
            <a:ext cx="7370640" cy="4443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47080" y="6261120"/>
            <a:ext cx="64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Level 0 requires a minimum of 2 drives to i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RAID Level 1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e Write or two Reads possible per mirrored pai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wice the Read transaction rate of single disks, same Write transaction rate as single disk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0% redundancy of data means no rebuild is necessary in case of a disk failure, just a copy to the replacement dis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fer rate per block is equal to that of a single dis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certain circumstances, RAID 1 can sustain multiple simultaneous drive fail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mplest RAID storage subsystem desig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ighest disk overhead of all RAID types (100%) - ineffici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ypically the RAID function is done by system software, loading the CPU/Server and possibly degrading throughput at high activity levels. Hardware implementation is strongly recommend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y not support hot swap of failed disk when implemented in "software"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ccounting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yroll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nancial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y application requiring very high availability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1: Mirroring and Duplex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1320" y="5597640"/>
            <a:ext cx="786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Highest performance, the controller must be able to perform two con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te Reads per mirrored pair or two duplicate Writes per mirrored pai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1 requires a minimum of 2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01" descr=""/>
          <p:cNvPicPr/>
          <p:nvPr/>
        </p:nvPicPr>
        <p:blipFill>
          <a:blip r:embed="rId1"/>
          <a:srcRect l="2976" t="10677" r="2780" b="12321"/>
          <a:stretch/>
        </p:blipFill>
        <p:spPr>
          <a:xfrm>
            <a:off x="152280" y="2031840"/>
            <a:ext cx="879156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AID Level 2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On the fly" data error corr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remely high data transfer rates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higher the data transfer rate required, the better the ratio of data disks to ECC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ively simple controller design compared to RAID levels 3,4 &amp;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high ratio of ECC disks to data disks with smaller word sizes - ineffic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ry level cost very high - requires very high transfer rate requirement to justif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action rate is equal to that of a single disk at best (with spindle synchroniz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mmercial implementations exist / not commercially vi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oftware RAID and Parallel File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558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hap.19 by: T. Cort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hysical Placement of Data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aching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refetching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nterface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82280" y="2666880"/>
            <a:ext cx="2785320" cy="3431160"/>
            <a:chOff x="6182280" y="266688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400800" y="266688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182280" y="579096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2: Hamming Code ECC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5720" y="5619600"/>
            <a:ext cx="774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bit of data word is written to a data disk drive (4 in this example: 0 to 3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data word has its Hamming Code ECC word recorded on the ECC disk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Read, the ECC code verifies correct data or corrects single disk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02" descr=""/>
          <p:cNvPicPr/>
          <p:nvPr/>
        </p:nvPicPr>
        <p:blipFill>
          <a:blip r:embed="rId1"/>
          <a:srcRect l="2780" t="7576" r="2780" b="7507"/>
          <a:stretch/>
        </p:blipFill>
        <p:spPr>
          <a:xfrm>
            <a:off x="152280" y="1703520"/>
            <a:ext cx="879156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3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high read data transfer r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high write data transfer r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 failure has an insignificant impact on throughp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ratio of ECC (Parity) disks to data disks means high efficien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action rate equal to that of a single disk drive at best (if spindles are synchronize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roller design is fairly comple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difficult and resource intensive to do as a "software" RAI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production and live stream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age edit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edit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press applica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application requiring high throughpu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3: Parallel Transfer with Parit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2800" y="5334120"/>
            <a:ext cx="7746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ata block is subdivided ("striped") and written on the data disk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ripe parity is generated on Writes, recorded on the parity disk and checked on Read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3 requires a minimum of 3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157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03" descr=""/>
          <p:cNvPicPr/>
          <p:nvPr/>
        </p:nvPicPr>
        <p:blipFill>
          <a:blip r:embed="rId1"/>
          <a:srcRect l="2575" t="14268" r="2213" b="9130"/>
          <a:stretch/>
        </p:blipFill>
        <p:spPr>
          <a:xfrm>
            <a:off x="152280" y="2225520"/>
            <a:ext cx="8791560" cy="26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AID Level 4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high read data transaction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ratio of ECC (Parity) disks to data disks means high effici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aggregate read transfer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te complex controller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st write transaction rate and write aggregate transfer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icult and inefficient data rebuild in the event of disk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ock read transfer rate equal to that of a singl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4: Independent Data Disks with Shared Parity Dis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800" y="5334120"/>
            <a:ext cx="774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entire block is written onto a data disk. Parity for same rank blocks is generated on writes, recorded on the parity disk and checked on Read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4 requires a minimum of 3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168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4" descr=""/>
          <p:cNvPicPr/>
          <p:nvPr/>
        </p:nvPicPr>
        <p:blipFill>
          <a:blip r:embed="rId1"/>
          <a:srcRect l="2780" t="11231" r="4165" b="10149"/>
          <a:stretch/>
        </p:blipFill>
        <p:spPr>
          <a:xfrm>
            <a:off x="152280" y="1954080"/>
            <a:ext cx="883944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5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st read data transaction r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dium write data transaction r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 ratio of ECC (Parity) disks to data disks means high effici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ood aggregate transfer r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k failure has a medium impact on through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complex controller desig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fficult to rebuild in the event of a disk failure (as compared to RAID level 1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dividual block data transfer rate same as single dis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e and application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base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WW, E-mail, and News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anet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versatile RAID leve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5: Independent Data Disks with Distributed Parity Block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2800" y="5334120"/>
            <a:ext cx="7746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entire data block is written on a data disk; parity for blocks in the same rank is generated on Writes, recorded in a distributed location and checked on Read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5 requires a minimum of 3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180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05" descr=""/>
          <p:cNvPicPr/>
          <p:nvPr/>
        </p:nvPicPr>
        <p:blipFill>
          <a:blip r:embed="rId1"/>
          <a:srcRect l="2638" t="12063" r="2921" b="10517"/>
          <a:stretch/>
        </p:blipFill>
        <p:spPr>
          <a:xfrm>
            <a:off x="228600" y="1828800"/>
            <a:ext cx="8686800" cy="29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ad-Write-Modif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28640" y="1562040"/>
          <a:ext cx="588672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562040"/>
                    <a:ext cx="588672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generate-Writ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638360" y="1495440"/>
          <a:ext cx="5867280" cy="53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495440"/>
                    <a:ext cx="586728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aphic Representation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Five Levels of RAI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280" y="1494000"/>
          <a:ext cx="87915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94000"/>
                    <a:ext cx="87915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/O probl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uster of workstations has the great amount of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se large number of resources were not accessible from all the nodes in the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ly the process running on the node that had a given resource attached were able to  use i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re was a way to access those remote resources, the steps that had to be done were neither simple nor transpar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se resources have to be accessible from any node (Single System Image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parison Between RAID Level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280" y="1495440"/>
          <a:ext cx="8991720" cy="53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95440"/>
                    <a:ext cx="899172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6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extension of RAID level 5 which allows for additional fault tolerance by using a second independent distributed parity scheme (two-dimensional parit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s striped on a block level across a set of drives, just like in RAID 5, and a second set of parity is calculated and written across all the dr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6 provides for an extremely high data fault tolerance and can sustain multiple simultaneous drive fail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ect solution for mission critical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complex controller desig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roller overhead to compute parity addresses is extremely hig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poor write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s N+2 drives to implement because of two-dimensional parity sche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AID 6: Independent Data Disks with Two Independent Distributed Parity Sche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04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44560" y="2119320"/>
            <a:ext cx="4286160" cy="2620800"/>
            <a:chOff x="1744560" y="2119320"/>
            <a:chExt cx="4286160" cy="2620800"/>
          </a:xfrm>
        </p:grpSpPr>
        <p:sp>
          <p:nvSpPr>
            <p:cNvPr id="210" name=""/>
            <p:cNvSpPr/>
            <p:nvPr/>
          </p:nvSpPr>
          <p:spPr>
            <a:xfrm>
              <a:off x="1744560" y="2119320"/>
              <a:ext cx="4286160" cy="262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44560" y="2119320"/>
              <a:ext cx="4286160" cy="262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06" descr=""/>
          <p:cNvPicPr/>
          <p:nvPr/>
        </p:nvPicPr>
        <p:blipFill>
          <a:blip r:embed="rId1"/>
          <a:srcRect l="8189" t="12063" r="8480" b="7158"/>
          <a:stretch/>
        </p:blipFill>
        <p:spPr>
          <a:xfrm>
            <a:off x="228600" y="2133720"/>
            <a:ext cx="876312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7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al Fea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I/O transfers are asynchronous, independently controlled and cached including host interface transf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reads and write are centrally cached via the high speed x-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dicated parity drive can be on any chann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lly implemented process oriented real time operating system resident on embedded array control microprocess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bedded real time operating system controlled communications chann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en system uses standard SCSI drives, standard PC buses, motherboards and memory SIM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speed internal cache data transfer bus (X-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ity generation integrated into cac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 attached drive devices can be declared hot standb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ageability: SNMP agent allows for remote monitoring and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7 (cont’d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verall write performance is 25% to 90% better than single spindle performance and 1.5 to 6 times better than other array leve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interfaces are scalable for connectivity or increased host transfer 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all reads in multi user environment have very high cache hit rate resulting in near zero access ti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performance improves with an increase in the number of drives in the arra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cess times decrease with each increase in the number of actuators in the arra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extra data transfers required for parity manipul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7 is a registered trademark of Storage Computer Corpor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e vendor proprietary sol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emely high cost per M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short warran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user service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wer supply must be UPS to prevent loss of cache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AID 7: Optimized Asynchrony for High I/O Rates as well as High Data Transfer Rat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22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68436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44560" y="2271600"/>
            <a:ext cx="4286160" cy="2316240"/>
            <a:chOff x="1744560" y="2271600"/>
            <a:chExt cx="4286160" cy="2316240"/>
          </a:xfrm>
        </p:grpSpPr>
        <p:sp>
          <p:nvSpPr>
            <p:cNvPr id="228" name=""/>
            <p:cNvSpPr/>
            <p:nvPr/>
          </p:nvSpPr>
          <p:spPr>
            <a:xfrm>
              <a:off x="1744560" y="2271600"/>
              <a:ext cx="4286160" cy="23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44560" y="2271600"/>
              <a:ext cx="4286160" cy="23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07" descr=""/>
          <p:cNvPicPr/>
          <p:nvPr/>
        </p:nvPicPr>
        <p:blipFill>
          <a:blip r:embed="rId1"/>
          <a:srcRect l="1386" t="15696" r="1386" b="13739"/>
          <a:stretch/>
        </p:blipFill>
        <p:spPr>
          <a:xfrm>
            <a:off x="152280" y="2286000"/>
            <a:ext cx="883944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10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10 is implemented as a striped array whose segments are RAID 1 array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10 has the same fault tolerance as RAID level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10 has the same overhead for fault-tolerance as mirroring al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I/O rates are achieved by striping RAID 1 seg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der certain circumstances, RAID 10 array can sustain multiple simultaneous drive failu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cellent solution for sites that would have otherwise gone with RAID 1 but need some additional performance bo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expensive / High overh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drives must move in parallel to proper track lowering sustained performa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limited scalability at a very high inherent c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base server requiring high performance and fault toleranc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10: Very High Reliability Combined with High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97160" y="6172200"/>
            <a:ext cx="60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10 requires a minimum of 4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38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43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10" descr=""/>
          <p:cNvPicPr/>
          <p:nvPr/>
        </p:nvPicPr>
        <p:blipFill>
          <a:blip r:embed="rId1"/>
          <a:srcRect l="23465" t="9316" r="25150" b="7370"/>
          <a:stretch/>
        </p:blipFill>
        <p:spPr>
          <a:xfrm>
            <a:off x="1752480" y="1600200"/>
            <a:ext cx="632484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53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53 should really be called "RAID 03" because it is implemented as a striped (RAID level 0) array whose segments are RAID 3 arra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53 has the same fault tolerance as RAID 3 as well as the same fault tolerance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data transfer rates are achieved thanks to its RAID 3 array seg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I/O rates for small requests are achieved thanks to its RAID 0 strip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ybe a good solution for sites who would have otherwise gone with RAID 3 but need some additional performance boo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expensive to impl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disk spindles must be synchronized, which limits the choice of dr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te striping results in poor utilization of formatted capac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53: High I/O Rates and Data Transfer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60199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53 requires a minimum of 5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54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60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2" name="53" descr=""/>
          <p:cNvPicPr/>
          <p:nvPr/>
        </p:nvPicPr>
        <p:blipFill>
          <a:blip r:embed="rId1"/>
          <a:srcRect l="17913" t="9316" r="18205" b="7370"/>
          <a:stretch/>
        </p:blipFill>
        <p:spPr>
          <a:xfrm>
            <a:off x="1066680" y="1676520"/>
            <a:ext cx="7467840" cy="40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/O probl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se cluster of workstations end up being very similar to parallel machin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me kind of applications can be run on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blem is founded when executing these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a high performance I/O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pplications work with very large data sets, which cannot be kept in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expect a fast file system that is able to write &amp; read this data very rapid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rallel applications are run on the cluster of workstations, the I/O system should allow cooperative 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X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0+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is implemented as a mirrored array whose segments are RAID 0 array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has the same fault tolerance as RAID level 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has the same overhead for fault-tolerance as mirroring al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I/O rates are achieved thanks to multiple stripe seg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cellent solution for sites that need high performance but are not concerned with achieving maximum reliabilit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is NOT to be confused with RAID 10. A single drive failure will cause the whole array to become, in essence, a RAID level 0 arra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expensive / High overh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drives must move in parallel to proper track lowering sustained performa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limited scalability at a very high inherent c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aging application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ral fileserve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0+1: High Data Transfer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60199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0+1 requires a minimum of 4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71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77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81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3" name="0p1" descr=""/>
          <p:cNvPicPr/>
          <p:nvPr/>
        </p:nvPicPr>
        <p:blipFill>
          <a:blip r:embed="rId1"/>
          <a:srcRect l="9575" t="9316" r="11260" b="7370"/>
          <a:stretch/>
        </p:blipFill>
        <p:spPr>
          <a:xfrm>
            <a:off x="228600" y="1676520"/>
            <a:ext cx="86868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Logical RAIDs (Software RAID)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ot connected to a single controll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trip the data among the disks in the network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ilesystem is responsible for both distributing the data and maintaining the desired tolerance le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Behave like RAID5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tripe Group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isadvantages of one groups having a very large disk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small write operations (can’t use bandwidth of the disk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de’s limi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ty of a failure incre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ing of dis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og-Structured File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ea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write operations are done sequenti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duces the small-write probl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ed on the assumption that caches obtain very high rea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 the disk performa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ehaves as lo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fferences between traditional Unix FS &amp; log-structured o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write are done sequentially in the log-structured F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such thing happens on a traditional 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e the disk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fferences Between Traditional Unix FS and Log-structured On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71480" y="1461960"/>
          <a:ext cx="7647120" cy="536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461960"/>
                    <a:ext cx="764712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olving the Small-Write Problem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Basic Ide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ing the log-structured filesystem and the logical RAID so that small-writes never occ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sing the cache to avoid writing until a large block is available, logging the parity, or building a two level RAI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Log-structured Filesystem as a Solution to the Small-write Problem in a Cluster of Workstatio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843200" y="1528920"/>
          <a:ext cx="5703840" cy="52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1528920"/>
                    <a:ext cx="57038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twork-Attached Devic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 of the problems in a file serv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andwidth of this disk is limited to the bandwidth of the memory in th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perations in the server become I/O bottlenec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sol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-attached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/O devices should be connected to a host &amp; to a very high-bandwidth network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ID II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File System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a RAID-II File Server and Its Clien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428840" y="1547640"/>
          <a:ext cx="6491160" cy="523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1547640"/>
                    <a:ext cx="6491160" cy="523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/O problem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eed to design high performance file system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cooperation between proc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able to use all the resources efficiently &amp; in an a transparent 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X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etwork-Attached Devic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AID-II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compon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igh bandwidth RA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igh bandwidth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ost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Global File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rototype design for a distributed file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ib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cking mechanis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ost important performance limit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low mechanical compon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s, such as RAIDs,  are not suffici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ching mechanism was proposed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aching mechanis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ic ide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ing the file blocks used by the applications in memory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filesystem cache or buffer cach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minimize the number of times the filesystem has to access the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s the performance of read oper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s the write performance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ultilevel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creases the effectiveness of the caching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closer to the hardware the cache is, the less effective this cache i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of locality has already been profited by the higher-level cach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ssible locations of a disk cache in a cluster of work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che at server side, client side, or even in bo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disks for storing remote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che-coherence probl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ossible Locations of a Disk Cache in a Cluster of Works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320840" y="1498680"/>
          <a:ext cx="650412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498680"/>
                    <a:ext cx="650412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Cache-Coherence Problem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pproaches to sol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xing the sharing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ssion semant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action seman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mantic where files never ch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efficient algorithms that can fulfill the Unix seman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ied block is immediately seen by all applications in th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herence algorith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ache-Coherence Probl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-sharing seman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ssion semant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modifications done on a file are visible only, at the same time, to the processes running on that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ce file is closed, all the modifications become visible to all the applications that open the modified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ample – AFS (Andrew File Syste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action semant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I/O operations are done between two control instruc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 transaction &amp; end transac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modifications done between these two instructions will be invisible to the rest of the nodes until the transaction o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ce the transaction is finished, all the modifications are propagated to the rest of the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B-oriented file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as been used in parallel/distributed syst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mantic where files never chan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ce a file is created it can never be modifi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ache-Coherence Probl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herence Algorith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allowing the caching of write operations when a file is sha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ly node that has a token can modify the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writing, invalidate cop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ad of node that has a token prevent other node from accessing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ken passing problem: failure and disconnect - expiration ti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ase is need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ing unit (token &amp; leas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 blo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defined (are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WRICH scheme (intelligent) - mix with others: flush cop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 file server, last version of copy is accep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operative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sump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client node keeps in its cache the most important blocks for their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on’t need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need many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ed block is already cached in other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 based cache management (greed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ache space is not well mana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le block needed by a node may already be cached in a different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ditional Cooperative Caches (xF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design issues of the cooperation cach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s of all the client caches had to be accessible from any node in the networ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ts (the last remaining copy of block) kept in the  cache as long as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al locality was to be encoura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 should be cached in the node that will most probably need th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che is divi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p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he blocks needed by this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p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he blocks needed by other nodes but cannot be kept in their cach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ditional Cooperative Cach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 block which is not singlet (LR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ll is singlet, random forwa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node’s replacement policy is the s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ny block is forwarded twice without being accessed by any application, discar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remote hit occur, block is copied to local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rawback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che coherency (local copy of a bloc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lexity of system increa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use of replication, cache is under utiliz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verhead for locality is greater than benefits obtained by encouraging physical loc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Clusters to Increase the I/O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achieve a high performance file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to examine the characteristics a cluster of workstations has &amp; the way we should use them to build better fil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eat quantity of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s that can be used in parall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 amounts of memory to build big filesystem cach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speed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ay on remote nodes to perform many tas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memory of a remote node for cache bloc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ting closer to parallel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 machine’s skills can be appl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w Generation in Cooperative Cach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F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 id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a big global cach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gnore physical loc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replica,  only one copy of a block exis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cache coherency probl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blocks can be cached, more effecti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G-LR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rch for a block that is in the same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is block is among the 5% of LRU blocks, this block is replaced ( 5% determination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wise LRU is applied (regardless of nod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a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blocks are used more than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rease system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blocks are used first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increase system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olu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tch theses blocks before they are requested by the u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efet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ch blocks are most likely to be accessed in the near futur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 sharing all the data structures and block predi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ote to mono-processor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is previous prefetching technique applied in parallel/ distributed syste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allel Prefet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simplest ide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prefetches its data in an isolated 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-block-ahead prefetch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allelism offered by the multiple disk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lfill prefetching requests from each of the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tch large blocks using a logical RA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blem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ck of coordination in the prefet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cooper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have as the caches found in mono-processor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’t take advantage of the inherent parallelism of a cluster of work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ansparent Informed Prefet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of application on a cluster of workstations is sequent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not take advantage of the I/O parallel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good idea if the system could prefetch large portions of the file in parall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gives hint to the system (access patter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y blocks can be prefetch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performed in parall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s sequential application to take advantage of the parallelis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o hint I/O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knowledge of the way files acces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prefetch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ies the access patter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nsparent Informed Prefetch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similar approach without the hi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 a predi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ide predicted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ccess patterns are specified, other node can prefetch all block expected =&gt; no cache mi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very aggressive prefe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tch all the blo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miss predi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tor decides which blocks have to be prefetch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many miss-predicted blocks occurs, system performance decre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ood prefetching and caching schedul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hieve the bes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n-best performance ca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e prefetch blocks too e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may replace blocks that are still needed in the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e prefetch blocks too lat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pplications will need to wa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a system with several disk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blem becomes even more complic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ggress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te a prefetching whenever a disk is rea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laces the block that will be referenced furthest in the fu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should be started only if this new block does not replace another block that will be used soon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for multiple disks when the load on the disks is unbal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Scheduling Made by Aggressive Algorith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disks and a cache with three blo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tch a block for two units of ti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tch only one block per disk in parall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ream of blocks : F1, A1, B2, C1, D2, E1, F1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4524480"/>
          <a:ext cx="914400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24480"/>
                    <a:ext cx="914400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verse Aggress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blem with aggressive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hieve bad result when the load is unbalan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eplacement decisions by balancing disk work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 the reserved sequence of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 an aggressive schedu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oid the replacement in parallel of blocks on the same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tch more than one blocks from the sam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eam of blocks are reserved sequ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orm this schedule back to a schedule for the original sequ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reserved sequence to forward seque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cheduling of the Aggressive Algorithm on the Reversed Sequ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3875040"/>
          <a:ext cx="886320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75040"/>
                    <a:ext cx="88632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63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ream of blocks : F1, A1, B2, C1, D2, E1, F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ggressive scheduling for the reverse sequence (F1, E1, D2, C1, B2, A1, and F1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signing a file system for a cluster of workst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bi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 one hand, many disks scattered among the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 the other hand, want to use them from any node in the clus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hieving a high performance I/O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s are mainly built of mechanical components that slow down the most common operations (head movement, disk rotation, et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only solution left to increase the disk performance at this level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cing the data in such a way that the mechanical parts have as little effect as possible on the global disk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efetching Scheduling Obtained by the Reverse-Aggressive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3049560"/>
          <a:ext cx="914400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560"/>
                    <a:ext cx="914400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52280" y="1752480"/>
            <a:ext cx="886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ream of blocks : F1, A1, B2, C1, D2, E1, F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gressiv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evictions without considering the relative loads on the dis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wastefully prefe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erse aggressiv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edily evicts as many disks as possible loads on the dis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wastefully than aggress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higher layer in an I/O system is the interface with the us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 the application to request the data from the I/O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 the user (or compiler) to inform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re is a need to express the parallelism of the data kept in the file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 parallel environme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aditional interfaces have become inadequ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good interfa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th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perate when requesting th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ress concepts of data parallelism and cooperative oper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o real standard parallel interface has been designe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raditional interfa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mono-processor filesystems (specially Unix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is a linear sequence of bytes - so need a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ly used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n(), close(), read(), write(), see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have a shared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time open operation is performed, a new read/write pointer is cre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pointer can be inherited to only child-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read or write a set of non-contiguous reg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tomic read and write of sequential por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adequate to apply distributed/parallel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ed File Point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 several processes to work with the same file poin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ossibility to coordinate processes to access a share file in a cooperative w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inds of share file poin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shared poi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pecial share poi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shared poi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obal shared poin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ll the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 pointer with no limi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operations of any size and any or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icult to implement efficiently in a distributed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ed File Point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wo special shared poin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ll applications share pointer to access the file in round-robin or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allow each process to request any number of byte in each request, the second one all requests must be the same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te easy to impl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d shared poin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oid overlap files between data accessed by any two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each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ess different (not overlapped) portion of f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 as little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round-robin schedu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ccess Method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tri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eat number of the I/O operations done in a parallel environment use strided patter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ided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es several pieces of data that are not contiguous but separated by a certain number of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be handled easily nor efficiently using the traditional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ccess Method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ree new interfaces by the Galley filesyste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-strid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 the user to access to N blocks of M bytes placed P bytes apart from each 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a Simple-Strided Ope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1847880"/>
          <a:ext cx="9144000" cy="32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7880"/>
                    <a:ext cx="914400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ree new interfaces by the Galley file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sted strided op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d a vector of stri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t levels of str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 one strid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resents the placement of data blo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ther strid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cate in which positions does the next level strides 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-level strid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level: indicate next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level: user wanted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creasing the Visibility of the File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first problem found in a cluster of workst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visi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ile many disks are available, only the ones attached to the node where a process is running are visible to that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distributed systems have used the mount concept of Unix to increase the visi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unting Remote File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maintain the remote-mount inform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possi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intaining the mount information at clients (NF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maintain the mount information at servers (Sprite filesyst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: caching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xample of a Nested-Strided Operation with Two Levels of Strid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1603440"/>
          <a:ext cx="894384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3440"/>
                    <a:ext cx="894384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Three new interfaces by the Galley filesystem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Nested-batched operation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everal simple and nested strided operations as a single 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d as one of the parameters in the read or write 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ccess Method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PI-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/O interface for MPI message-passing libr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 the user to specify the distribution of the file among the user sp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ed with a very clear set of go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rgeted primarily for scientific appl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PI-IO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steps in data partiti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fines the size of the basic element or e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 is used to construct the patterns needed in the next two ste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ne in the open ope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y which parts of the complete file will be used to construct the opened sub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es the filetype to describe a pattern of etyp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etype defines the subfile to acc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be done in each read/write ope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defines how the accessed elements should be placed in the buff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ilt buftype from etyp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f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pattern telling the system where to place the ele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n Example of Data Partitioning in MPI-I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933560" y="1498680"/>
          <a:ext cx="558468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498680"/>
                    <a:ext cx="558468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ata Distribu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he user to deci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data was distributed among the disk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this data is to be accessed by the applic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-dimensional files (Vesta filesyst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vision of a file into cells and Basic Striping Units (BSU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low us to see the file as a two-dimensional arra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iguous portion of a f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fine at creation 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mains constant during the whole life of the f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ach of the cell is placed in a different I/O node (disk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number of cell equal the maximum paralleli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lacement is made by system with no interaction from the us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S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ts of bytes and behave as the basic data uni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d by repartition mechani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t at creation tim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mains unmodified during the whole life of the f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hematic Representation of a Two-Dimensional File in Ves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666800" y="1476360"/>
          <a:ext cx="5662800" cy="530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1476360"/>
                    <a:ext cx="566280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an Open Operation in Ves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885960" y="1522440"/>
          <a:ext cx="7183440" cy="53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522440"/>
                    <a:ext cx="718344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llective I/O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 the degree of parallelism increas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small I/O request occur (many seek operations occu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each process requests very few bytes in each op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achieve high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 computing nodes cooperate to perform I/O operations from the disk in order to improve efficienc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ild a single big operation from all the small ones requested by each cli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Extensible System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rs decide which algorithms are best suited for their appl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ching and prefetching strateg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ynchronous operations (Parag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can decide what has to be prefetched and when it has to be 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ing one of the predefined policies in 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-implemented poli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rectory Tree Build Mixing Remote and Local File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9560" y="1522440"/>
          <a:ext cx="592488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522440"/>
                    <a:ext cx="592488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396" name="MYBOOK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75160" cy="482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4:10Z</dcterms:modified>
  <cp:revision>893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