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8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9.png" ContentType="image/png"/>
  <Override PartName="/ppt/media/image26.wmf" ContentType="image/x-wmf"/>
  <Override PartName="/ppt/media/image24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13.png" ContentType="image/png"/>
  <Override PartName="/ppt/media/image10.wmf" ContentType="image/x-wmf"/>
  <Override PartName="/ppt/media/image20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15.wmf" ContentType="image/x-wmf"/>
  <Override PartName="/ppt/media/image22.jpeg" ContentType="image/jpeg"/>
  <Override PartName="/ppt/media/image11.wmf" ContentType="image/x-wmf"/>
  <Override PartName="/ppt/media/image3.png" ContentType="image/png"/>
  <Override PartName="/ppt/media/image33.png" ContentType="image/png"/>
  <Override PartName="/ppt/media/image30.png" ContentType="image/png"/>
  <Override PartName="/ppt/media/image5.png" ContentType="image/png"/>
  <Override PartName="/ppt/media/image8.jpeg" ContentType="image/jpeg"/>
  <Override PartName="/ppt/media/image34.wmf" ContentType="image/x-wmf"/>
  <Override PartName="/ppt/media/image14.png" ContentType="image/png"/>
  <Override PartName="/ppt/media/image35.wmf" ContentType="image/x-wmf"/>
  <Override PartName="/ppt/media/image6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9.jpeg" ContentType="image/jpeg"/>
  <Override PartName="/ppt/media/image1.png" ContentType="image/png"/>
  <Override PartName="/ppt/media/image16.png" ContentType="image/png"/>
  <Override PartName="/ppt/media/image17.wmf" ContentType="image/x-wmf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3"/>
          </p:nvPr>
        </p:nvSpPr>
        <p:spPr>
          <a:xfrm>
            <a:off x="3900600" y="0"/>
            <a:ext cx="29829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6696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7280" y="4707000"/>
            <a:ext cx="5048280" cy="445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4"/>
          </p:nvPr>
        </p:nvSpPr>
        <p:spPr>
          <a:xfrm>
            <a:off x="0" y="9408600"/>
            <a:ext cx="298296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5"/>
          </p:nvPr>
        </p:nvSpPr>
        <p:spPr>
          <a:xfrm>
            <a:off x="3900600" y="9408600"/>
            <a:ext cx="298296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47F06F6-A438-4AC7-88D6-61A82E6AE1D7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3900600" y="9408600"/>
            <a:ext cx="298296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79D7E2D-CACC-428D-86ED-3188DF252FEE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0" y="9408600"/>
            <a:ext cx="298296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0" y="0"/>
            <a:ext cx="29829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00600" y="0"/>
            <a:ext cx="29829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body"/>
          </p:nvPr>
        </p:nvSpPr>
        <p:spPr>
          <a:xfrm>
            <a:off x="915840" y="4704840"/>
            <a:ext cx="50515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ldImg"/>
          </p:nvPr>
        </p:nvSpPr>
        <p:spPr>
          <a:xfrm>
            <a:off x="973080" y="749160"/>
            <a:ext cx="4937040" cy="3702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 txBox="1"/>
          <p:nvPr/>
        </p:nvSpPr>
        <p:spPr>
          <a:xfrm>
            <a:off x="3900600" y="9408600"/>
            <a:ext cx="298296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5AABCA2-DE48-4A84-B29D-26359590C985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0" y="9408600"/>
            <a:ext cx="298296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0" y="0"/>
            <a:ext cx="29829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3900600" y="0"/>
            <a:ext cx="29829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17280" y="470340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ldImg"/>
          </p:nvPr>
        </p:nvSpPr>
        <p:spPr>
          <a:xfrm>
            <a:off x="966960" y="1150920"/>
            <a:ext cx="2850840" cy="2138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B4039-9E0F-4714-879E-1907A9FE16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0428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ADE8F-7EDE-4619-A0A8-43E740AD9F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2A15F-011C-4F07-89F6-CAFD0BD3B0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668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688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668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688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19E0C-2250-4FEE-BA76-3D46B3F8B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E7BE9-CECE-457F-9D0D-F7CC3E0D6A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350AA-8831-4108-9DDE-C70959D3DE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90106-AF99-4312-B3BD-28F3EA5EDC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3674F-FA6A-44D7-8802-2D704A5400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DCB9D-7EED-40B1-9527-3459D383A3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2AC60-EB04-4526-8EA3-46013900DE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47EEB-D764-4578-BA34-961D821AFA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B0F38-14DE-4ADD-AE61-EA3AF8E3C4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9088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DF9B4-91E7-4AFC-A8A9-DDB0660101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227C7-9E0D-4F14-BC46-76EC9A086F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00428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14EF6-922B-44D4-AF35-FE48166CA7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9088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9463A-5064-4468-A110-6BEFD67D07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668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688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668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688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87721-66EB-409C-B367-BFC33F0C47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F888E-1481-4B5A-9D07-0417CE146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0B274-9C5E-483E-B0B2-20E789FAB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445CF-331B-49D8-87F3-33E649CF1E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B772B-B5C6-4268-A920-B1E6ECE55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30E52-C528-451C-9D5C-A1D8F4CD4A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73BDC-DAE4-4D9D-A0FB-C4B976A4C4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74399-79CF-4771-A9FA-4C45A0CAA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7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spcBef>
                <a:spcPts val="7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spcBef>
                <a:spcPts val="7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3E6C-0ACC-47DD-A21F-CC59D6CB4A8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16440" y="6483240"/>
            <a:ext cx="1093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CC85-F814-4A81-9368-7BE92FAFDBDC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0520" y="2013120"/>
            <a:ext cx="711360" cy="474480"/>
            <a:chOff x="290520" y="2013120"/>
            <a:chExt cx="711360" cy="474480"/>
          </a:xfrm>
        </p:grpSpPr>
        <p:sp>
          <p:nvSpPr>
            <p:cNvPr id="42" name=""/>
            <p:cNvSpPr/>
            <p:nvPr/>
          </p:nvSpPr>
          <p:spPr>
            <a:xfrm>
              <a:off x="290520" y="2013120"/>
              <a:ext cx="43740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3560" y="201312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14360" y="2435400"/>
            <a:ext cx="737640" cy="474480"/>
            <a:chOff x="414360" y="2435400"/>
            <a:chExt cx="737640" cy="474480"/>
          </a:xfrm>
        </p:grpSpPr>
        <p:sp>
          <p:nvSpPr>
            <p:cNvPr id="45" name=""/>
            <p:cNvSpPr/>
            <p:nvPr/>
          </p:nvSpPr>
          <p:spPr>
            <a:xfrm>
              <a:off x="414360" y="2435400"/>
              <a:ext cx="42156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3000" y="2435400"/>
              <a:ext cx="36900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23623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FC7F-9E33-4564-A333-B3DC6A00B2D3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720" y="2224080"/>
            <a:ext cx="31680" cy="1052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400" y="2681280"/>
            <a:ext cx="8226720" cy="316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7.wmf"/><Relationship Id="rId8" Type="http://schemas.openxmlformats.org/officeDocument/2006/relationships/image" Target="../media/image18.jpe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image" Target="../media/image30.png"/><Relationship Id="rId14" Type="http://schemas.openxmlformats.org/officeDocument/2006/relationships/image" Target="../media/image31.wmf"/><Relationship Id="rId15" Type="http://schemas.openxmlformats.org/officeDocument/2006/relationships/image" Target="../media/image32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image" Target="../media/image34.wmf"/><Relationship Id="rId19" Type="http://schemas.openxmlformats.org/officeDocument/2006/relationships/image" Target="../media/image35.wmf"/><Relationship Id="rId20" Type="http://schemas.openxmlformats.org/officeDocument/2006/relationships/slideLayout" Target="../slideLayouts/slideLayout3.xml"/><Relationship Id="rId21" Type="http://schemas.openxmlformats.org/officeDocument/2006/relationships/notesSlide" Target="../notesSlides/notesSlide8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136224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High Performance Cluster Computing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Architectures and Systems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01360" y="3428640"/>
            <a:ext cx="6604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ook Editor: Rajkumar Buyy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lides Prepared by: Hai J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573360" y="5757840"/>
          <a:ext cx="509760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3360" y="5757840"/>
                    <a:ext cx="50976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iccc" descr=""/>
          <p:cNvPicPr/>
          <p:nvPr/>
        </p:nvPicPr>
        <p:blipFill>
          <a:blip r:embed="rId3"/>
          <a:stretch/>
        </p:blipFill>
        <p:spPr>
          <a:xfrm>
            <a:off x="76320" y="49320"/>
            <a:ext cx="1523880" cy="1474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470760" y="529416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Internet and Cluster Computing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vol1pic_large" descr=""/>
          <p:cNvPicPr/>
          <p:nvPr/>
        </p:nvPicPr>
        <p:blipFill>
          <a:blip r:embed="rId4"/>
          <a:stretch/>
        </p:blipFill>
        <p:spPr>
          <a:xfrm>
            <a:off x="457200" y="3200400"/>
            <a:ext cx="1096920" cy="1447920"/>
          </a:xfrm>
          <a:prstGeom prst="rect">
            <a:avLst/>
          </a:prstGeom>
          <a:ln w="0">
            <a:noFill/>
          </a:ln>
        </p:spPr>
      </p:pic>
      <p:pic>
        <p:nvPicPr>
          <p:cNvPr id="103" name="monash_logo" descr=""/>
          <p:cNvPicPr/>
          <p:nvPr/>
        </p:nvPicPr>
        <p:blipFill>
          <a:blip r:embed="rId5"/>
          <a:stretch/>
        </p:blipFill>
        <p:spPr>
          <a:xfrm>
            <a:off x="1600200" y="5797440"/>
            <a:ext cx="1725480" cy="468360"/>
          </a:xfrm>
          <a:prstGeom prst="rect">
            <a:avLst/>
          </a:prstGeom>
          <a:ln w="0">
            <a:noFill/>
          </a:ln>
        </p:spPr>
      </p:pic>
      <p:pic>
        <p:nvPicPr>
          <p:cNvPr id="104" name="ph_logo" descr=""/>
          <p:cNvPicPr/>
          <p:nvPr/>
        </p:nvPicPr>
        <p:blipFill>
          <a:blip r:embed="rId6"/>
          <a:stretch/>
        </p:blipFill>
        <p:spPr>
          <a:xfrm>
            <a:off x="264960" y="5627520"/>
            <a:ext cx="1143000" cy="6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Key Characteristics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calable Parallel Computer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25" name="compchar" descr=""/>
          <p:cNvPicPr/>
          <p:nvPr/>
        </p:nvPicPr>
        <p:blipFill>
          <a:blip r:embed="rId1"/>
          <a:srcRect l="3663" t="8060" r="2563" b="15382"/>
          <a:stretch/>
        </p:blipFill>
        <p:spPr>
          <a:xfrm>
            <a:off x="304920" y="1523880"/>
            <a:ext cx="8458200" cy="502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owards Low Cost Parallel Computing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llel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ing together 2 or more computers to jointly solve some computational prob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ce the early 1990s, an increasing trend to move away from expensive and specialized proprietary parallel supercomputers towards networks of workst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rapid improvement in the availability of commodity high performance components for workstations and networ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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w-cost commodity supercomput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om specialized traditional supercomputing platforms to cheaper, general purpose systems consisting of loosely coupled components built up from single or multiprocessor PCs or workst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ed to standardization of many of the tools and utilities used by parallel applicatio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ex) MPI, HP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otivations of using NOW over Specialized Parallel Computer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Individual workstations are becoming increasing powerful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5880" indent="-3358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ommunication bandwidth between workstations is increasing and latency is decreasing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5880" indent="-3358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Workstation clusters are easier to integrate into existing network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5880" indent="-3358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ypical low user utilization of personal workstation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5880" indent="-3358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evelopment tools for workstations are more matur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5880" indent="-3358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Workstation clusters are a cheap and readily availabl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5880" indent="-3358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lusters can be easily grow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6760" y="3049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rend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Workstations with UNIX for science &amp; industry vs PC-based machines for administrative work &amp; work process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 rapid convergence in processor performance and kernel-level functionality of UNIX workstations and PC-based machine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342000"/>
            <a:ext cx="8791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indows of Opportuniti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Parallel Processing 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multiple processors to build MPP/DSM-like systems for parallel compu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Network RAM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memory associated with each workstation as aggregate DRAM cach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Software RAID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dundant array of inexpensive dis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the arrays of workstation disks to provide cheap, highly available, &amp; scalable file stor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ssible to provide parallel I/O support to appl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arrays of workstation disks to provide cheap, highly available, and scalable file stor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Multipath Communication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multiple networks for parallel data transfer between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Computer and its Archite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 cluster is a type of parallel or distributed processing system, which consists of a collection of interconnected stand-alone  computers cooperatively working together as a single, integrated computing resource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 node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single or multiprocessor system with memory, I/O facilities, &amp; O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erally 2 or more computers (nodes) connected togeth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a single cabinet, or physically separated &amp; connected via a L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ear as a single system to users and application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a cost-effective way to gain features and benef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Computer Archite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37" name="clustmodel" descr=""/>
          <p:cNvPicPr/>
          <p:nvPr/>
        </p:nvPicPr>
        <p:blipFill>
          <a:blip r:embed="rId1"/>
          <a:srcRect l="862" t="3598" r="0" b="6728"/>
          <a:stretch/>
        </p:blipFill>
        <p:spPr>
          <a:xfrm>
            <a:off x="228600" y="1828800"/>
            <a:ext cx="87631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minent Components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Computer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Comic Sans MS"/>
              </a:rPr>
              <a:t>Multiple High Performance Computers</a:t>
            </a:r>
            <a:endParaRPr b="0" lang="en-US" sz="4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st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MPs (CLUMP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tributed HPC Systems leading to Metacompu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minent Components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Computer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63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State of the art Operating System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u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eowulf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crosoft 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llinois HPV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N Solari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erkeley NOW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BM AI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BM SP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P U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llinois - PAND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ch (Microkernel based OS) (CMU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uster Operating Systems (Solaris MC, SCO Unixware, MOSIX (academic projec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S gluing laye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erkeley Glunix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minent Components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Computer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High Performance Networks/Switche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Ethernet (10Mbps),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Fast Ethernet (100Mbps),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Gigabit Ethernet (1Gbps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CI  (Dolphin - MPI- 12micro-sec latency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TM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Myrinet (1.2Gbps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igital Memory Channel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FDDI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7915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Computing at a Glance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hapter 1: by M. Baker and R. Buyya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79725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calable Parallel Computer Architectur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wards Low Cost Parallel Computing and Motiva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indows of Opportunit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Cluster Computer and its Architectur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lusters Classifica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mmodity Components for Cluster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twork Service/Communications SW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luster Middleware and Single System Imag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source Management and Scheduling (RM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gramming Environments and Tool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luster Applica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presentative Cluster Syste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luster of SMPs (CLUMP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ummary and Conclus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348960" y="3352680"/>
            <a:ext cx="2785320" cy="3431160"/>
            <a:chOff x="6348960" y="3352680"/>
            <a:chExt cx="2785320" cy="3431160"/>
          </a:xfrm>
        </p:grpSpPr>
        <p:pic>
          <p:nvPicPr>
            <p:cNvPr id="108" name="vol1pic_large" descr=""/>
            <p:cNvPicPr/>
            <p:nvPr/>
          </p:nvPicPr>
          <p:blipFill>
            <a:blip r:embed="rId1"/>
            <a:stretch/>
          </p:blipFill>
          <p:spPr>
            <a:xfrm>
              <a:off x="6567480" y="3352680"/>
              <a:ext cx="2367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348960" y="6476760"/>
              <a:ext cx="278532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ahoma"/>
                </a:rPr>
                <a:t>http://www.buyya.com/cluster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minent Components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Computer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5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75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ff"/>
                </a:solidFill>
                <a:latin typeface="Comic Sans MS"/>
              </a:rPr>
              <a:t>Network Interface Card</a:t>
            </a:r>
            <a:endParaRPr b="0" lang="en-US" sz="39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Myrinet has NIC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User-level access support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7915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minent Components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Computer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Fast Communication Protocols and Service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ctive Messages (Berkeley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Fast Messages (Illinois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U-net (Cornell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XTP (Virginia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minent Components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Computers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61084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luster Middlewar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gle System Image (SSI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 Availability (SA) Infrastru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Hardware 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C Memory Channel, DSM (Alewife, DASH), SMP Techniq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Operating System Kernel/Gluing Layer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aris MC, Unixware, GLUni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pplications and Subsystem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ications (system management and electronic form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time systems (software DSM, PFS etc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ource management and scheduling software (RM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DINE, LSF, PBS, NQS, etc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minent Components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Computers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arallel Programming Environments and Tool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eads (PCs, SMPs, NOW..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OSIX Thread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Java Thread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P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ux, NT, on many Supercomput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V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ftware DSMs (Shme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il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/C++/Jav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rallel programming with C++ (MIT Press book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D (rapid application development tool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UI based tools for PP model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ance Analysis Too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sualization Too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minent Components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Computers (V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Application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equential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arallel / Distributed (Cluster-aware app.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nd Challenging applic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ather Forecas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antum Chemist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lecular Biology Model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gineering Analysis (CAD/CA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………………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DBs, web servers,data-mi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Key Operational Benefits of Clustering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High Performance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Expandability and Scalability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High Throughput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High Availability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s Classification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75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ff"/>
                </a:solidFill>
                <a:latin typeface="Comic Sans MS"/>
              </a:rPr>
              <a:t>Application Target</a:t>
            </a:r>
            <a:endParaRPr b="0" lang="en-US" sz="39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High Performance (HP) Clusters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nd Challenging Applic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High Availability (HA) Clusters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ssion Critical applic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s Classification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75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ff"/>
                </a:solidFill>
                <a:latin typeface="Comic Sans MS"/>
              </a:rPr>
              <a:t>Node Ownership</a:t>
            </a:r>
            <a:endParaRPr b="0" lang="en-US" sz="39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Dedicated Clusters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Non-dedicated clusters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aptive parallel compu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unal multiprocess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s Classification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75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ff"/>
                </a:solidFill>
                <a:latin typeface="Comic Sans MS"/>
              </a:rPr>
              <a:t>Node Hardware</a:t>
            </a:r>
            <a:endParaRPr b="0" lang="en-US" sz="39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Clusters of PCs (CoPs)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les of PCs (PoP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Clusters of Workstations (COWs)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Clusters of SMPs (CLUMPs)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s Classification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9675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Node Operating System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Linux Clusters (e.g., Beowulf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olaris Clusters  (e.g., Berkeley NOW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NT Clusters (e.g., HPVM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IX Clusters (e.g., IBM SP2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CO/Compaq Clusters (Unixware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igital VMS Cluster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P-UX cluster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Microsoft Wolfpack cluster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Need more computing power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mprove the operating speed of processors &amp; other componen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rained by the speed of light, thermodynamic laws,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&amp; the high financial costs for processor fabric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nnect multiple processors together &amp; coordinate their computational effor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llel comp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w the sharing of a computational task among multiple process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s Classification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75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ff"/>
                </a:solidFill>
                <a:latin typeface="Comic Sans MS"/>
              </a:rPr>
              <a:t>Node Configuration</a:t>
            </a:r>
            <a:endParaRPr b="0" lang="en-US" sz="39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Homogeneous Clusters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nodes will have similar architectures and run the same 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Heterogeneous Clusters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nodes will have different architectures and run different 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s Classification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evels of Clustering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 Clusters (#nodes: 2-99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des are connected by SAN like Myri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partmental Clusters (#nodes: 10s to 100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ganizational Clusters (#nodes: many 100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tional Metacomputers (WAN/Internet-based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tional Metacomputers (Internet-based, #nodes: 1000s to many million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acompu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b-based Compu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ent Based Compu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Java plays a major in web and agent based comput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dity Components for Cluster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Processor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l x86 Processo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entium Pro and Pentium Xe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MD x86, Cyrix x86, etc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gital Alph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pha 21364 processor integrates processing, memory controller, network interface into a single chip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BM PowerP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n SPAR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GI MI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P 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rkeley Intelligent RAM (IRAM) integrates processor and DRAM onto a single ch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dity Components for Cluster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mory and Cache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ndard Industry Memory Module (SIM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tended Data Out (ED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next access to begin while the previous data is still being re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st p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multiple adjacent accesses to be made more efficient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cess to DRAM is extremely slow compared to the speed of the process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very fast memory used for Cache is expensive &amp; cache control circuitry becomes more complex as the size of the cache grow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thin Pentium-based machines, uncommon to have a 64-bit wide memory bus as well as a chip set that support 2Mbytes of external cac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dity Components for Cluster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isk and I/O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all improvement in disk access time has been less than 10% per ye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dahl’s la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peed-up obtained by from faster processors is limited by the slowest system componen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allel I/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arry out I/O operations in parallel, supported by parallel file system based on hardware or software RAI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dity Components for Cluster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ystem Bu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A bus (AT bu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ocked at 5MHz and 8 bits wid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ocked at 13MHz and 16 bits wid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SA b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32 bits bus matched system’s clock spee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CI b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133Mbytes/s transfer ra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dopted both in Pentium-based PC and non-Intel platform (e.g., Digital Alpha Server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dity Components for Cluster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Cluster Interconnect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unicate over high-speed networks using a standard networking protocol such as TCP/IP or a low-level protocol such as 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ndard Eth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 Mb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ap, easy way to provide file and printer shar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ndwidth &amp; latency are not balanced with the computational pow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thernet, Fast Ethernet, and Gigabit Eth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st Ethernet – 100 Mb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gabit Etherne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eserve Ethernet’s simplici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liver a very high bandwidth to aggregate multiple Fast Ethernet segme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dity Components for Clusters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Cluster Interconnects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synchronous Transfer Mode (ATM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ed virtual-circuit technolog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ll (small fixed-size data packet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 optical fiber - expensive upgra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lephone style cables (CAT-3) &amp; better quality cable (CAT-5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alable Coherent Interfaces (SCI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EEE 1596-1992 standard aimed at providing a low-latency distributed shared memory across a clust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oint-to-point architecture with directory-based cache coheren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duce the delay interprocessor communication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liminate the need for runtime layers of software protocol-paradigm translati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ess than 12 usec zero message-length latency on Sun SPAR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signed to support distributed multiprocessing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with high bandwidth and low latenc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 cards for SPARC’s SBus and PCI-based SCI cards from Dolph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alability constrained by the current generation of switches &amp; relatively expensive compone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dity Components for Clusters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Cluster Interconnect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yri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28 Gbps full duplex interconnection networ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low latency cut-through routing switches, which is able to offer fault tolerance by automatic mapping of the network configur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ort both Linux &amp; 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y low latency (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, one-way point-to-point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y high through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grammable on-board processor for greater flexibili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pensive: $1500 per hos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plicated scaling: switches with more than 16 ports are unavailab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dity Components for Clusters (V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perating System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2 fundamental services for user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ke the computer hardware easier to u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a virtual machine that differs markedly from the real mach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e hardware resources among user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ssor - multitask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new concept in OS servic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port multiple threads of control in a process itsel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allelism within a 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ltithreading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OSIX thread interface is a standard programming environ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ren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dularity – MS Windows, IBM OS/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crokernel – provide only essential OS ser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level abstraction of OS portabi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ow to Run Applications Faster ?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re are 3 ways to improve performance: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685800" indent="-2286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ork Hard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ork Smart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et Help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omputer Analogy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685800" indent="-22860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Using faster hardware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Optimized algorithms and techniques used to solve computational tasks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Multiple computers to solve a particular task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dity Components for Clusters (IX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perating System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u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X-like O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s on cheap x86 platform, yet offers the power and flexibility of UNI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dily available on the Internet and can be downloaded without co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sy to fix bugs and improve system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s can develop or fine-tune hardware drivers which can easily be made available to other us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eatures such as preemptive multitasking, demand-page virtual memory, multiuser, multiprocessor suppo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dity Components for Clusters (X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Operating Systems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olar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X-based multithreading and multiuser 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pport Intel x86 &amp; SPARC-based platfor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al-time scheduling feature critical for multimedia applica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pport two kinds of thread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ight Weight Processes (LWP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er level threa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pport both BSD and several non-BSD file 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F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utoCli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mpFS: uses main memory to contain a file syste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Pro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file syste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Volum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file syste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pport distributed computing &amp; is able to store &amp; retrieve distributed information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penWindows allows application to be run on remote syste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dity Components for Clusters (X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perating System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crosoft Windows NT (New Technolog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Preemptive, multitasking, multiuser, 32-bits OS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Object-based security model and special file system (NTFS) that allows permissions to be set on a file and directory basis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Support multiple CPUs and provide multitasking using symmetrical multiprocessing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Support different CPUs and multiprocessor machines with threads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Have the network protocols &amp; services integrated with the base OS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25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several built-in networking protocols (IPX/SPX., TCP/IP, NetBEUI), &amp; APIs (NetBIOS, DCE RPC, Window Sockets (Winsock))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indows NT 4.0 Archite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91" name="compera" descr=""/>
          <p:cNvPicPr/>
          <p:nvPr/>
        </p:nvPicPr>
        <p:blipFill>
          <a:blip r:embed="rId1"/>
          <a:srcRect l="4169" t="2595" r="4169" b="2595"/>
          <a:stretch/>
        </p:blipFill>
        <p:spPr>
          <a:xfrm>
            <a:off x="1219320" y="1523880"/>
            <a:ext cx="7238880" cy="526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Network Services/ Communication SW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Communication infrastructure support protocol for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lk-data transp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eaming da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communic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Communication service provide cluster with important QoS parameter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ult-tolera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itter contro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Network service are designed as hierarchical stack of protocols with relatively low-level communication API, provide means to implement wide range of communication methodologie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S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eam-based and message passing interface (e.g., MPI, PV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Middleware &amp; SSI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SI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upported by a middleware layer that resides between the OS and user-level environmen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iddleware consists of essentially 2 sublayers of SW infrastructur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SI infrastruc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ue together OSs on all nodes to offer unified acces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system resourc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 availability infrastruc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able cluster services such as checkpointing, automatic failover, recovery from failure, &amp; fault-tolerant support among all nodes of the clu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34272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hat is Single System Image (SSI) ?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76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Comic Sans MS"/>
              </a:rPr>
              <a:t>A single system image is the </a:t>
            </a:r>
            <a:r>
              <a:rPr b="0" lang="en-US" sz="3500" spc="-1" strike="noStrike" u="sng">
                <a:solidFill>
                  <a:srgbClr val="0000ff"/>
                </a:solidFill>
                <a:uFillTx/>
                <a:latin typeface="Comic Sans MS"/>
              </a:rPr>
              <a:t>illusion</a:t>
            </a:r>
            <a:r>
              <a:rPr b="0" lang="en-US" sz="3500" spc="-1" strike="noStrike">
                <a:solidFill>
                  <a:srgbClr val="0000ff"/>
                </a:solidFill>
                <a:latin typeface="Comic Sans MS"/>
              </a:rPr>
              <a:t>, created by software or hardware, that presents a collection of resources as one, more powerful resource.</a:t>
            </a:r>
            <a:endParaRPr b="0" lang="en-US" sz="3500" spc="-1" strike="noStrike">
              <a:solidFill>
                <a:srgbClr val="0000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876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Comic Sans MS"/>
              </a:rPr>
              <a:t>SSI makes the cluster appear like a single machine to the user, to applications, and to the network.</a:t>
            </a:r>
            <a:endParaRPr b="0" lang="en-US" sz="3500" spc="-1" strike="noStrike">
              <a:solidFill>
                <a:srgbClr val="0000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876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Comic Sans MS"/>
              </a:rPr>
              <a:t>A cluster without a SSI is not a cluster</a:t>
            </a:r>
            <a:endParaRPr b="0" lang="en-US" sz="35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34272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ingle System Image Boundari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75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900" spc="-1" strike="noStrike">
                <a:solidFill>
                  <a:srgbClr val="0000ff"/>
                </a:solidFill>
                <a:latin typeface="Comic Sans MS"/>
              </a:rPr>
              <a:t>Every SSI has a boundary</a:t>
            </a:r>
            <a:endParaRPr b="0" lang="en-US" sz="39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75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900" spc="-1" strike="noStrike">
                <a:solidFill>
                  <a:srgbClr val="0000ff"/>
                </a:solidFill>
                <a:latin typeface="Comic Sans MS"/>
              </a:rPr>
              <a:t>SSI support can exist at different levels within a system, one able to be build on another</a:t>
            </a:r>
            <a:endParaRPr b="0" lang="en-US" sz="39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762120" y="1523880"/>
            <a:ext cx="7302240" cy="471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1920" y="3780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SI Boundaries -- an applications SSI boundary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6934320" cy="45259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174840" y="1650960"/>
            <a:ext cx="3937320" cy="436896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211640" y="2362320"/>
            <a:ext cx="1994040" cy="29718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177440" y="5229360"/>
            <a:ext cx="1690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Arial"/>
              </a:rPr>
              <a:t>Batch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454040" y="5645160"/>
            <a:ext cx="1435320" cy="901800"/>
            <a:chOff x="1454040" y="5645160"/>
            <a:chExt cx="1435320" cy="901800"/>
          </a:xfrm>
        </p:grpSpPr>
        <p:sp>
          <p:nvSpPr>
            <p:cNvPr id="207" name=""/>
            <p:cNvSpPr/>
            <p:nvPr/>
          </p:nvSpPr>
          <p:spPr>
            <a:xfrm>
              <a:off x="1454040" y="5645160"/>
              <a:ext cx="1435320" cy="901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09480" y="5762520"/>
              <a:ext cx="12481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e4a8"/>
                  </a:solidFill>
                  <a:latin typeface="Arial"/>
                </a:rPr>
                <a:t>      </a:t>
              </a:r>
              <a:r>
                <a:rPr b="1" lang="en-US" sz="1800" spc="-1" strike="noStrike">
                  <a:solidFill>
                    <a:srgbClr val="00e4a8"/>
                  </a:solidFill>
                  <a:latin typeface="Arial"/>
                </a:rPr>
                <a:t>SS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e4a8"/>
                  </a:solidFill>
                  <a:latin typeface="Arial"/>
                </a:rPr>
                <a:t>Bounda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 flipV="1">
            <a:off x="2616120" y="5308200"/>
            <a:ext cx="1015920" cy="66060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755480" y="6189840"/>
            <a:ext cx="1144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) In 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clu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34272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SI Levels/Layer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066680" y="2133720"/>
            <a:ext cx="6921720" cy="4114440"/>
            <a:chOff x="1066680" y="2133720"/>
            <a:chExt cx="6921720" cy="4114440"/>
          </a:xfrm>
        </p:grpSpPr>
        <p:grpSp>
          <p:nvGrpSpPr>
            <p:cNvPr id="213" name=""/>
            <p:cNvGrpSpPr/>
            <p:nvPr/>
          </p:nvGrpSpPr>
          <p:grpSpPr>
            <a:xfrm>
              <a:off x="1066680" y="2133720"/>
              <a:ext cx="6921720" cy="1118520"/>
              <a:chOff x="1066680" y="2133720"/>
              <a:chExt cx="6921720" cy="1118520"/>
            </a:xfrm>
          </p:grpSpPr>
          <p:sp>
            <p:nvSpPr>
              <p:cNvPr id="214" name=""/>
              <p:cNvSpPr/>
              <p:nvPr/>
            </p:nvSpPr>
            <p:spPr>
              <a:xfrm>
                <a:off x="1066680" y="2133720"/>
                <a:ext cx="6921720" cy="1118520"/>
              </a:xfrm>
              <a:prstGeom prst="ellipse">
                <a:avLst/>
              </a:prstGeom>
              <a:solidFill>
                <a:srgbClr val="023cc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558520" y="2406600"/>
                <a:ext cx="43099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Application and Subsystem Leve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1066680" y="3579480"/>
              <a:ext cx="6921720" cy="1118520"/>
              <a:chOff x="1066680" y="3579480"/>
              <a:chExt cx="6921720" cy="1118520"/>
            </a:xfrm>
          </p:grpSpPr>
          <p:sp>
            <p:nvSpPr>
              <p:cNvPr id="217" name=""/>
              <p:cNvSpPr/>
              <p:nvPr/>
            </p:nvSpPr>
            <p:spPr>
              <a:xfrm>
                <a:off x="1066680" y="3579480"/>
                <a:ext cx="6921720" cy="1118520"/>
              </a:xfrm>
              <a:prstGeom prst="ellipse">
                <a:avLst/>
              </a:prstGeom>
              <a:solidFill>
                <a:srgbClr val="023cc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482560" y="3852360"/>
                <a:ext cx="40554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Operating System Kernel Leve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1066680" y="5129280"/>
              <a:ext cx="6921720" cy="1118880"/>
            </a:xfrm>
            <a:prstGeom prst="ellipse">
              <a:avLst/>
            </a:prstGeom>
            <a:solidFill>
              <a:srgbClr val="023c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00200" y="5402520"/>
              <a:ext cx="2154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Hardware 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ra of Computing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apid technical advanc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ecent advances in VLSI technolog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ftware technolog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S, PL, development methodologies, &amp; too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nd challenge applications have become the main driving for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arallel comput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of the best ways to overcome the speed bottleneck of a single process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 price/performance ratio of a small cluster-based parallel comp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1920" y="342720"/>
            <a:ext cx="8791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SI at Harware Layer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463680" y="1530360"/>
            <a:ext cx="8216640" cy="486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3680" y="2286000"/>
            <a:ext cx="821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7000" y="1701720"/>
            <a:ext cx="774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05120" y="1530360"/>
            <a:ext cx="0" cy="486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74360" y="1701720"/>
            <a:ext cx="1242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1530360"/>
            <a:ext cx="0" cy="486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05720" y="1530360"/>
            <a:ext cx="0" cy="486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3680" y="3352680"/>
            <a:ext cx="821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3680" y="4419720"/>
            <a:ext cx="821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3680" y="5410080"/>
            <a:ext cx="821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12640" y="1701720"/>
            <a:ext cx="127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u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916680" y="1701720"/>
            <a:ext cx="1455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or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5880" y="4444920"/>
            <a:ext cx="1031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41200" y="4368960"/>
            <a:ext cx="1400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, D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679440" y="4444920"/>
            <a:ext cx="20988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ter communica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on and synchro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05560" y="4444920"/>
            <a:ext cx="1661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5520" y="5511960"/>
            <a:ext cx="10958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114280" y="5435640"/>
            <a:ext cx="2368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, SMP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86640" y="543564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er ov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ster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04480" y="5435640"/>
            <a:ext cx="1868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 and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ice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301760" y="2444760"/>
            <a:ext cx="6921360" cy="825480"/>
            <a:chOff x="1301760" y="2444760"/>
            <a:chExt cx="6921360" cy="825480"/>
          </a:xfrm>
        </p:grpSpPr>
        <p:sp>
          <p:nvSpPr>
            <p:cNvPr id="243" name=""/>
            <p:cNvSpPr/>
            <p:nvPr/>
          </p:nvSpPr>
          <p:spPr>
            <a:xfrm>
              <a:off x="1301760" y="2444760"/>
              <a:ext cx="6921360" cy="825480"/>
            </a:xfrm>
            <a:prstGeom prst="ellipse">
              <a:avLst/>
            </a:prstGeom>
            <a:solidFill>
              <a:srgbClr val="023c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99360" y="2646360"/>
              <a:ext cx="4309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Application and Subsystem 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301760" y="3511440"/>
            <a:ext cx="6921360" cy="825480"/>
            <a:chOff x="1301760" y="3511440"/>
            <a:chExt cx="6921360" cy="825480"/>
          </a:xfrm>
        </p:grpSpPr>
        <p:sp>
          <p:nvSpPr>
            <p:cNvPr id="246" name=""/>
            <p:cNvSpPr/>
            <p:nvPr/>
          </p:nvSpPr>
          <p:spPr>
            <a:xfrm>
              <a:off x="1301760" y="3511440"/>
              <a:ext cx="6921360" cy="825480"/>
            </a:xfrm>
            <a:prstGeom prst="ellipse">
              <a:avLst/>
            </a:prstGeom>
            <a:solidFill>
              <a:srgbClr val="023c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23760" y="3713040"/>
              <a:ext cx="4055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Operating System Kernel 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7081920" y="6472080"/>
            <a:ext cx="1990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) In search of clu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1920" y="3780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SI at Operating System Kernel (Underware) or Gluing Layer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463680" y="1530360"/>
            <a:ext cx="8312040" cy="4908960"/>
            <a:chOff x="463680" y="1530360"/>
            <a:chExt cx="8312040" cy="4908960"/>
          </a:xfrm>
        </p:grpSpPr>
        <p:sp>
          <p:nvSpPr>
            <p:cNvPr id="251" name=""/>
            <p:cNvSpPr/>
            <p:nvPr/>
          </p:nvSpPr>
          <p:spPr>
            <a:xfrm>
              <a:off x="463680" y="1530360"/>
              <a:ext cx="8216640" cy="486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3680" y="2286000"/>
              <a:ext cx="82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7000" y="1701720"/>
              <a:ext cx="774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v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905120" y="1530360"/>
              <a:ext cx="0" cy="486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74360" y="1701720"/>
              <a:ext cx="124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xamp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8320" y="1530360"/>
              <a:ext cx="0" cy="486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705720" y="1530360"/>
              <a:ext cx="0" cy="486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3680" y="3276720"/>
              <a:ext cx="82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3680" y="4419720"/>
              <a:ext cx="82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680" y="5410080"/>
              <a:ext cx="82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2640" y="1701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ound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916680" y="1701720"/>
              <a:ext cx="1455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mpor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0840" y="2235240"/>
              <a:ext cx="116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ernel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S Lay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31120" y="2311560"/>
              <a:ext cx="26672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olaris MC, Unixwar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SIX, Sprite,Amoeb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/ GLUni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2560" y="3378240"/>
              <a:ext cx="1170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er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erfa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5880" y="4444920"/>
              <a:ext cx="1031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irtu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30400" y="3301920"/>
              <a:ext cx="220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IX (Sun) vnode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ocus (IBM) vpro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28880" y="2235240"/>
              <a:ext cx="209880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ch name spac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les, processes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ipes, devices, etc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53960" y="2311560"/>
              <a:ext cx="201168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ernel support f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lications, ad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syst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35800" y="4368960"/>
              <a:ext cx="26168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ne suppor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perating system ker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29960" y="3301920"/>
              <a:ext cx="164592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ype of ker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bjects: files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es, etc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756120" y="3378240"/>
              <a:ext cx="185940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ularizes SS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de with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er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85920" y="4444920"/>
              <a:ext cx="18806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y simplif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f kernel objec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705560" y="4444920"/>
              <a:ext cx="18014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ch 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irtual mem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8680" y="5511960"/>
              <a:ext cx="1413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icroker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08520" y="5435640"/>
              <a:ext cx="2639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ch, PARAS, Chorus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SF/1AD, Amoeb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86280" y="5435640"/>
              <a:ext cx="20894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mplicit SSI f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ll system servi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700880" y="5435640"/>
              <a:ext cx="143280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ch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tside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icroker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7081920" y="6472080"/>
            <a:ext cx="1990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) In search of clu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1920" y="3780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SI at Application and Subsystem Layer (Middleware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63680" y="1530360"/>
            <a:ext cx="8383680" cy="4908960"/>
            <a:chOff x="463680" y="1530360"/>
            <a:chExt cx="8383680" cy="4908960"/>
          </a:xfrm>
        </p:grpSpPr>
        <p:sp>
          <p:nvSpPr>
            <p:cNvPr id="282" name=""/>
            <p:cNvSpPr/>
            <p:nvPr/>
          </p:nvSpPr>
          <p:spPr>
            <a:xfrm>
              <a:off x="463680" y="1530360"/>
              <a:ext cx="8216640" cy="486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3680" y="2286000"/>
              <a:ext cx="82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47000" y="1701720"/>
              <a:ext cx="774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v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05120" y="1530360"/>
              <a:ext cx="0" cy="486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74360" y="1701720"/>
              <a:ext cx="124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xamp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48320" y="1530360"/>
              <a:ext cx="0" cy="486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05720" y="1530360"/>
              <a:ext cx="0" cy="486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3680" y="3276720"/>
              <a:ext cx="82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3680" y="4419720"/>
              <a:ext cx="82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3680" y="5410080"/>
              <a:ext cx="82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12640" y="1701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ound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16680" y="1701720"/>
              <a:ext cx="1455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mpor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16240" y="2387520"/>
              <a:ext cx="1312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37240" y="2387520"/>
              <a:ext cx="23104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luster batch system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ystem 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1480" y="3378240"/>
              <a:ext cx="1243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15520" y="4444920"/>
              <a:ext cx="1290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33640" y="3301920"/>
              <a:ext cx="205128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stributed DB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SF DME, Lotu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tes, MPI, PV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706280" y="2387520"/>
              <a:ext cx="1617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n 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64400" y="2387520"/>
              <a:ext cx="13428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a u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39400" y="4368960"/>
              <a:ext cx="17708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n NFS, OSF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FS, NetWare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nd so 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82600" y="3378240"/>
              <a:ext cx="1420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 sub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38920" y="3378240"/>
              <a:ext cx="168876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SI for a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lications o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sub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84840" y="4444920"/>
              <a:ext cx="216252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mplicitly support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ny application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nd subsyst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03040" y="4444920"/>
              <a:ext cx="19904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hared portion of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file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92920" y="5435640"/>
              <a:ext cx="84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olk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16440" y="5435640"/>
              <a:ext cx="174816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SF DCE, Su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NC+, Apoll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677640" y="5435640"/>
              <a:ext cx="196920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st level o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pport for heter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geneous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05560" y="5435640"/>
              <a:ext cx="203328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plicit toolk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acilities: user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rvice name,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7081920" y="6472080"/>
            <a:ext cx="1990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) In search of clu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1920" y="342720"/>
            <a:ext cx="8791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ingle System Image Benefi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rovide a simple, straightforward view of all system resources and activities, from any node of the cluster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Free the end user from having to know where an application will ru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Free the operator from having to know where a resource is located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Let the user work with familiar interface and commands and allows the administrators to manage the entire clusters as a single entity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Reduce the risk of operator errors, with the result that end users see improved reliability and higher availability of the syste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2280" y="372960"/>
            <a:ext cx="883944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ngle System Image Benefits (Cont’d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llowing centralize/decentralize system management and control to avoid the need of skilled administrators from system administration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Present multiple, cooperating components of an application to the administrator as a single application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Greatly simplify system management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Provide location-independent message communication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Help track the locations of all resource so that there is no longer any need for system operators to be concerned with their physical location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Provide transparent process migration and load balancing across nodes.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Improved system response time and performance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828440" y="3420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iddleware Design Goal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Complete Transparency in Resource Management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ow user to use a cluster easily without the knowledge of the underlying system architect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user is provided with the view of a globalized file system, processes, and networ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calable Performance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 easily be expanded, their performance should scale as we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extract the max performance, the SSI service must support load balancing &amp; parallelism by distributing workload evenly among no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Enhanced Availability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ddleware service must be highly available at all tim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 any time, a point of failure should be recoverable without affecting a user’s appli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ploy checkpointing &amp; fault tolerant technologi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ndle consistency of data when replica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342720"/>
            <a:ext cx="8791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SI Support Servic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ingle Entry Point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elnet cluster.myinstitute.edu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elnet node1.cluster. myinstitute.edu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ingle File Hierarchy: xFS, AFS, Solaris MC Proxy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ingle Management and Control Point: Management from single GUI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ingle Virtual Networking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ingle Memory Space - Network RAM / DS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ingle Job Management: GLUnix, Codine, LSF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ingle User Interface: Like workstation/PC windowing environment (CDE in Solaris/NT), may it can use Web technology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638680" y="1447920"/>
            <a:ext cx="1295640" cy="838080"/>
          </a:xfrm>
          <a:prstGeom prst="rect">
            <a:avLst/>
          </a:prstGeom>
          <a:ln w="0">
            <a:noFill/>
          </a:ln>
        </p:spPr>
      </p:pic>
      <p:grpSp>
        <p:nvGrpSpPr>
          <p:cNvPr id="320" name=""/>
          <p:cNvGrpSpPr/>
          <p:nvPr/>
        </p:nvGrpSpPr>
        <p:grpSpPr>
          <a:xfrm>
            <a:off x="2361960" y="2209680"/>
            <a:ext cx="533520" cy="533160"/>
            <a:chOff x="2361960" y="2209680"/>
            <a:chExt cx="533520" cy="533160"/>
          </a:xfrm>
        </p:grpSpPr>
        <p:sp>
          <p:nvSpPr>
            <p:cNvPr id="321" name=""/>
            <p:cNvSpPr/>
            <p:nvPr/>
          </p:nvSpPr>
          <p:spPr>
            <a:xfrm flipH="1">
              <a:off x="2361960" y="2209680"/>
              <a:ext cx="533160" cy="533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62320" y="2209680"/>
              <a:ext cx="533160" cy="533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1920" y="218880"/>
            <a:ext cx="87915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vailability Support  Func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ingle I/O Space (SIOS):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ny node can access any peripheral or disk devices without the knowledge of physical location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ingle Process Space (SPS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ny process on any node create process with cluster wide process wide and they communicate through signal, pipes, etc, as if they are one a single nod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heckpointing and Process Migration.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aves the process state and intermediate results in memory to disk to support rollback recovery when node fail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M for dynamic load balancing among the cluster nod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791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source Management and Scheduling (RMS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RMS is the act of distributing applications among computers to maximize their throughput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Enable the effective and efficient utilization of the resources available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oftware component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ource manag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cating and allocating computational resource, authentication, process creation and migr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ource schedul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eueing applications, resource location and assign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Reasons using RM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 an increased, and reliable, throughput of user applications on the syst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ad balanc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tilizing spare CPU cycl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ing fault tolerant syst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nage access to powerful system, et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Basic architecture of RMS: client-server system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ervices provided by R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rocess Migratio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mputational resource has become too heavily loade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ault tolerant concer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heckpointing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cavenging Idle Cycl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70% to 90% of the time most workstations are idl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Fault Toleranc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inimization of Impact on User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Load Balancing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ultiple Application Queu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wo Eras of Computing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17" name="nt" descr=""/>
          <p:cNvPicPr/>
          <p:nvPr/>
        </p:nvPicPr>
        <p:blipFill>
          <a:blip r:embed="rId1"/>
          <a:srcRect l="13202" t="3000" r="13202" b="4998"/>
          <a:stretch/>
        </p:blipFill>
        <p:spPr>
          <a:xfrm>
            <a:off x="1905120" y="1523880"/>
            <a:ext cx="518148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ome Popular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Resource Management System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28600" y="1523880"/>
          <a:ext cx="8686800" cy="2314440"/>
        </p:xfrm>
        <a:graphic>
          <a:graphicData uri="http://schemas.openxmlformats.org/drawingml/2006/table">
            <a:tbl>
              <a:tblPr/>
              <a:tblGrid>
                <a:gridCol w="1600200"/>
                <a:gridCol w="7086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ro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mmercial Systems - UR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S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.platform.com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D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.genias.de/products/codine/tech_desc.ht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Easy-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.tc.cornell.edu/UserDoc/SP/LL12/Easy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Q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.cray.com/products/software/nqe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228600" y="3886200"/>
          <a:ext cx="8686800" cy="2733840"/>
        </p:xfrm>
        <a:graphic>
          <a:graphicData uri="http://schemas.openxmlformats.org/drawingml/2006/table">
            <a:tbl>
              <a:tblPr/>
              <a:tblGrid>
                <a:gridCol w="1600200"/>
                <a:gridCol w="7086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ublic Domain System - UR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N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.cs.wisc.edu/condor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GNQ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.gnqs.org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DQ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.scri.fsu.edu/~pasko/dqs.ht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gost.isi.edu/gost-group/products/prm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pbs.mrj.com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gramming Environments and Tool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reads (PCs, SMPs, NOW..) 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multiprocessor syste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simultaneously utilize all the available process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uniprocessor syste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utilize the system resources effective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threaded applications offer quicker response to user input and run fast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otentially portable, as there exists an IEEE standard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for POSIX threads interface (pthread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xtensively used in developing both application and system softwar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gramming Environments and Tool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essage Passing Systems (MPI and PVM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efficient parallel programs to be written for distributed memory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 most popular high-level message-passing systems – PVM &amp; MP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V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th an environment &amp; a message-passing libra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P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message passing specification, designed to be standard          for distributed memory parallel computing using explicit message pass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tempt to establish a practical, portable, efficient, &amp; flexible standard for message pass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erally, application developers prefer MPI, as it is fast becoming the de facto standard for message pass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gramming Environments and Tool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Distributed Shared Memory (DSM) System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ssage-pass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most efficient, widely used, programming paradigm on distributed memory 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plex &amp; difficult to program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ared memory syst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ffer a simple and general programming mod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ut suffer from scalabili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SM on distributed memory syst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ternative cost-effective solu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oftware DS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ually built as a separate layer on top of the comm interfac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ake full advantage of the application characteristics: virtual pages, objects, &amp; language types are units of shar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readMarks, Lind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ardware DS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etter performance, no burden on user &amp; SW layers, fine granularity of sharing, extensions of the cache coherence scheme, &amp; increased HW complexit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SH, Merli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gramming Environments and Tool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arallel Debuggers and Profiler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ry limi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PDF (High Performance Debugging Forum) as Parallel Tools Consortium project in 199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veloped a HPD version specification, which defines the functionality, semantics, and syntax for a commercial-line parallel debugg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commercial product from Dolphin Interconnect Solu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only widely available GUI-based parallel debugger                      that supports multiple HPC platfor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y used in homogeneous environments, where each process       of the parallel application being debugged must be running          under the same version of the 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unctionality of Parallel Debugger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2280" y="1563840"/>
            <a:ext cx="88394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anaging multiple processes and multiple threads within a proces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isplaying each process in its own window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isplaying source code, stack trace, and stack frame for one or more process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iving into objects, subroutines, and function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etting both source-level and machine-level breakpoint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haring breakpoints between groups of process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efining watch and evaluation point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isplaying arrays and its slic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anipulating code variable and constant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formance Analysis Tool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lp a programmer to understand the performance characteristics of an appl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alyze &amp; locate parts of an application that exhibit poor performance and create program bottlenec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jor compon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means of inserting instrumentation calls to the performance monitoring routines into the user’s applic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run-time performance library that consists of a set of monitoring routin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set of tools for processing and displaying the performance da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sue with performance monitoring too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usiveness of the tracing calls and their impact on the application performa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strumentation affects the performance characteristics of the parallel application and thus provides a false view of its performance behavi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76320" y="22824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gramming Environments and Tool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erformance Analysis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nd Visualization Tool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52280" y="1523880"/>
          <a:ext cx="8839440" cy="5004000"/>
        </p:xfrm>
        <a:graphic>
          <a:graphicData uri="http://schemas.openxmlformats.org/drawingml/2006/table">
            <a:tbl>
              <a:tblPr/>
              <a:tblGrid>
                <a:gridCol w="1371600"/>
                <a:gridCol w="2895840"/>
                <a:gridCol w="4572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T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up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I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trumentation, monitoring library, analys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science.nas.nasa.gov/Software/AI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gging library and snapshot performance visualiz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.mcs.anl.gov/mpi/mpi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ab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toring library and analys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-pablo.cs.uiuc.edu/Projects/Pablo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arady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ynamic instrumentation running analys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.cs.wisc.edu/parady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vPab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grated instrumentor, monitoring library and analys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-pablo.cs.uiuc.edu/Projects/Pablo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amp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toring library performance visualiz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.pallas.de/pages/vampir.h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Dimen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formance prediction for message passing program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.pallas.com/pages/dimemas.h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ara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gram visualization and analys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.cepba.upc.es/para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gramming Environments and Tools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luster Administration Tool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erkeley NOW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ather &amp; store data in a relational D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Java applet to allow users to monitor a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MILE (Scalable Multicomputer Implementation using Low-cost Equipment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lled K-C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ist of compute nodes, a management node,  &amp; a client that can control and monitor the clu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-CAP uses a Java applet to connect to the management node through a predefined URL address in the clu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ARM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comprehensive environment for monitoring large clus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client-server techniques to provide transparent access to all nodes to be monitor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mon-server &amp; parmon-cli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1696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Need of more Computing Power: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rand Challenge Applic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7073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Times New Roman"/>
              </a:rPr>
              <a:t>Solving technology problems using computer </a:t>
            </a:r>
            <a:r>
              <a:rPr b="0" i="1" lang="en-US" sz="3500" spc="-1" strike="noStrike">
                <a:solidFill>
                  <a:srgbClr val="ff0000"/>
                </a:solidFill>
                <a:latin typeface="Times New Roman"/>
              </a:rPr>
              <a:t>modeling</a:t>
            </a:r>
            <a:r>
              <a:rPr b="0" lang="en-US" sz="35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i="1" lang="en-US" sz="3500" spc="-1" strike="noStrike">
                <a:solidFill>
                  <a:srgbClr val="ff0000"/>
                </a:solidFill>
                <a:latin typeface="Times New Roman"/>
              </a:rPr>
              <a:t>simulation</a:t>
            </a:r>
            <a:r>
              <a:rPr b="0" lang="en-US" sz="3500" spc="-1" strike="noStrike">
                <a:solidFill>
                  <a:srgbClr val="0000ff"/>
                </a:solidFill>
                <a:latin typeface="Times New Roman"/>
              </a:rPr>
              <a:t> and </a:t>
            </a:r>
            <a:r>
              <a:rPr b="0" i="1" lang="en-US" sz="3500" spc="-1" strike="noStrike">
                <a:solidFill>
                  <a:srgbClr val="ff0000"/>
                </a:solidFill>
                <a:latin typeface="Times New Roman"/>
              </a:rPr>
              <a:t>analysis</a:t>
            </a:r>
            <a:endParaRPr b="0" lang="en-US" sz="35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50" name=""/>
          <p:cNvSpPr/>
          <p:nvPr/>
        </p:nvSpPr>
        <p:spPr>
          <a:xfrm>
            <a:off x="100080" y="2751120"/>
            <a:ext cx="1566720" cy="147636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73080" y="4843440"/>
            <a:ext cx="2813040" cy="1212840"/>
            <a:chOff x="73080" y="4843440"/>
            <a:chExt cx="2813040" cy="1212840"/>
          </a:xfrm>
        </p:grpSpPr>
        <p:sp>
          <p:nvSpPr>
            <p:cNvPr id="352" name=""/>
            <p:cNvSpPr/>
            <p:nvPr/>
          </p:nvSpPr>
          <p:spPr>
            <a:xfrm>
              <a:off x="73080" y="4843440"/>
              <a:ext cx="2813040" cy="121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102240" y="4887360"/>
              <a:ext cx="2766240" cy="1011960"/>
              <a:chOff x="102240" y="4887360"/>
              <a:chExt cx="2766240" cy="1011960"/>
            </a:xfrm>
          </p:grpSpPr>
          <p:grpSp>
            <p:nvGrpSpPr>
              <p:cNvPr id="354" name=""/>
              <p:cNvGrpSpPr/>
              <p:nvPr/>
            </p:nvGrpSpPr>
            <p:grpSpPr>
              <a:xfrm>
                <a:off x="826200" y="4887360"/>
                <a:ext cx="1897920" cy="397440"/>
                <a:chOff x="826200" y="4887360"/>
                <a:chExt cx="1897920" cy="397440"/>
              </a:xfrm>
            </p:grpSpPr>
            <p:grpSp>
              <p:nvGrpSpPr>
                <p:cNvPr id="355" name=""/>
                <p:cNvGrpSpPr/>
                <p:nvPr/>
              </p:nvGrpSpPr>
              <p:grpSpPr>
                <a:xfrm>
                  <a:off x="1044000" y="4928760"/>
                  <a:ext cx="1013760" cy="350640"/>
                  <a:chOff x="1044000" y="4928760"/>
                  <a:chExt cx="1013760" cy="350640"/>
                </a:xfrm>
              </p:grpSpPr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1186920" y="4942080"/>
                    <a:ext cx="645480" cy="301320"/>
                    <a:chOff x="1186920" y="4942080"/>
                    <a:chExt cx="645480" cy="30132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1721160" y="4942080"/>
                      <a:ext cx="111240" cy="24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201">
                          <a:moveTo>
                            <a:pt x="160" y="3"/>
                          </a:moveTo>
                          <a:lnTo>
                            <a:pt x="164" y="0"/>
                          </a:lnTo>
                          <a:lnTo>
                            <a:pt x="56" y="200"/>
                          </a:lnTo>
                          <a:lnTo>
                            <a:pt x="0" y="200"/>
                          </a:lnTo>
                          <a:lnTo>
                            <a:pt x="119" y="0"/>
                          </a:lnTo>
                          <a:lnTo>
                            <a:pt x="160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  <a:effectLst>
                      <a:outerShdw dist="107932" dir="2700000" blurRad="0" rotWithShape="0">
                        <a:srgbClr val="1c1c1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1186920" y="5079240"/>
                      <a:ext cx="102240" cy="16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134">
                          <a:moveTo>
                            <a:pt x="111" y="15"/>
                          </a:moveTo>
                          <a:lnTo>
                            <a:pt x="107" y="13"/>
                          </a:lnTo>
                          <a:lnTo>
                            <a:pt x="0" y="133"/>
                          </a:lnTo>
                          <a:lnTo>
                            <a:pt x="52" y="126"/>
                          </a:lnTo>
                          <a:lnTo>
                            <a:pt x="151" y="0"/>
                          </a:lnTo>
                          <a:lnTo>
                            <a:pt x="111" y="1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  <a:effectLst>
                      <a:outerShdw dist="107932" dir="2700000" blurRad="0" rotWithShape="0">
                        <a:srgbClr val="1c1c1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9" name=""/>
                  <p:cNvSpPr/>
                  <p:nvPr/>
                </p:nvSpPr>
                <p:spPr>
                  <a:xfrm>
                    <a:off x="1044000" y="4928760"/>
                    <a:ext cx="101376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02" h="286">
                        <a:moveTo>
                          <a:pt x="1490" y="38"/>
                        </a:moveTo>
                        <a:lnTo>
                          <a:pt x="1349" y="33"/>
                        </a:lnTo>
                        <a:lnTo>
                          <a:pt x="1241" y="33"/>
                        </a:lnTo>
                        <a:lnTo>
                          <a:pt x="1096" y="26"/>
                        </a:lnTo>
                        <a:lnTo>
                          <a:pt x="962" y="26"/>
                        </a:lnTo>
                        <a:lnTo>
                          <a:pt x="811" y="26"/>
                        </a:lnTo>
                        <a:lnTo>
                          <a:pt x="676" y="29"/>
                        </a:lnTo>
                        <a:lnTo>
                          <a:pt x="613" y="37"/>
                        </a:lnTo>
                        <a:lnTo>
                          <a:pt x="558" y="48"/>
                        </a:lnTo>
                        <a:lnTo>
                          <a:pt x="497" y="67"/>
                        </a:lnTo>
                        <a:lnTo>
                          <a:pt x="439" y="87"/>
                        </a:lnTo>
                        <a:lnTo>
                          <a:pt x="227" y="183"/>
                        </a:lnTo>
                        <a:lnTo>
                          <a:pt x="114" y="227"/>
                        </a:lnTo>
                        <a:lnTo>
                          <a:pt x="49" y="263"/>
                        </a:lnTo>
                        <a:lnTo>
                          <a:pt x="108" y="262"/>
                        </a:lnTo>
                        <a:lnTo>
                          <a:pt x="1501" y="170"/>
                        </a:lnTo>
                        <a:lnTo>
                          <a:pt x="1499" y="198"/>
                        </a:lnTo>
                        <a:lnTo>
                          <a:pt x="45" y="285"/>
                        </a:lnTo>
                        <a:lnTo>
                          <a:pt x="0" y="278"/>
                        </a:lnTo>
                        <a:lnTo>
                          <a:pt x="23" y="253"/>
                        </a:lnTo>
                        <a:lnTo>
                          <a:pt x="63" y="227"/>
                        </a:lnTo>
                        <a:lnTo>
                          <a:pt x="161" y="183"/>
                        </a:lnTo>
                        <a:lnTo>
                          <a:pt x="237" y="147"/>
                        </a:lnTo>
                        <a:lnTo>
                          <a:pt x="430" y="65"/>
                        </a:lnTo>
                        <a:lnTo>
                          <a:pt x="517" y="36"/>
                        </a:lnTo>
                        <a:lnTo>
                          <a:pt x="603" y="16"/>
                        </a:lnTo>
                        <a:lnTo>
                          <a:pt x="795" y="0"/>
                        </a:lnTo>
                        <a:lnTo>
                          <a:pt x="1059" y="0"/>
                        </a:lnTo>
                        <a:lnTo>
                          <a:pt x="1490" y="20"/>
                        </a:lnTo>
                        <a:lnTo>
                          <a:pt x="1490" y="38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  <a:effectLst>
                    <a:outerShdw dist="107932" dir="2700000" blurRad="0" rotWithShape="0">
                      <a:srgbClr val="1c1c1c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0" name=""/>
                <p:cNvSpPr/>
                <p:nvPr/>
              </p:nvSpPr>
              <p:spPr>
                <a:xfrm>
                  <a:off x="826200" y="4887360"/>
                  <a:ext cx="1897920" cy="397440"/>
                </a:xfrm>
                <a:custGeom>
                  <a:avLst/>
                  <a:gdLst/>
                  <a:ahLst/>
                  <a:rect l="l" t="t" r="r" b="b"/>
                  <a:pathLst>
                    <a:path w="2812" h="324">
                      <a:moveTo>
                        <a:pt x="2811" y="216"/>
                      </a:moveTo>
                      <a:lnTo>
                        <a:pt x="2703" y="203"/>
                      </a:lnTo>
                      <a:lnTo>
                        <a:pt x="2620" y="186"/>
                      </a:lnTo>
                      <a:lnTo>
                        <a:pt x="2564" y="172"/>
                      </a:lnTo>
                      <a:lnTo>
                        <a:pt x="2518" y="161"/>
                      </a:lnTo>
                      <a:lnTo>
                        <a:pt x="2458" y="148"/>
                      </a:lnTo>
                      <a:lnTo>
                        <a:pt x="2407" y="135"/>
                      </a:lnTo>
                      <a:lnTo>
                        <a:pt x="2349" y="122"/>
                      </a:lnTo>
                      <a:lnTo>
                        <a:pt x="2297" y="113"/>
                      </a:lnTo>
                      <a:lnTo>
                        <a:pt x="2238" y="105"/>
                      </a:lnTo>
                      <a:lnTo>
                        <a:pt x="2190" y="98"/>
                      </a:lnTo>
                      <a:lnTo>
                        <a:pt x="2149" y="92"/>
                      </a:lnTo>
                      <a:lnTo>
                        <a:pt x="2088" y="83"/>
                      </a:lnTo>
                      <a:lnTo>
                        <a:pt x="2036" y="76"/>
                      </a:lnTo>
                      <a:lnTo>
                        <a:pt x="1987" y="69"/>
                      </a:lnTo>
                      <a:lnTo>
                        <a:pt x="1936" y="57"/>
                      </a:lnTo>
                      <a:lnTo>
                        <a:pt x="1894" y="39"/>
                      </a:lnTo>
                      <a:lnTo>
                        <a:pt x="1864" y="18"/>
                      </a:lnTo>
                      <a:lnTo>
                        <a:pt x="1803" y="16"/>
                      </a:lnTo>
                      <a:lnTo>
                        <a:pt x="1715" y="14"/>
                      </a:lnTo>
                      <a:lnTo>
                        <a:pt x="1615" y="7"/>
                      </a:lnTo>
                      <a:lnTo>
                        <a:pt x="1537" y="3"/>
                      </a:lnTo>
                      <a:lnTo>
                        <a:pt x="1422" y="2"/>
                      </a:lnTo>
                      <a:lnTo>
                        <a:pt x="1311" y="1"/>
                      </a:lnTo>
                      <a:lnTo>
                        <a:pt x="1205" y="0"/>
                      </a:lnTo>
                      <a:lnTo>
                        <a:pt x="1124" y="0"/>
                      </a:lnTo>
                      <a:lnTo>
                        <a:pt x="1036" y="6"/>
                      </a:lnTo>
                      <a:lnTo>
                        <a:pt x="947" y="18"/>
                      </a:lnTo>
                      <a:lnTo>
                        <a:pt x="880" y="33"/>
                      </a:lnTo>
                      <a:lnTo>
                        <a:pt x="820" y="47"/>
                      </a:lnTo>
                      <a:lnTo>
                        <a:pt x="755" y="64"/>
                      </a:lnTo>
                      <a:lnTo>
                        <a:pt x="684" y="83"/>
                      </a:lnTo>
                      <a:lnTo>
                        <a:pt x="612" y="105"/>
                      </a:lnTo>
                      <a:lnTo>
                        <a:pt x="535" y="127"/>
                      </a:lnTo>
                      <a:lnTo>
                        <a:pt x="460" y="150"/>
                      </a:lnTo>
                      <a:lnTo>
                        <a:pt x="381" y="171"/>
                      </a:lnTo>
                      <a:lnTo>
                        <a:pt x="322" y="189"/>
                      </a:lnTo>
                      <a:lnTo>
                        <a:pt x="267" y="202"/>
                      </a:lnTo>
                      <a:lnTo>
                        <a:pt x="207" y="221"/>
                      </a:lnTo>
                      <a:lnTo>
                        <a:pt x="145" y="237"/>
                      </a:lnTo>
                      <a:lnTo>
                        <a:pt x="69" y="259"/>
                      </a:lnTo>
                      <a:lnTo>
                        <a:pt x="0" y="281"/>
                      </a:lnTo>
                      <a:lnTo>
                        <a:pt x="28" y="297"/>
                      </a:lnTo>
                      <a:lnTo>
                        <a:pt x="69" y="307"/>
                      </a:lnTo>
                      <a:lnTo>
                        <a:pt x="114" y="317"/>
                      </a:lnTo>
                      <a:lnTo>
                        <a:pt x="170" y="322"/>
                      </a:lnTo>
                      <a:lnTo>
                        <a:pt x="244" y="323"/>
                      </a:lnTo>
                      <a:lnTo>
                        <a:pt x="318" y="321"/>
                      </a:lnTo>
                      <a:lnTo>
                        <a:pt x="337" y="297"/>
                      </a:lnTo>
                      <a:lnTo>
                        <a:pt x="355" y="281"/>
                      </a:lnTo>
                      <a:lnTo>
                        <a:pt x="390" y="260"/>
                      </a:lnTo>
                      <a:lnTo>
                        <a:pt x="466" y="224"/>
                      </a:lnTo>
                      <a:lnTo>
                        <a:pt x="560" y="182"/>
                      </a:lnTo>
                      <a:lnTo>
                        <a:pt x="644" y="145"/>
                      </a:lnTo>
                      <a:lnTo>
                        <a:pt x="746" y="101"/>
                      </a:lnTo>
                      <a:lnTo>
                        <a:pt x="831" y="73"/>
                      </a:lnTo>
                      <a:lnTo>
                        <a:pt x="912" y="53"/>
                      </a:lnTo>
                      <a:lnTo>
                        <a:pt x="977" y="45"/>
                      </a:lnTo>
                      <a:lnTo>
                        <a:pt x="1099" y="35"/>
                      </a:lnTo>
                      <a:lnTo>
                        <a:pt x="1258" y="34"/>
                      </a:lnTo>
                      <a:lnTo>
                        <a:pt x="1444" y="38"/>
                      </a:lnTo>
                      <a:lnTo>
                        <a:pt x="1586" y="42"/>
                      </a:lnTo>
                      <a:lnTo>
                        <a:pt x="1813" y="53"/>
                      </a:lnTo>
                      <a:lnTo>
                        <a:pt x="1826" y="245"/>
                      </a:lnTo>
                      <a:lnTo>
                        <a:pt x="2811" y="21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1c1c1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1" name=""/>
              <p:cNvSpPr/>
              <p:nvPr/>
            </p:nvSpPr>
            <p:spPr>
              <a:xfrm>
                <a:off x="104040" y="5275080"/>
                <a:ext cx="2566800" cy="624240"/>
              </a:xfrm>
              <a:custGeom>
                <a:avLst/>
                <a:gdLst/>
                <a:ahLst/>
                <a:rect l="l" t="t" r="r" b="b"/>
                <a:pathLst>
                  <a:path w="3803" h="509">
                    <a:moveTo>
                      <a:pt x="594" y="240"/>
                    </a:moveTo>
                    <a:lnTo>
                      <a:pt x="565" y="317"/>
                    </a:lnTo>
                    <a:lnTo>
                      <a:pt x="565" y="376"/>
                    </a:lnTo>
                    <a:lnTo>
                      <a:pt x="0" y="376"/>
                    </a:lnTo>
                    <a:lnTo>
                      <a:pt x="39" y="416"/>
                    </a:lnTo>
                    <a:lnTo>
                      <a:pt x="13" y="460"/>
                    </a:lnTo>
                    <a:lnTo>
                      <a:pt x="13" y="481"/>
                    </a:lnTo>
                    <a:lnTo>
                      <a:pt x="30" y="496"/>
                    </a:lnTo>
                    <a:lnTo>
                      <a:pt x="355" y="496"/>
                    </a:lnTo>
                    <a:lnTo>
                      <a:pt x="381" y="508"/>
                    </a:lnTo>
                    <a:lnTo>
                      <a:pt x="547" y="508"/>
                    </a:lnTo>
                    <a:lnTo>
                      <a:pt x="569" y="494"/>
                    </a:lnTo>
                    <a:lnTo>
                      <a:pt x="3577" y="494"/>
                    </a:lnTo>
                    <a:lnTo>
                      <a:pt x="3696" y="401"/>
                    </a:lnTo>
                    <a:lnTo>
                      <a:pt x="3790" y="432"/>
                    </a:lnTo>
                    <a:lnTo>
                      <a:pt x="3802" y="185"/>
                    </a:lnTo>
                    <a:lnTo>
                      <a:pt x="3573" y="0"/>
                    </a:lnTo>
                    <a:lnTo>
                      <a:pt x="3215" y="7"/>
                    </a:lnTo>
                    <a:lnTo>
                      <a:pt x="1351" y="416"/>
                    </a:lnTo>
                    <a:lnTo>
                      <a:pt x="1298" y="366"/>
                    </a:lnTo>
                    <a:lnTo>
                      <a:pt x="1252" y="239"/>
                    </a:lnTo>
                    <a:lnTo>
                      <a:pt x="1186" y="136"/>
                    </a:lnTo>
                    <a:lnTo>
                      <a:pt x="990" y="52"/>
                    </a:lnTo>
                    <a:lnTo>
                      <a:pt x="808" y="56"/>
                    </a:lnTo>
                    <a:lnTo>
                      <a:pt x="672" y="117"/>
                    </a:lnTo>
                    <a:lnTo>
                      <a:pt x="594" y="24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102240" y="5015880"/>
                <a:ext cx="2766240" cy="792360"/>
                <a:chOff x="102240" y="5015880"/>
                <a:chExt cx="2766240" cy="792360"/>
              </a:xfrm>
            </p:grpSpPr>
            <p:grpSp>
              <p:nvGrpSpPr>
                <p:cNvPr id="363" name=""/>
                <p:cNvGrpSpPr/>
                <p:nvPr/>
              </p:nvGrpSpPr>
              <p:grpSpPr>
                <a:xfrm>
                  <a:off x="2706840" y="5272200"/>
                  <a:ext cx="161640" cy="444960"/>
                  <a:chOff x="2706840" y="5272200"/>
                  <a:chExt cx="161640" cy="44496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>
                    <a:off x="2795760" y="5367600"/>
                    <a:ext cx="58680" cy="72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1c1c1c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2795760" y="5272200"/>
                    <a:ext cx="58680" cy="30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1c1c1c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2795760" y="5331960"/>
                    <a:ext cx="58680" cy="612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1c1c1c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2738160" y="5306760"/>
                    <a:ext cx="117720" cy="19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1c1c1c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2706840" y="5674320"/>
                    <a:ext cx="161640" cy="7200"/>
                    <a:chOff x="2706840" y="5674320"/>
                    <a:chExt cx="161640" cy="720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>
                      <a:off x="2706840" y="5674320"/>
                      <a:ext cx="154440" cy="72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1c1c1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2855160" y="5674320"/>
                      <a:ext cx="13320" cy="72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1c1c1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2706840" y="5709960"/>
                    <a:ext cx="161640" cy="7200"/>
                    <a:chOff x="2706840" y="5709960"/>
                    <a:chExt cx="161640" cy="720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2706840" y="5709960"/>
                      <a:ext cx="154440" cy="72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1c1c1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2855160" y="5709960"/>
                      <a:ext cx="13320" cy="72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1c1c1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2706840" y="5638680"/>
                    <a:ext cx="161640" cy="6120"/>
                    <a:chOff x="2706840" y="5638680"/>
                    <a:chExt cx="161640" cy="612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2706840" y="5638680"/>
                      <a:ext cx="154440" cy="61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1c1c1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2855160" y="5638680"/>
                      <a:ext cx="13320" cy="612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1c1c1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77" name=""/>
                <p:cNvSpPr/>
                <p:nvPr/>
              </p:nvSpPr>
              <p:spPr>
                <a:xfrm>
                  <a:off x="102240" y="5149440"/>
                  <a:ext cx="2753280" cy="658800"/>
                </a:xfrm>
                <a:custGeom>
                  <a:avLst/>
                  <a:gdLst/>
                  <a:ahLst/>
                  <a:rect l="l" t="t" r="r" b="b"/>
                  <a:pathLst>
                    <a:path w="4079" h="537">
                      <a:moveTo>
                        <a:pt x="3874" y="0"/>
                      </a:moveTo>
                      <a:lnTo>
                        <a:pt x="4054" y="0"/>
                      </a:lnTo>
                      <a:lnTo>
                        <a:pt x="4078" y="83"/>
                      </a:lnTo>
                      <a:lnTo>
                        <a:pt x="3998" y="83"/>
                      </a:lnTo>
                      <a:lnTo>
                        <a:pt x="3998" y="382"/>
                      </a:lnTo>
                      <a:lnTo>
                        <a:pt x="3841" y="518"/>
                      </a:lnTo>
                      <a:lnTo>
                        <a:pt x="3806" y="532"/>
                      </a:lnTo>
                      <a:lnTo>
                        <a:pt x="3776" y="536"/>
                      </a:lnTo>
                      <a:lnTo>
                        <a:pt x="3781" y="468"/>
                      </a:lnTo>
                      <a:lnTo>
                        <a:pt x="3785" y="386"/>
                      </a:lnTo>
                      <a:lnTo>
                        <a:pt x="3764" y="317"/>
                      </a:lnTo>
                      <a:lnTo>
                        <a:pt x="3735" y="266"/>
                      </a:lnTo>
                      <a:lnTo>
                        <a:pt x="3697" y="222"/>
                      </a:lnTo>
                      <a:lnTo>
                        <a:pt x="3642" y="178"/>
                      </a:lnTo>
                      <a:lnTo>
                        <a:pt x="3578" y="145"/>
                      </a:lnTo>
                      <a:lnTo>
                        <a:pt x="3488" y="124"/>
                      </a:lnTo>
                      <a:lnTo>
                        <a:pt x="3370" y="117"/>
                      </a:lnTo>
                      <a:lnTo>
                        <a:pt x="3288" y="135"/>
                      </a:lnTo>
                      <a:lnTo>
                        <a:pt x="3228" y="163"/>
                      </a:lnTo>
                      <a:lnTo>
                        <a:pt x="3178" y="196"/>
                      </a:lnTo>
                      <a:lnTo>
                        <a:pt x="3118" y="246"/>
                      </a:lnTo>
                      <a:lnTo>
                        <a:pt x="3080" y="303"/>
                      </a:lnTo>
                      <a:lnTo>
                        <a:pt x="3055" y="353"/>
                      </a:lnTo>
                      <a:lnTo>
                        <a:pt x="3047" y="401"/>
                      </a:lnTo>
                      <a:lnTo>
                        <a:pt x="3047" y="507"/>
                      </a:lnTo>
                      <a:lnTo>
                        <a:pt x="1266" y="536"/>
                      </a:lnTo>
                      <a:lnTo>
                        <a:pt x="1266" y="434"/>
                      </a:lnTo>
                      <a:lnTo>
                        <a:pt x="1241" y="364"/>
                      </a:lnTo>
                      <a:lnTo>
                        <a:pt x="1212" y="309"/>
                      </a:lnTo>
                      <a:lnTo>
                        <a:pt x="1168" y="258"/>
                      </a:lnTo>
                      <a:lnTo>
                        <a:pt x="1105" y="214"/>
                      </a:lnTo>
                      <a:lnTo>
                        <a:pt x="1041" y="185"/>
                      </a:lnTo>
                      <a:lnTo>
                        <a:pt x="978" y="168"/>
                      </a:lnTo>
                      <a:lnTo>
                        <a:pt x="867" y="168"/>
                      </a:lnTo>
                      <a:lnTo>
                        <a:pt x="808" y="178"/>
                      </a:lnTo>
                      <a:lnTo>
                        <a:pt x="748" y="201"/>
                      </a:lnTo>
                      <a:lnTo>
                        <a:pt x="694" y="240"/>
                      </a:lnTo>
                      <a:lnTo>
                        <a:pt x="642" y="291"/>
                      </a:lnTo>
                      <a:lnTo>
                        <a:pt x="608" y="353"/>
                      </a:lnTo>
                      <a:lnTo>
                        <a:pt x="587" y="419"/>
                      </a:lnTo>
                      <a:lnTo>
                        <a:pt x="587" y="488"/>
                      </a:lnTo>
                      <a:lnTo>
                        <a:pt x="0" y="487"/>
                      </a:lnTo>
                      <a:lnTo>
                        <a:pt x="0" y="464"/>
                      </a:lnTo>
                      <a:lnTo>
                        <a:pt x="19" y="464"/>
                      </a:lnTo>
                      <a:lnTo>
                        <a:pt x="19" y="431"/>
                      </a:lnTo>
                      <a:lnTo>
                        <a:pt x="1" y="430"/>
                      </a:lnTo>
                      <a:lnTo>
                        <a:pt x="1" y="330"/>
                      </a:lnTo>
                      <a:lnTo>
                        <a:pt x="17" y="309"/>
                      </a:lnTo>
                      <a:lnTo>
                        <a:pt x="153" y="251"/>
                      </a:lnTo>
                      <a:lnTo>
                        <a:pt x="303" y="201"/>
                      </a:lnTo>
                      <a:lnTo>
                        <a:pt x="484" y="153"/>
                      </a:lnTo>
                      <a:lnTo>
                        <a:pt x="680" y="112"/>
                      </a:lnTo>
                      <a:lnTo>
                        <a:pt x="860" y="80"/>
                      </a:lnTo>
                      <a:lnTo>
                        <a:pt x="1032" y="54"/>
                      </a:lnTo>
                      <a:lnTo>
                        <a:pt x="1091" y="54"/>
                      </a:lnTo>
                      <a:lnTo>
                        <a:pt x="1130" y="68"/>
                      </a:lnTo>
                      <a:lnTo>
                        <a:pt x="1313" y="91"/>
                      </a:lnTo>
                      <a:lnTo>
                        <a:pt x="1458" y="102"/>
                      </a:lnTo>
                      <a:lnTo>
                        <a:pt x="2218" y="61"/>
                      </a:lnTo>
                      <a:lnTo>
                        <a:pt x="2583" y="35"/>
                      </a:lnTo>
                      <a:lnTo>
                        <a:pt x="2927" y="13"/>
                      </a:lnTo>
                      <a:lnTo>
                        <a:pt x="3101" y="3"/>
                      </a:lnTo>
                      <a:lnTo>
                        <a:pt x="3874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1c1c1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193040" y="5204520"/>
                  <a:ext cx="555480" cy="591480"/>
                </a:xfrm>
                <a:custGeom>
                  <a:avLst/>
                  <a:gdLst/>
                  <a:ahLst/>
                  <a:rect l="l" t="t" r="r" b="b"/>
                  <a:pathLst>
                    <a:path w="823" h="482">
                      <a:moveTo>
                        <a:pt x="822" y="0"/>
                      </a:moveTo>
                      <a:lnTo>
                        <a:pt x="822" y="470"/>
                      </a:lnTo>
                      <a:lnTo>
                        <a:pt x="0" y="481"/>
                      </a:lnTo>
                      <a:lnTo>
                        <a:pt x="0" y="51"/>
                      </a:lnTo>
                      <a:lnTo>
                        <a:pt x="109" y="41"/>
                      </a:lnTo>
                      <a:lnTo>
                        <a:pt x="259" y="33"/>
                      </a:lnTo>
                      <a:lnTo>
                        <a:pt x="410" y="27"/>
                      </a:lnTo>
                      <a:lnTo>
                        <a:pt x="507" y="19"/>
                      </a:lnTo>
                      <a:lnTo>
                        <a:pt x="603" y="14"/>
                      </a:lnTo>
                      <a:lnTo>
                        <a:pt x="733" y="4"/>
                      </a:lnTo>
                      <a:lnTo>
                        <a:pt x="8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1c1c1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9" name=""/>
                <p:cNvGrpSpPr/>
                <p:nvPr/>
              </p:nvGrpSpPr>
              <p:grpSpPr>
                <a:xfrm>
                  <a:off x="1263600" y="5015880"/>
                  <a:ext cx="932040" cy="672840"/>
                  <a:chOff x="1263600" y="5015880"/>
                  <a:chExt cx="932040" cy="67284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>
                    <a:off x="2094480" y="5015880"/>
                    <a:ext cx="101160" cy="8316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  <a:effectLst>
                    <a:outerShdw dist="107932" dir="2700000" blurRad="0" rotWithShape="0">
                      <a:srgbClr val="1c1c1c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2166120" y="5047560"/>
                    <a:ext cx="10080" cy="14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1c1c1c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1263600" y="5284440"/>
                    <a:ext cx="587880" cy="404280"/>
                    <a:chOff x="1263600" y="5284440"/>
                    <a:chExt cx="587880" cy="404280"/>
                  </a:xfrm>
                </p:grpSpPr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1263600" y="5557680"/>
                      <a:ext cx="587880" cy="13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1" h="107">
                          <a:moveTo>
                            <a:pt x="870" y="59"/>
                          </a:moveTo>
                          <a:lnTo>
                            <a:pt x="870" y="106"/>
                          </a:lnTo>
                          <a:lnTo>
                            <a:pt x="0" y="0"/>
                          </a:lnTo>
                          <a:lnTo>
                            <a:pt x="870" y="5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1c1c1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>
                      <a:off x="1269360" y="5284440"/>
                      <a:ext cx="581760" cy="15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2" h="125">
                          <a:moveTo>
                            <a:pt x="861" y="0"/>
                          </a:moveTo>
                          <a:lnTo>
                            <a:pt x="861" y="48"/>
                          </a:lnTo>
                          <a:lnTo>
                            <a:pt x="0" y="124"/>
                          </a:lnTo>
                          <a:lnTo>
                            <a:pt x="861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1c1c1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1269360" y="5374800"/>
                      <a:ext cx="581760" cy="9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2" h="76">
                          <a:moveTo>
                            <a:pt x="861" y="0"/>
                          </a:moveTo>
                          <a:lnTo>
                            <a:pt x="861" y="47"/>
                          </a:lnTo>
                          <a:lnTo>
                            <a:pt x="0" y="75"/>
                          </a:lnTo>
                          <a:lnTo>
                            <a:pt x="861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1c1c1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440" bIns="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>
                      <a:off x="1263600" y="5459760"/>
                      <a:ext cx="5878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1" h="48">
                          <a:moveTo>
                            <a:pt x="870" y="0"/>
                          </a:moveTo>
                          <a:lnTo>
                            <a:pt x="870" y="47"/>
                          </a:lnTo>
                          <a:lnTo>
                            <a:pt x="0" y="28"/>
                          </a:lnTo>
                          <a:lnTo>
                            <a:pt x="870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1c1c1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1263600" y="5526000"/>
                      <a:ext cx="587880" cy="7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1" h="63">
                          <a:moveTo>
                            <a:pt x="870" y="15"/>
                          </a:moveTo>
                          <a:lnTo>
                            <a:pt x="870" y="62"/>
                          </a:lnTo>
                          <a:lnTo>
                            <a:pt x="0" y="0"/>
                          </a:lnTo>
                          <a:lnTo>
                            <a:pt x="870" y="1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1c1c1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388" name=""/>
            <p:cNvGrpSpPr/>
            <p:nvPr/>
          </p:nvGrpSpPr>
          <p:grpSpPr>
            <a:xfrm>
              <a:off x="555480" y="5320800"/>
              <a:ext cx="429480" cy="680040"/>
              <a:chOff x="555480" y="5320800"/>
              <a:chExt cx="429480" cy="680040"/>
            </a:xfrm>
          </p:grpSpPr>
          <p:sp>
            <p:nvSpPr>
              <p:cNvPr id="389" name=""/>
              <p:cNvSpPr/>
              <p:nvPr/>
            </p:nvSpPr>
            <p:spPr>
              <a:xfrm>
                <a:off x="555480" y="5320800"/>
                <a:ext cx="429480" cy="6800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26120" y="5767560"/>
                <a:ext cx="77040" cy="149760"/>
              </a:xfrm>
              <a:custGeom>
                <a:avLst/>
                <a:gdLst/>
                <a:ahLst/>
                <a:rect l="l" t="t" r="r" b="b"/>
                <a:pathLst>
                  <a:path w="114" h="122">
                    <a:moveTo>
                      <a:pt x="113" y="112"/>
                    </a:moveTo>
                    <a:lnTo>
                      <a:pt x="69" y="0"/>
                    </a:lnTo>
                    <a:lnTo>
                      <a:pt x="42" y="0"/>
                    </a:lnTo>
                    <a:lnTo>
                      <a:pt x="0" y="117"/>
                    </a:lnTo>
                    <a:lnTo>
                      <a:pt x="55" y="121"/>
                    </a:lnTo>
                    <a:lnTo>
                      <a:pt x="113" y="112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29000" y="5411520"/>
                <a:ext cx="78120" cy="148320"/>
              </a:xfrm>
              <a:custGeom>
                <a:avLst/>
                <a:gdLst/>
                <a:ahLst/>
                <a:rect l="l" t="t" r="r" b="b"/>
                <a:pathLst>
                  <a:path w="116" h="121">
                    <a:moveTo>
                      <a:pt x="115" y="9"/>
                    </a:moveTo>
                    <a:lnTo>
                      <a:pt x="69" y="120"/>
                    </a:lnTo>
                    <a:lnTo>
                      <a:pt x="43" y="120"/>
                    </a:lnTo>
                    <a:lnTo>
                      <a:pt x="0" y="5"/>
                    </a:lnTo>
                    <a:lnTo>
                      <a:pt x="56" y="0"/>
                    </a:lnTo>
                    <a:lnTo>
                      <a:pt x="115" y="9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09120" y="5600520"/>
                <a:ext cx="93600" cy="12024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10" y="0"/>
                    </a:moveTo>
                    <a:lnTo>
                      <a:pt x="138" y="39"/>
                    </a:lnTo>
                    <a:lnTo>
                      <a:pt x="138" y="62"/>
                    </a:lnTo>
                    <a:lnTo>
                      <a:pt x="6" y="97"/>
                    </a:lnTo>
                    <a:lnTo>
                      <a:pt x="0" y="5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32320" y="5600520"/>
                <a:ext cx="93600" cy="12024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128" y="0"/>
                    </a:moveTo>
                    <a:lnTo>
                      <a:pt x="0" y="39"/>
                    </a:lnTo>
                    <a:lnTo>
                      <a:pt x="0" y="62"/>
                    </a:lnTo>
                    <a:lnTo>
                      <a:pt x="133" y="97"/>
                    </a:lnTo>
                    <a:lnTo>
                      <a:pt x="138" y="51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17400" y="5411520"/>
                <a:ext cx="308880" cy="488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714600" y="5566320"/>
                <a:ext cx="112680" cy="179280"/>
                <a:chOff x="714600" y="5566320"/>
                <a:chExt cx="112680" cy="17928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714600" y="5566320"/>
                  <a:ext cx="112680" cy="17928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1c1c1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40880" y="5605560"/>
                  <a:ext cx="62640" cy="10080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1c1c1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8" name=""/>
            <p:cNvGrpSpPr/>
            <p:nvPr/>
          </p:nvGrpSpPr>
          <p:grpSpPr>
            <a:xfrm>
              <a:off x="2193120" y="5320800"/>
              <a:ext cx="429480" cy="680040"/>
              <a:chOff x="2193120" y="5320800"/>
              <a:chExt cx="429480" cy="680040"/>
            </a:xfrm>
          </p:grpSpPr>
          <p:sp>
            <p:nvSpPr>
              <p:cNvPr id="399" name=""/>
              <p:cNvSpPr/>
              <p:nvPr/>
            </p:nvSpPr>
            <p:spPr>
              <a:xfrm>
                <a:off x="2193120" y="5320800"/>
                <a:ext cx="429480" cy="6800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363400" y="5767560"/>
                <a:ext cx="76320" cy="149760"/>
              </a:xfrm>
              <a:custGeom>
                <a:avLst/>
                <a:gdLst/>
                <a:ahLst/>
                <a:rect l="l" t="t" r="r" b="b"/>
                <a:pathLst>
                  <a:path w="113" h="122">
                    <a:moveTo>
                      <a:pt x="112" y="112"/>
                    </a:moveTo>
                    <a:lnTo>
                      <a:pt x="69" y="0"/>
                    </a:lnTo>
                    <a:lnTo>
                      <a:pt x="42" y="0"/>
                    </a:lnTo>
                    <a:lnTo>
                      <a:pt x="0" y="117"/>
                    </a:lnTo>
                    <a:lnTo>
                      <a:pt x="54" y="121"/>
                    </a:lnTo>
                    <a:lnTo>
                      <a:pt x="112" y="112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365560" y="5411520"/>
                <a:ext cx="78840" cy="148320"/>
              </a:xfrm>
              <a:custGeom>
                <a:avLst/>
                <a:gdLst/>
                <a:ahLst/>
                <a:rect l="l" t="t" r="r" b="b"/>
                <a:pathLst>
                  <a:path w="117" h="121">
                    <a:moveTo>
                      <a:pt x="116" y="9"/>
                    </a:moveTo>
                    <a:lnTo>
                      <a:pt x="70" y="120"/>
                    </a:lnTo>
                    <a:lnTo>
                      <a:pt x="42" y="120"/>
                    </a:lnTo>
                    <a:lnTo>
                      <a:pt x="0" y="5"/>
                    </a:lnTo>
                    <a:lnTo>
                      <a:pt x="56" y="0"/>
                    </a:lnTo>
                    <a:lnTo>
                      <a:pt x="116" y="9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246040" y="5600520"/>
                <a:ext cx="94320" cy="12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10" y="0"/>
                    </a:moveTo>
                    <a:lnTo>
                      <a:pt x="139" y="39"/>
                    </a:lnTo>
                    <a:lnTo>
                      <a:pt x="139" y="62"/>
                    </a:lnTo>
                    <a:lnTo>
                      <a:pt x="6" y="97"/>
                    </a:lnTo>
                    <a:lnTo>
                      <a:pt x="0" y="5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469600" y="5600520"/>
                <a:ext cx="94320" cy="12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129" y="0"/>
                    </a:moveTo>
                    <a:lnTo>
                      <a:pt x="0" y="39"/>
                    </a:lnTo>
                    <a:lnTo>
                      <a:pt x="0" y="62"/>
                    </a:lnTo>
                    <a:lnTo>
                      <a:pt x="133" y="97"/>
                    </a:lnTo>
                    <a:lnTo>
                      <a:pt x="139" y="51"/>
                    </a:lnTo>
                    <a:lnTo>
                      <a:pt x="129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255040" y="5411520"/>
                <a:ext cx="308880" cy="488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5" name=""/>
              <p:cNvGrpSpPr/>
              <p:nvPr/>
            </p:nvGrpSpPr>
            <p:grpSpPr>
              <a:xfrm>
                <a:off x="2351520" y="5566320"/>
                <a:ext cx="113760" cy="179280"/>
                <a:chOff x="2351520" y="5566320"/>
                <a:chExt cx="113760" cy="17928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2351520" y="5566320"/>
                  <a:ext cx="113760" cy="17928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1c1c1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378160" y="5605560"/>
                  <a:ext cx="61920" cy="10080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1c1c1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408" name=""/>
          <p:cNvGraphicFramePr/>
          <p:nvPr/>
        </p:nvGraphicFramePr>
        <p:xfrm>
          <a:off x="93600" y="2741760"/>
          <a:ext cx="1549440" cy="13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600" y="2741760"/>
                    <a:ext cx="1549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1c1c1c"/>
                    </a:outerShdw>
                  </a:effectLst>
                </p:spPr>
              </p:pic>
            </p:oleObj>
          </a:graphicData>
        </a:graphic>
      </p:graphicFrame>
      <p:sp>
        <p:nvSpPr>
          <p:cNvPr id="410" name=""/>
          <p:cNvSpPr/>
          <p:nvPr/>
        </p:nvSpPr>
        <p:spPr>
          <a:xfrm>
            <a:off x="75240" y="4327560"/>
            <a:ext cx="19018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anchor="t">
            <a:sp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ife Scienc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3520" y="6172200"/>
            <a:ext cx="1971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anchor="t">
            <a:sp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AD/CA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16320" y="4273560"/>
            <a:ext cx="15220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anchor="t">
            <a:sp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erosp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5684760" y="2705040"/>
            <a:ext cx="3585240" cy="1906200"/>
            <a:chOff x="5684760" y="2705040"/>
            <a:chExt cx="3585240" cy="1906200"/>
          </a:xfrm>
        </p:grpSpPr>
        <p:sp>
          <p:nvSpPr>
            <p:cNvPr id="414" name=""/>
            <p:cNvSpPr/>
            <p:nvPr/>
          </p:nvSpPr>
          <p:spPr>
            <a:xfrm>
              <a:off x="5684760" y="2740680"/>
              <a:ext cx="1731960" cy="1870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880" rIns="928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5744880" y="2705040"/>
              <a:ext cx="1643040" cy="1815840"/>
              <a:chOff x="5744880" y="2705040"/>
              <a:chExt cx="1643040" cy="181584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5962320" y="2705040"/>
                <a:ext cx="1425600" cy="1815840"/>
                <a:chOff x="5962320" y="2705040"/>
                <a:chExt cx="1425600" cy="181584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5962320" y="2762280"/>
                  <a:ext cx="1425600" cy="1629720"/>
                </a:xfrm>
                <a:custGeom>
                  <a:avLst/>
                  <a:gdLst/>
                  <a:ahLst/>
                  <a:rect l="l" t="t" r="r" b="b"/>
                  <a:pathLst>
                    <a:path w="873" h="999">
                      <a:moveTo>
                        <a:pt x="492" y="0"/>
                      </a:moveTo>
                      <a:lnTo>
                        <a:pt x="546" y="19"/>
                      </a:lnTo>
                      <a:lnTo>
                        <a:pt x="598" y="44"/>
                      </a:lnTo>
                      <a:lnTo>
                        <a:pt x="646" y="73"/>
                      </a:lnTo>
                      <a:lnTo>
                        <a:pt x="691" y="106"/>
                      </a:lnTo>
                      <a:lnTo>
                        <a:pt x="731" y="145"/>
                      </a:lnTo>
                      <a:lnTo>
                        <a:pt x="767" y="186"/>
                      </a:lnTo>
                      <a:lnTo>
                        <a:pt x="798" y="231"/>
                      </a:lnTo>
                      <a:lnTo>
                        <a:pt x="825" y="278"/>
                      </a:lnTo>
                      <a:lnTo>
                        <a:pt x="845" y="328"/>
                      </a:lnTo>
                      <a:lnTo>
                        <a:pt x="860" y="380"/>
                      </a:lnTo>
                      <a:lnTo>
                        <a:pt x="869" y="432"/>
                      </a:lnTo>
                      <a:lnTo>
                        <a:pt x="872" y="486"/>
                      </a:lnTo>
                      <a:lnTo>
                        <a:pt x="869" y="540"/>
                      </a:lnTo>
                      <a:lnTo>
                        <a:pt x="860" y="593"/>
                      </a:lnTo>
                      <a:lnTo>
                        <a:pt x="845" y="645"/>
                      </a:lnTo>
                      <a:lnTo>
                        <a:pt x="825" y="694"/>
                      </a:lnTo>
                      <a:lnTo>
                        <a:pt x="798" y="742"/>
                      </a:lnTo>
                      <a:lnTo>
                        <a:pt x="767" y="787"/>
                      </a:lnTo>
                      <a:lnTo>
                        <a:pt x="731" y="828"/>
                      </a:lnTo>
                      <a:lnTo>
                        <a:pt x="691" y="867"/>
                      </a:lnTo>
                      <a:lnTo>
                        <a:pt x="646" y="901"/>
                      </a:lnTo>
                      <a:lnTo>
                        <a:pt x="598" y="929"/>
                      </a:lnTo>
                      <a:lnTo>
                        <a:pt x="546" y="954"/>
                      </a:lnTo>
                      <a:lnTo>
                        <a:pt x="492" y="973"/>
                      </a:lnTo>
                      <a:lnTo>
                        <a:pt x="437" y="987"/>
                      </a:lnTo>
                      <a:lnTo>
                        <a:pt x="380" y="995"/>
                      </a:lnTo>
                      <a:lnTo>
                        <a:pt x="323" y="998"/>
                      </a:lnTo>
                      <a:lnTo>
                        <a:pt x="265" y="995"/>
                      </a:lnTo>
                      <a:lnTo>
                        <a:pt x="208" y="987"/>
                      </a:lnTo>
                      <a:lnTo>
                        <a:pt x="153" y="973"/>
                      </a:lnTo>
                      <a:lnTo>
                        <a:pt x="100" y="954"/>
                      </a:lnTo>
                      <a:lnTo>
                        <a:pt x="49" y="929"/>
                      </a:lnTo>
                      <a:lnTo>
                        <a:pt x="0" y="901"/>
                      </a:lnTo>
                      <a:lnTo>
                        <a:pt x="31" y="860"/>
                      </a:lnTo>
                      <a:lnTo>
                        <a:pt x="76" y="886"/>
                      </a:lnTo>
                      <a:lnTo>
                        <a:pt x="122" y="908"/>
                      </a:lnTo>
                      <a:lnTo>
                        <a:pt x="170" y="925"/>
                      </a:lnTo>
                      <a:lnTo>
                        <a:pt x="220" y="938"/>
                      </a:lnTo>
                      <a:lnTo>
                        <a:pt x="270" y="945"/>
                      </a:lnTo>
                      <a:lnTo>
                        <a:pt x="323" y="948"/>
                      </a:lnTo>
                      <a:lnTo>
                        <a:pt x="374" y="945"/>
                      </a:lnTo>
                      <a:lnTo>
                        <a:pt x="426" y="938"/>
                      </a:lnTo>
                      <a:lnTo>
                        <a:pt x="476" y="925"/>
                      </a:lnTo>
                      <a:lnTo>
                        <a:pt x="525" y="908"/>
                      </a:lnTo>
                      <a:lnTo>
                        <a:pt x="571" y="886"/>
                      </a:lnTo>
                      <a:lnTo>
                        <a:pt x="614" y="860"/>
                      </a:lnTo>
                      <a:lnTo>
                        <a:pt x="654" y="830"/>
                      </a:lnTo>
                      <a:lnTo>
                        <a:pt x="691" y="796"/>
                      </a:lnTo>
                      <a:lnTo>
                        <a:pt x="723" y="758"/>
                      </a:lnTo>
                      <a:lnTo>
                        <a:pt x="752" y="716"/>
                      </a:lnTo>
                      <a:lnTo>
                        <a:pt x="776" y="674"/>
                      </a:lnTo>
                      <a:lnTo>
                        <a:pt x="795" y="630"/>
                      </a:lnTo>
                      <a:lnTo>
                        <a:pt x="807" y="582"/>
                      </a:lnTo>
                      <a:lnTo>
                        <a:pt x="815" y="534"/>
                      </a:lnTo>
                      <a:lnTo>
                        <a:pt x="818" y="486"/>
                      </a:lnTo>
                      <a:lnTo>
                        <a:pt x="815" y="437"/>
                      </a:lnTo>
                      <a:lnTo>
                        <a:pt x="807" y="390"/>
                      </a:lnTo>
                      <a:lnTo>
                        <a:pt x="795" y="343"/>
                      </a:lnTo>
                      <a:lnTo>
                        <a:pt x="776" y="299"/>
                      </a:lnTo>
                      <a:lnTo>
                        <a:pt x="752" y="255"/>
                      </a:lnTo>
                      <a:lnTo>
                        <a:pt x="723" y="215"/>
                      </a:lnTo>
                      <a:lnTo>
                        <a:pt x="691" y="177"/>
                      </a:lnTo>
                      <a:lnTo>
                        <a:pt x="654" y="143"/>
                      </a:lnTo>
                      <a:lnTo>
                        <a:pt x="614" y="113"/>
                      </a:lnTo>
                      <a:lnTo>
                        <a:pt x="571" y="87"/>
                      </a:lnTo>
                      <a:lnTo>
                        <a:pt x="525" y="64"/>
                      </a:lnTo>
                      <a:lnTo>
                        <a:pt x="476" y="48"/>
                      </a:lnTo>
                      <a:lnTo>
                        <a:pt x="477" y="44"/>
                      </a:lnTo>
                      <a:lnTo>
                        <a:pt x="49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9deb3"/>
                    </a:gs>
                    <a:gs pos="100000">
                      <a:srgbClr val="f6bf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V="1">
                  <a:off x="6007680" y="4122720"/>
                  <a:ext cx="117720" cy="264240"/>
                </a:xfrm>
                <a:prstGeom prst="line">
                  <a:avLst/>
                </a:prstGeom>
                <a:ln w="255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880" rIns="928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V="1">
                  <a:off x="6806520" y="2858400"/>
                  <a:ext cx="12960" cy="10080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880" rIns="928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125400" y="4379400"/>
                  <a:ext cx="832680" cy="141480"/>
                </a:xfrm>
                <a:custGeom>
                  <a:avLst/>
                  <a:gdLst/>
                  <a:ahLst/>
                  <a:rect l="l" t="t" r="r" b="b"/>
                  <a:pathLst>
                    <a:path w="510" h="87">
                      <a:moveTo>
                        <a:pt x="2" y="55"/>
                      </a:moveTo>
                      <a:lnTo>
                        <a:pt x="12" y="45"/>
                      </a:lnTo>
                      <a:lnTo>
                        <a:pt x="27" y="37"/>
                      </a:lnTo>
                      <a:lnTo>
                        <a:pt x="54" y="24"/>
                      </a:lnTo>
                      <a:lnTo>
                        <a:pt x="85" y="17"/>
                      </a:lnTo>
                      <a:lnTo>
                        <a:pt x="114" y="11"/>
                      </a:lnTo>
                      <a:lnTo>
                        <a:pt x="153" y="5"/>
                      </a:lnTo>
                      <a:lnTo>
                        <a:pt x="190" y="2"/>
                      </a:lnTo>
                      <a:lnTo>
                        <a:pt x="234" y="0"/>
                      </a:lnTo>
                      <a:lnTo>
                        <a:pt x="288" y="1"/>
                      </a:lnTo>
                      <a:lnTo>
                        <a:pt x="343" y="3"/>
                      </a:lnTo>
                      <a:lnTo>
                        <a:pt x="383" y="8"/>
                      </a:lnTo>
                      <a:lnTo>
                        <a:pt x="424" y="15"/>
                      </a:lnTo>
                      <a:lnTo>
                        <a:pt x="463" y="27"/>
                      </a:lnTo>
                      <a:lnTo>
                        <a:pt x="484" y="37"/>
                      </a:lnTo>
                      <a:lnTo>
                        <a:pt x="497" y="46"/>
                      </a:lnTo>
                      <a:lnTo>
                        <a:pt x="509" y="61"/>
                      </a:lnTo>
                      <a:lnTo>
                        <a:pt x="488" y="69"/>
                      </a:lnTo>
                      <a:lnTo>
                        <a:pt x="453" y="75"/>
                      </a:lnTo>
                      <a:lnTo>
                        <a:pt x="410" y="80"/>
                      </a:lnTo>
                      <a:lnTo>
                        <a:pt x="368" y="84"/>
                      </a:lnTo>
                      <a:lnTo>
                        <a:pt x="319" y="85"/>
                      </a:lnTo>
                      <a:lnTo>
                        <a:pt x="265" y="86"/>
                      </a:lnTo>
                      <a:lnTo>
                        <a:pt x="213" y="86"/>
                      </a:lnTo>
                      <a:lnTo>
                        <a:pt x="159" y="85"/>
                      </a:lnTo>
                      <a:lnTo>
                        <a:pt x="99" y="81"/>
                      </a:lnTo>
                      <a:lnTo>
                        <a:pt x="52" y="76"/>
                      </a:lnTo>
                      <a:lnTo>
                        <a:pt x="12" y="68"/>
                      </a:lnTo>
                      <a:lnTo>
                        <a:pt x="0" y="62"/>
                      </a:lnTo>
                      <a:lnTo>
                        <a:pt x="2" y="55"/>
                      </a:lnTo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V="1">
                  <a:off x="6883200" y="2705040"/>
                  <a:ext cx="16200" cy="10944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880" rIns="928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5744880" y="2874600"/>
                <a:ext cx="1482840" cy="1375200"/>
                <a:chOff x="5744880" y="2874600"/>
                <a:chExt cx="1482840" cy="137520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5744880" y="2874600"/>
                  <a:ext cx="1482840" cy="1375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9deb3"/>
                    </a:gs>
                    <a:gs pos="100000">
                      <a:srgbClr val="f6bf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4" name=""/>
                <p:cNvGrpSpPr/>
                <p:nvPr/>
              </p:nvGrpSpPr>
              <p:grpSpPr>
                <a:xfrm>
                  <a:off x="5744880" y="3017880"/>
                  <a:ext cx="1379880" cy="1020960"/>
                  <a:chOff x="5744880" y="3017880"/>
                  <a:chExt cx="1379880" cy="102096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>
                    <a:off x="5939280" y="3391560"/>
                    <a:ext cx="18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8">
                        <a:moveTo>
                          <a:pt x="0" y="0"/>
                        </a:move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32760" bIns="-3276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5965560" y="3419280"/>
                    <a:ext cx="61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3" y="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37440" bIns="-374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6042240" y="3383280"/>
                    <a:ext cx="5220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7">
                        <a:moveTo>
                          <a:pt x="31" y="0"/>
                        </a:moveTo>
                        <a:lnTo>
                          <a:pt x="19" y="0"/>
                        </a:lnTo>
                        <a:lnTo>
                          <a:pt x="13" y="7"/>
                        </a:lnTo>
                        <a:lnTo>
                          <a:pt x="8" y="7"/>
                        </a:lnTo>
                        <a:lnTo>
                          <a:pt x="5" y="11"/>
                        </a:lnTo>
                        <a:lnTo>
                          <a:pt x="0" y="11"/>
                        </a:lnTo>
                        <a:lnTo>
                          <a:pt x="0" y="20"/>
                        </a:lnTo>
                        <a:lnTo>
                          <a:pt x="7" y="26"/>
                        </a:lnTo>
                        <a:lnTo>
                          <a:pt x="25" y="26"/>
                        </a:lnTo>
                        <a:lnTo>
                          <a:pt x="31" y="20"/>
                        </a:lnTo>
                        <a:lnTo>
                          <a:pt x="31" y="0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1440" bIns="-14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5744880" y="3417480"/>
                    <a:ext cx="445680" cy="54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331">
                        <a:moveTo>
                          <a:pt x="65" y="0"/>
                        </a:moveTo>
                        <a:lnTo>
                          <a:pt x="60" y="9"/>
                        </a:lnTo>
                        <a:lnTo>
                          <a:pt x="39" y="26"/>
                        </a:lnTo>
                        <a:lnTo>
                          <a:pt x="34" y="43"/>
                        </a:lnTo>
                        <a:lnTo>
                          <a:pt x="18" y="54"/>
                        </a:lnTo>
                        <a:lnTo>
                          <a:pt x="7" y="76"/>
                        </a:lnTo>
                        <a:lnTo>
                          <a:pt x="7" y="89"/>
                        </a:lnTo>
                        <a:lnTo>
                          <a:pt x="0" y="113"/>
                        </a:lnTo>
                        <a:lnTo>
                          <a:pt x="10" y="123"/>
                        </a:lnTo>
                        <a:lnTo>
                          <a:pt x="34" y="153"/>
                        </a:lnTo>
                        <a:lnTo>
                          <a:pt x="41" y="149"/>
                        </a:lnTo>
                        <a:lnTo>
                          <a:pt x="84" y="149"/>
                        </a:lnTo>
                        <a:lnTo>
                          <a:pt x="104" y="157"/>
                        </a:lnTo>
                        <a:lnTo>
                          <a:pt x="102" y="180"/>
                        </a:lnTo>
                        <a:lnTo>
                          <a:pt x="117" y="211"/>
                        </a:lnTo>
                        <a:lnTo>
                          <a:pt x="116" y="219"/>
                        </a:lnTo>
                        <a:lnTo>
                          <a:pt x="122" y="229"/>
                        </a:lnTo>
                        <a:lnTo>
                          <a:pt x="113" y="251"/>
                        </a:lnTo>
                        <a:lnTo>
                          <a:pt x="123" y="278"/>
                        </a:lnTo>
                        <a:lnTo>
                          <a:pt x="129" y="300"/>
                        </a:lnTo>
                        <a:lnTo>
                          <a:pt x="137" y="313"/>
                        </a:lnTo>
                        <a:lnTo>
                          <a:pt x="144" y="330"/>
                        </a:lnTo>
                        <a:lnTo>
                          <a:pt x="159" y="328"/>
                        </a:lnTo>
                        <a:lnTo>
                          <a:pt x="183" y="315"/>
                        </a:lnTo>
                        <a:lnTo>
                          <a:pt x="194" y="300"/>
                        </a:lnTo>
                        <a:lnTo>
                          <a:pt x="193" y="290"/>
                        </a:lnTo>
                        <a:lnTo>
                          <a:pt x="207" y="281"/>
                        </a:lnTo>
                        <a:lnTo>
                          <a:pt x="204" y="267"/>
                        </a:lnTo>
                        <a:lnTo>
                          <a:pt x="225" y="243"/>
                        </a:lnTo>
                        <a:lnTo>
                          <a:pt x="228" y="224"/>
                        </a:lnTo>
                        <a:lnTo>
                          <a:pt x="223" y="218"/>
                        </a:lnTo>
                        <a:lnTo>
                          <a:pt x="225" y="210"/>
                        </a:lnTo>
                        <a:lnTo>
                          <a:pt x="220" y="202"/>
                        </a:lnTo>
                        <a:lnTo>
                          <a:pt x="236" y="184"/>
                        </a:lnTo>
                        <a:lnTo>
                          <a:pt x="236" y="175"/>
                        </a:lnTo>
                        <a:lnTo>
                          <a:pt x="258" y="159"/>
                        </a:lnTo>
                        <a:lnTo>
                          <a:pt x="272" y="116"/>
                        </a:lnTo>
                        <a:lnTo>
                          <a:pt x="252" y="128"/>
                        </a:lnTo>
                        <a:lnTo>
                          <a:pt x="234" y="122"/>
                        </a:lnTo>
                        <a:lnTo>
                          <a:pt x="237" y="112"/>
                        </a:lnTo>
                        <a:lnTo>
                          <a:pt x="219" y="101"/>
                        </a:lnTo>
                        <a:lnTo>
                          <a:pt x="211" y="74"/>
                        </a:lnTo>
                        <a:lnTo>
                          <a:pt x="194" y="53"/>
                        </a:lnTo>
                        <a:lnTo>
                          <a:pt x="194" y="37"/>
                        </a:lnTo>
                        <a:lnTo>
                          <a:pt x="185" y="36"/>
                        </a:lnTo>
                        <a:lnTo>
                          <a:pt x="179" y="39"/>
                        </a:lnTo>
                        <a:lnTo>
                          <a:pt x="153" y="30"/>
                        </a:lnTo>
                        <a:lnTo>
                          <a:pt x="147" y="36"/>
                        </a:lnTo>
                        <a:lnTo>
                          <a:pt x="141" y="44"/>
                        </a:lnTo>
                        <a:lnTo>
                          <a:pt x="128" y="30"/>
                        </a:lnTo>
                        <a:lnTo>
                          <a:pt x="114" y="26"/>
                        </a:lnTo>
                        <a:lnTo>
                          <a:pt x="113" y="8"/>
                        </a:lnTo>
                        <a:lnTo>
                          <a:pt x="93" y="11"/>
                        </a:lnTo>
                        <a:lnTo>
                          <a:pt x="81" y="7"/>
                        </a:lnTo>
                        <a:lnTo>
                          <a:pt x="65" y="0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6776640" y="3552840"/>
                    <a:ext cx="1656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6">
                        <a:moveTo>
                          <a:pt x="4" y="0"/>
                        </a:moveTo>
                        <a:lnTo>
                          <a:pt x="5" y="5"/>
                        </a:lnTo>
                        <a:lnTo>
                          <a:pt x="4" y="8"/>
                        </a:lnTo>
                        <a:lnTo>
                          <a:pt x="4" y="10"/>
                        </a:lnTo>
                        <a:lnTo>
                          <a:pt x="9" y="13"/>
                        </a:lnTo>
                        <a:lnTo>
                          <a:pt x="9" y="15"/>
                        </a:lnTo>
                        <a:lnTo>
                          <a:pt x="5" y="13"/>
                        </a:lnTo>
                        <a:lnTo>
                          <a:pt x="2" y="15"/>
                        </a:lnTo>
                        <a:lnTo>
                          <a:pt x="0" y="13"/>
                        </a:lnTo>
                        <a:lnTo>
                          <a:pt x="2" y="10"/>
                        </a:lnTo>
                        <a:lnTo>
                          <a:pt x="0" y="8"/>
                        </a:lnTo>
                        <a:lnTo>
                          <a:pt x="2" y="2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19440" bIns="-194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6692040" y="3663720"/>
                    <a:ext cx="66960" cy="9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56">
                        <a:moveTo>
                          <a:pt x="0" y="28"/>
                        </a:moveTo>
                        <a:lnTo>
                          <a:pt x="15" y="28"/>
                        </a:lnTo>
                        <a:lnTo>
                          <a:pt x="31" y="0"/>
                        </a:lnTo>
                        <a:lnTo>
                          <a:pt x="40" y="16"/>
                        </a:lnTo>
                        <a:lnTo>
                          <a:pt x="33" y="55"/>
                        </a:lnTo>
                        <a:lnTo>
                          <a:pt x="3" y="46"/>
                        </a:lnTo>
                        <a:lnTo>
                          <a:pt x="0" y="28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6825960" y="3698280"/>
                    <a:ext cx="11556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54">
                        <a:moveTo>
                          <a:pt x="4" y="13"/>
                        </a:moveTo>
                        <a:lnTo>
                          <a:pt x="0" y="0"/>
                        </a:lnTo>
                        <a:lnTo>
                          <a:pt x="24" y="5"/>
                        </a:lnTo>
                        <a:lnTo>
                          <a:pt x="57" y="18"/>
                        </a:lnTo>
                        <a:lnTo>
                          <a:pt x="57" y="28"/>
                        </a:lnTo>
                        <a:lnTo>
                          <a:pt x="70" y="53"/>
                        </a:lnTo>
                        <a:lnTo>
                          <a:pt x="44" y="29"/>
                        </a:lnTo>
                        <a:lnTo>
                          <a:pt x="27" y="31"/>
                        </a:lnTo>
                        <a:lnTo>
                          <a:pt x="4" y="13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2480" bIns="424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7046280" y="3874320"/>
                    <a:ext cx="7848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8">
                        <a:moveTo>
                          <a:pt x="29" y="0"/>
                        </a:moveTo>
                        <a:lnTo>
                          <a:pt x="47" y="17"/>
                        </a:lnTo>
                        <a:lnTo>
                          <a:pt x="10" y="57"/>
                        </a:lnTo>
                        <a:lnTo>
                          <a:pt x="0" y="48"/>
                        </a:lnTo>
                        <a:lnTo>
                          <a:pt x="27" y="22"/>
                        </a:lnTo>
                        <a:lnTo>
                          <a:pt x="29" y="0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5883480" y="3244680"/>
                    <a:ext cx="3924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7">
                        <a:moveTo>
                          <a:pt x="23" y="28"/>
                        </a:moveTo>
                        <a:lnTo>
                          <a:pt x="17" y="24"/>
                        </a:lnTo>
                        <a:lnTo>
                          <a:pt x="17" y="8"/>
                        </a:lnTo>
                        <a:lnTo>
                          <a:pt x="20" y="5"/>
                        </a:lnTo>
                        <a:lnTo>
                          <a:pt x="15" y="5"/>
                        </a:lnTo>
                        <a:lnTo>
                          <a:pt x="18" y="0"/>
                        </a:lnTo>
                        <a:lnTo>
                          <a:pt x="14" y="0"/>
                        </a:lnTo>
                        <a:lnTo>
                          <a:pt x="8" y="5"/>
                        </a:lnTo>
                        <a:lnTo>
                          <a:pt x="8" y="15"/>
                        </a:lnTo>
                        <a:lnTo>
                          <a:pt x="11" y="17"/>
                        </a:lnTo>
                        <a:lnTo>
                          <a:pt x="11" y="22"/>
                        </a:lnTo>
                        <a:lnTo>
                          <a:pt x="9" y="22"/>
                        </a:lnTo>
                        <a:lnTo>
                          <a:pt x="5" y="25"/>
                        </a:lnTo>
                        <a:lnTo>
                          <a:pt x="5" y="29"/>
                        </a:lnTo>
                        <a:lnTo>
                          <a:pt x="0" y="36"/>
                        </a:lnTo>
                        <a:lnTo>
                          <a:pt x="17" y="36"/>
                        </a:lnTo>
                        <a:lnTo>
                          <a:pt x="23" y="28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14760" bIns="1476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5870520" y="3264120"/>
                    <a:ext cx="208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10" y="4"/>
                        </a:moveTo>
                        <a:lnTo>
                          <a:pt x="12" y="4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7" y="12"/>
                        </a:lnTo>
                        <a:lnTo>
                          <a:pt x="10" y="9"/>
                        </a:lnTo>
                        <a:lnTo>
                          <a:pt x="10" y="4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24480" bIns="-244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5839560" y="3228120"/>
                    <a:ext cx="254520" cy="19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122">
                        <a:moveTo>
                          <a:pt x="102" y="0"/>
                        </a:moveTo>
                        <a:lnTo>
                          <a:pt x="102" y="8"/>
                        </a:lnTo>
                        <a:lnTo>
                          <a:pt x="105" y="11"/>
                        </a:lnTo>
                        <a:lnTo>
                          <a:pt x="122" y="11"/>
                        </a:lnTo>
                        <a:lnTo>
                          <a:pt x="122" y="16"/>
                        </a:lnTo>
                        <a:lnTo>
                          <a:pt x="110" y="16"/>
                        </a:lnTo>
                        <a:lnTo>
                          <a:pt x="110" y="29"/>
                        </a:lnTo>
                        <a:lnTo>
                          <a:pt x="105" y="23"/>
                        </a:lnTo>
                        <a:lnTo>
                          <a:pt x="105" y="32"/>
                        </a:lnTo>
                        <a:lnTo>
                          <a:pt x="97" y="39"/>
                        </a:lnTo>
                        <a:lnTo>
                          <a:pt x="93" y="35"/>
                        </a:lnTo>
                        <a:lnTo>
                          <a:pt x="85" y="41"/>
                        </a:lnTo>
                        <a:lnTo>
                          <a:pt x="84" y="39"/>
                        </a:lnTo>
                        <a:lnTo>
                          <a:pt x="74" y="39"/>
                        </a:lnTo>
                        <a:lnTo>
                          <a:pt x="80" y="33"/>
                        </a:lnTo>
                        <a:lnTo>
                          <a:pt x="80" y="31"/>
                        </a:lnTo>
                        <a:lnTo>
                          <a:pt x="75" y="27"/>
                        </a:lnTo>
                        <a:lnTo>
                          <a:pt x="75" y="21"/>
                        </a:lnTo>
                        <a:lnTo>
                          <a:pt x="69" y="27"/>
                        </a:lnTo>
                        <a:lnTo>
                          <a:pt x="69" y="39"/>
                        </a:lnTo>
                        <a:lnTo>
                          <a:pt x="62" y="39"/>
                        </a:lnTo>
                        <a:lnTo>
                          <a:pt x="53" y="47"/>
                        </a:lnTo>
                        <a:lnTo>
                          <a:pt x="49" y="47"/>
                        </a:lnTo>
                        <a:lnTo>
                          <a:pt x="44" y="53"/>
                        </a:lnTo>
                        <a:lnTo>
                          <a:pt x="26" y="53"/>
                        </a:lnTo>
                        <a:lnTo>
                          <a:pt x="32" y="61"/>
                        </a:lnTo>
                        <a:lnTo>
                          <a:pt x="32" y="73"/>
                        </a:lnTo>
                        <a:lnTo>
                          <a:pt x="26" y="80"/>
                        </a:lnTo>
                        <a:lnTo>
                          <a:pt x="19" y="73"/>
                        </a:lnTo>
                        <a:lnTo>
                          <a:pt x="5" y="73"/>
                        </a:lnTo>
                        <a:lnTo>
                          <a:pt x="5" y="82"/>
                        </a:lnTo>
                        <a:lnTo>
                          <a:pt x="0" y="88"/>
                        </a:lnTo>
                        <a:lnTo>
                          <a:pt x="0" y="100"/>
                        </a:lnTo>
                        <a:lnTo>
                          <a:pt x="9" y="109"/>
                        </a:lnTo>
                        <a:lnTo>
                          <a:pt x="22" y="109"/>
                        </a:lnTo>
                        <a:lnTo>
                          <a:pt x="43" y="86"/>
                        </a:lnTo>
                        <a:lnTo>
                          <a:pt x="61" y="86"/>
                        </a:lnTo>
                        <a:lnTo>
                          <a:pt x="64" y="82"/>
                        </a:lnTo>
                        <a:lnTo>
                          <a:pt x="68" y="86"/>
                        </a:lnTo>
                        <a:lnTo>
                          <a:pt x="67" y="90"/>
                        </a:lnTo>
                        <a:lnTo>
                          <a:pt x="85" y="106"/>
                        </a:lnTo>
                        <a:lnTo>
                          <a:pt x="85" y="113"/>
                        </a:lnTo>
                        <a:lnTo>
                          <a:pt x="88" y="110"/>
                        </a:lnTo>
                        <a:lnTo>
                          <a:pt x="87" y="106"/>
                        </a:lnTo>
                        <a:lnTo>
                          <a:pt x="88" y="104"/>
                        </a:lnTo>
                        <a:lnTo>
                          <a:pt x="91" y="106"/>
                        </a:lnTo>
                        <a:lnTo>
                          <a:pt x="93" y="106"/>
                        </a:lnTo>
                        <a:lnTo>
                          <a:pt x="74" y="85"/>
                        </a:lnTo>
                        <a:lnTo>
                          <a:pt x="74" y="78"/>
                        </a:lnTo>
                        <a:lnTo>
                          <a:pt x="80" y="78"/>
                        </a:lnTo>
                        <a:lnTo>
                          <a:pt x="80" y="82"/>
                        </a:lnTo>
                        <a:lnTo>
                          <a:pt x="97" y="100"/>
                        </a:lnTo>
                        <a:lnTo>
                          <a:pt x="97" y="106"/>
                        </a:lnTo>
                        <a:lnTo>
                          <a:pt x="105" y="114"/>
                        </a:lnTo>
                        <a:lnTo>
                          <a:pt x="103" y="116"/>
                        </a:lnTo>
                        <a:lnTo>
                          <a:pt x="108" y="121"/>
                        </a:lnTo>
                        <a:lnTo>
                          <a:pt x="116" y="113"/>
                        </a:lnTo>
                        <a:lnTo>
                          <a:pt x="111" y="107"/>
                        </a:lnTo>
                        <a:lnTo>
                          <a:pt x="116" y="102"/>
                        </a:lnTo>
                        <a:lnTo>
                          <a:pt x="123" y="102"/>
                        </a:lnTo>
                        <a:lnTo>
                          <a:pt x="126" y="100"/>
                        </a:lnTo>
                        <a:lnTo>
                          <a:pt x="130" y="100"/>
                        </a:lnTo>
                        <a:lnTo>
                          <a:pt x="124" y="93"/>
                        </a:lnTo>
                        <a:lnTo>
                          <a:pt x="127" y="89"/>
                        </a:lnTo>
                        <a:lnTo>
                          <a:pt x="127" y="77"/>
                        </a:lnTo>
                        <a:lnTo>
                          <a:pt x="133" y="71"/>
                        </a:lnTo>
                        <a:lnTo>
                          <a:pt x="136" y="73"/>
                        </a:lnTo>
                        <a:lnTo>
                          <a:pt x="141" y="73"/>
                        </a:lnTo>
                        <a:lnTo>
                          <a:pt x="139" y="77"/>
                        </a:lnTo>
                        <a:lnTo>
                          <a:pt x="144" y="82"/>
                        </a:lnTo>
                        <a:lnTo>
                          <a:pt x="147" y="77"/>
                        </a:lnTo>
                        <a:lnTo>
                          <a:pt x="150" y="77"/>
                        </a:lnTo>
                        <a:lnTo>
                          <a:pt x="150" y="76"/>
                        </a:lnTo>
                        <a:lnTo>
                          <a:pt x="148" y="76"/>
                        </a:lnTo>
                        <a:lnTo>
                          <a:pt x="145" y="73"/>
                        </a:lnTo>
                        <a:lnTo>
                          <a:pt x="153" y="64"/>
                        </a:lnTo>
                        <a:lnTo>
                          <a:pt x="153" y="77"/>
                        </a:lnTo>
                        <a:lnTo>
                          <a:pt x="155" y="77"/>
                        </a:lnTo>
                        <a:lnTo>
                          <a:pt x="155" y="0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5947200" y="3017880"/>
                    <a:ext cx="1077840" cy="709560"/>
                  </a:xfrm>
                  <a:custGeom>
                    <a:avLst/>
                    <a:gdLst/>
                    <a:ahLst/>
                    <a:rect l="l" t="t" r="r" b="b"/>
                    <a:pathLst>
                      <a:path w="660" h="435">
                        <a:moveTo>
                          <a:pt x="0" y="128"/>
                        </a:moveTo>
                        <a:lnTo>
                          <a:pt x="19" y="114"/>
                        </a:lnTo>
                        <a:lnTo>
                          <a:pt x="38" y="88"/>
                        </a:lnTo>
                        <a:lnTo>
                          <a:pt x="60" y="76"/>
                        </a:lnTo>
                        <a:lnTo>
                          <a:pt x="83" y="91"/>
                        </a:lnTo>
                        <a:lnTo>
                          <a:pt x="86" y="102"/>
                        </a:lnTo>
                        <a:lnTo>
                          <a:pt x="81" y="102"/>
                        </a:lnTo>
                        <a:lnTo>
                          <a:pt x="71" y="101"/>
                        </a:lnTo>
                        <a:lnTo>
                          <a:pt x="83" y="114"/>
                        </a:lnTo>
                        <a:lnTo>
                          <a:pt x="131" y="97"/>
                        </a:lnTo>
                        <a:lnTo>
                          <a:pt x="125" y="84"/>
                        </a:lnTo>
                        <a:lnTo>
                          <a:pt x="145" y="62"/>
                        </a:lnTo>
                        <a:lnTo>
                          <a:pt x="159" y="63"/>
                        </a:lnTo>
                        <a:lnTo>
                          <a:pt x="146" y="70"/>
                        </a:lnTo>
                        <a:lnTo>
                          <a:pt x="135" y="87"/>
                        </a:lnTo>
                        <a:lnTo>
                          <a:pt x="135" y="97"/>
                        </a:lnTo>
                        <a:lnTo>
                          <a:pt x="154" y="109"/>
                        </a:lnTo>
                        <a:lnTo>
                          <a:pt x="182" y="75"/>
                        </a:lnTo>
                        <a:lnTo>
                          <a:pt x="279" y="35"/>
                        </a:lnTo>
                        <a:lnTo>
                          <a:pt x="279" y="13"/>
                        </a:lnTo>
                        <a:lnTo>
                          <a:pt x="323" y="4"/>
                        </a:lnTo>
                        <a:lnTo>
                          <a:pt x="348" y="16"/>
                        </a:lnTo>
                        <a:lnTo>
                          <a:pt x="406" y="0"/>
                        </a:lnTo>
                        <a:lnTo>
                          <a:pt x="425" y="8"/>
                        </a:lnTo>
                        <a:lnTo>
                          <a:pt x="464" y="48"/>
                        </a:lnTo>
                        <a:lnTo>
                          <a:pt x="509" y="40"/>
                        </a:lnTo>
                        <a:lnTo>
                          <a:pt x="537" y="54"/>
                        </a:lnTo>
                        <a:lnTo>
                          <a:pt x="606" y="51"/>
                        </a:lnTo>
                        <a:lnTo>
                          <a:pt x="659" y="67"/>
                        </a:lnTo>
                        <a:lnTo>
                          <a:pt x="654" y="88"/>
                        </a:lnTo>
                        <a:lnTo>
                          <a:pt x="609" y="102"/>
                        </a:lnTo>
                        <a:lnTo>
                          <a:pt x="617" y="116"/>
                        </a:lnTo>
                        <a:lnTo>
                          <a:pt x="598" y="124"/>
                        </a:lnTo>
                        <a:lnTo>
                          <a:pt x="597" y="152"/>
                        </a:lnTo>
                        <a:lnTo>
                          <a:pt x="580" y="172"/>
                        </a:lnTo>
                        <a:lnTo>
                          <a:pt x="572" y="154"/>
                        </a:lnTo>
                        <a:lnTo>
                          <a:pt x="582" y="138"/>
                        </a:lnTo>
                        <a:lnTo>
                          <a:pt x="580" y="104"/>
                        </a:lnTo>
                        <a:lnTo>
                          <a:pt x="563" y="121"/>
                        </a:lnTo>
                        <a:lnTo>
                          <a:pt x="549" y="131"/>
                        </a:lnTo>
                        <a:lnTo>
                          <a:pt x="535" y="116"/>
                        </a:lnTo>
                        <a:lnTo>
                          <a:pt x="526" y="154"/>
                        </a:lnTo>
                        <a:lnTo>
                          <a:pt x="536" y="154"/>
                        </a:lnTo>
                        <a:lnTo>
                          <a:pt x="534" y="180"/>
                        </a:lnTo>
                        <a:lnTo>
                          <a:pt x="522" y="207"/>
                        </a:lnTo>
                        <a:lnTo>
                          <a:pt x="507" y="218"/>
                        </a:lnTo>
                        <a:lnTo>
                          <a:pt x="519" y="236"/>
                        </a:lnTo>
                        <a:lnTo>
                          <a:pt x="511" y="248"/>
                        </a:lnTo>
                        <a:lnTo>
                          <a:pt x="508" y="237"/>
                        </a:lnTo>
                        <a:lnTo>
                          <a:pt x="508" y="233"/>
                        </a:lnTo>
                        <a:lnTo>
                          <a:pt x="498" y="227"/>
                        </a:lnTo>
                        <a:lnTo>
                          <a:pt x="483" y="235"/>
                        </a:lnTo>
                        <a:lnTo>
                          <a:pt x="497" y="265"/>
                        </a:lnTo>
                        <a:lnTo>
                          <a:pt x="502" y="281"/>
                        </a:lnTo>
                        <a:lnTo>
                          <a:pt x="485" y="322"/>
                        </a:lnTo>
                        <a:lnTo>
                          <a:pt x="455" y="333"/>
                        </a:lnTo>
                        <a:lnTo>
                          <a:pt x="430" y="331"/>
                        </a:lnTo>
                        <a:lnTo>
                          <a:pt x="442" y="347"/>
                        </a:lnTo>
                        <a:lnTo>
                          <a:pt x="443" y="371"/>
                        </a:lnTo>
                        <a:lnTo>
                          <a:pt x="426" y="399"/>
                        </a:lnTo>
                        <a:lnTo>
                          <a:pt x="406" y="384"/>
                        </a:lnTo>
                        <a:lnTo>
                          <a:pt x="403" y="400"/>
                        </a:lnTo>
                        <a:lnTo>
                          <a:pt x="418" y="414"/>
                        </a:lnTo>
                        <a:lnTo>
                          <a:pt x="431" y="434"/>
                        </a:lnTo>
                        <a:lnTo>
                          <a:pt x="409" y="422"/>
                        </a:lnTo>
                        <a:lnTo>
                          <a:pt x="384" y="354"/>
                        </a:lnTo>
                        <a:lnTo>
                          <a:pt x="353" y="335"/>
                        </a:lnTo>
                        <a:lnTo>
                          <a:pt x="330" y="337"/>
                        </a:lnTo>
                        <a:lnTo>
                          <a:pt x="301" y="376"/>
                        </a:lnTo>
                        <a:lnTo>
                          <a:pt x="305" y="390"/>
                        </a:lnTo>
                        <a:lnTo>
                          <a:pt x="295" y="417"/>
                        </a:lnTo>
                        <a:lnTo>
                          <a:pt x="285" y="417"/>
                        </a:lnTo>
                        <a:lnTo>
                          <a:pt x="252" y="359"/>
                        </a:lnTo>
                        <a:lnTo>
                          <a:pt x="252" y="334"/>
                        </a:lnTo>
                        <a:lnTo>
                          <a:pt x="245" y="343"/>
                        </a:lnTo>
                        <a:lnTo>
                          <a:pt x="226" y="343"/>
                        </a:lnTo>
                        <a:lnTo>
                          <a:pt x="233" y="328"/>
                        </a:lnTo>
                        <a:lnTo>
                          <a:pt x="204" y="308"/>
                        </a:lnTo>
                        <a:lnTo>
                          <a:pt x="167" y="308"/>
                        </a:lnTo>
                        <a:lnTo>
                          <a:pt x="135" y="288"/>
                        </a:lnTo>
                        <a:lnTo>
                          <a:pt x="133" y="308"/>
                        </a:lnTo>
                        <a:lnTo>
                          <a:pt x="159" y="326"/>
                        </a:lnTo>
                        <a:lnTo>
                          <a:pt x="168" y="326"/>
                        </a:lnTo>
                        <a:lnTo>
                          <a:pt x="142" y="350"/>
                        </a:lnTo>
                        <a:lnTo>
                          <a:pt x="115" y="356"/>
                        </a:lnTo>
                        <a:lnTo>
                          <a:pt x="115" y="342"/>
                        </a:lnTo>
                        <a:lnTo>
                          <a:pt x="77" y="293"/>
                        </a:lnTo>
                        <a:lnTo>
                          <a:pt x="72" y="280"/>
                        </a:lnTo>
                        <a:lnTo>
                          <a:pt x="93" y="264"/>
                        </a:lnTo>
                        <a:lnTo>
                          <a:pt x="90" y="244"/>
                        </a:lnTo>
                        <a:lnTo>
                          <a:pt x="90" y="222"/>
                        </a:lnTo>
                        <a:lnTo>
                          <a:pt x="101" y="218"/>
                        </a:lnTo>
                        <a:lnTo>
                          <a:pt x="90" y="207"/>
                        </a:lnTo>
                        <a:lnTo>
                          <a:pt x="90" y="128"/>
                        </a:lnTo>
                        <a:lnTo>
                          <a:pt x="37" y="128"/>
                        </a:lnTo>
                        <a:lnTo>
                          <a:pt x="52" y="109"/>
                        </a:lnTo>
                        <a:lnTo>
                          <a:pt x="51" y="102"/>
                        </a:lnTo>
                        <a:lnTo>
                          <a:pt x="33" y="119"/>
                        </a:lnTo>
                        <a:lnTo>
                          <a:pt x="27" y="128"/>
                        </a:lnTo>
                        <a:lnTo>
                          <a:pt x="0" y="128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6799680" y="3308040"/>
                    <a:ext cx="92880" cy="1432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8">
                        <a:moveTo>
                          <a:pt x="38" y="0"/>
                        </a:moveTo>
                        <a:lnTo>
                          <a:pt x="38" y="11"/>
                        </a:lnTo>
                        <a:lnTo>
                          <a:pt x="33" y="18"/>
                        </a:lnTo>
                        <a:lnTo>
                          <a:pt x="34" y="30"/>
                        </a:lnTo>
                        <a:lnTo>
                          <a:pt x="29" y="46"/>
                        </a:lnTo>
                        <a:lnTo>
                          <a:pt x="19" y="60"/>
                        </a:lnTo>
                        <a:lnTo>
                          <a:pt x="4" y="70"/>
                        </a:lnTo>
                        <a:lnTo>
                          <a:pt x="0" y="86"/>
                        </a:lnTo>
                        <a:lnTo>
                          <a:pt x="6" y="87"/>
                        </a:lnTo>
                        <a:lnTo>
                          <a:pt x="6" y="72"/>
                        </a:lnTo>
                        <a:lnTo>
                          <a:pt x="26" y="71"/>
                        </a:lnTo>
                        <a:lnTo>
                          <a:pt x="42" y="61"/>
                        </a:lnTo>
                        <a:lnTo>
                          <a:pt x="42" y="40"/>
                        </a:lnTo>
                        <a:lnTo>
                          <a:pt x="46" y="33"/>
                        </a:lnTo>
                        <a:lnTo>
                          <a:pt x="38" y="19"/>
                        </a:lnTo>
                        <a:lnTo>
                          <a:pt x="49" y="15"/>
                        </a:lnTo>
                        <a:lnTo>
                          <a:pt x="56" y="4"/>
                        </a:lnTo>
                        <a:lnTo>
                          <a:pt x="42" y="6"/>
                        </a:lnTo>
                        <a:lnTo>
                          <a:pt x="38" y="0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6447240" y="3693240"/>
                    <a:ext cx="1764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1">
                        <a:moveTo>
                          <a:pt x="5" y="0"/>
                        </a:moveTo>
                        <a:lnTo>
                          <a:pt x="0" y="9"/>
                        </a:lnTo>
                        <a:lnTo>
                          <a:pt x="3" y="20"/>
                        </a:lnTo>
                        <a:lnTo>
                          <a:pt x="10" y="12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11520" bIns="-1152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6589080" y="3727440"/>
                    <a:ext cx="21708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54">
                        <a:moveTo>
                          <a:pt x="0" y="0"/>
                        </a:moveTo>
                        <a:lnTo>
                          <a:pt x="20" y="4"/>
                        </a:lnTo>
                        <a:lnTo>
                          <a:pt x="50" y="24"/>
                        </a:lnTo>
                        <a:lnTo>
                          <a:pt x="45" y="34"/>
                        </a:lnTo>
                        <a:lnTo>
                          <a:pt x="70" y="44"/>
                        </a:lnTo>
                        <a:lnTo>
                          <a:pt x="132" y="44"/>
                        </a:lnTo>
                        <a:lnTo>
                          <a:pt x="64" y="53"/>
                        </a:lnTo>
                        <a:lnTo>
                          <a:pt x="45" y="34"/>
                        </a:lnTo>
                        <a:lnTo>
                          <a:pt x="28" y="3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2480" bIns="424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6762240" y="3797640"/>
                    <a:ext cx="235080" cy="20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27">
                        <a:moveTo>
                          <a:pt x="119" y="123"/>
                        </a:moveTo>
                        <a:lnTo>
                          <a:pt x="115" y="124"/>
                        </a:lnTo>
                        <a:lnTo>
                          <a:pt x="112" y="126"/>
                        </a:lnTo>
                        <a:lnTo>
                          <a:pt x="109" y="122"/>
                        </a:lnTo>
                        <a:lnTo>
                          <a:pt x="96" y="116"/>
                        </a:lnTo>
                        <a:lnTo>
                          <a:pt x="94" y="107"/>
                        </a:lnTo>
                        <a:lnTo>
                          <a:pt x="90" y="104"/>
                        </a:lnTo>
                        <a:lnTo>
                          <a:pt x="79" y="104"/>
                        </a:lnTo>
                        <a:lnTo>
                          <a:pt x="79" y="98"/>
                        </a:lnTo>
                        <a:lnTo>
                          <a:pt x="76" y="96"/>
                        </a:lnTo>
                        <a:lnTo>
                          <a:pt x="75" y="90"/>
                        </a:lnTo>
                        <a:lnTo>
                          <a:pt x="67" y="89"/>
                        </a:lnTo>
                        <a:lnTo>
                          <a:pt x="59" y="87"/>
                        </a:lnTo>
                        <a:lnTo>
                          <a:pt x="53" y="89"/>
                        </a:lnTo>
                        <a:lnTo>
                          <a:pt x="53" y="90"/>
                        </a:lnTo>
                        <a:lnTo>
                          <a:pt x="38" y="94"/>
                        </a:lnTo>
                        <a:lnTo>
                          <a:pt x="38" y="97"/>
                        </a:lnTo>
                        <a:lnTo>
                          <a:pt x="25" y="97"/>
                        </a:lnTo>
                        <a:lnTo>
                          <a:pt x="17" y="101"/>
                        </a:lnTo>
                        <a:lnTo>
                          <a:pt x="9" y="97"/>
                        </a:lnTo>
                        <a:lnTo>
                          <a:pt x="8" y="96"/>
                        </a:lnTo>
                        <a:lnTo>
                          <a:pt x="8" y="87"/>
                        </a:lnTo>
                        <a:lnTo>
                          <a:pt x="6" y="80"/>
                        </a:lnTo>
                        <a:lnTo>
                          <a:pt x="3" y="72"/>
                        </a:lnTo>
                        <a:lnTo>
                          <a:pt x="5" y="67"/>
                        </a:lnTo>
                        <a:lnTo>
                          <a:pt x="2" y="65"/>
                        </a:lnTo>
                        <a:lnTo>
                          <a:pt x="0" y="54"/>
                        </a:lnTo>
                        <a:lnTo>
                          <a:pt x="2" y="45"/>
                        </a:lnTo>
                        <a:lnTo>
                          <a:pt x="10" y="39"/>
                        </a:lnTo>
                        <a:lnTo>
                          <a:pt x="27" y="35"/>
                        </a:lnTo>
                        <a:lnTo>
                          <a:pt x="31" y="29"/>
                        </a:lnTo>
                        <a:lnTo>
                          <a:pt x="29" y="23"/>
                        </a:lnTo>
                        <a:lnTo>
                          <a:pt x="34" y="22"/>
                        </a:lnTo>
                        <a:lnTo>
                          <a:pt x="35" y="25"/>
                        </a:lnTo>
                        <a:lnTo>
                          <a:pt x="37" y="20"/>
                        </a:lnTo>
                        <a:lnTo>
                          <a:pt x="47" y="13"/>
                        </a:lnTo>
                        <a:lnTo>
                          <a:pt x="53" y="16"/>
                        </a:lnTo>
                        <a:lnTo>
                          <a:pt x="59" y="14"/>
                        </a:lnTo>
                        <a:lnTo>
                          <a:pt x="62" y="7"/>
                        </a:lnTo>
                        <a:lnTo>
                          <a:pt x="68" y="6"/>
                        </a:lnTo>
                        <a:lnTo>
                          <a:pt x="67" y="1"/>
                        </a:lnTo>
                        <a:lnTo>
                          <a:pt x="76" y="4"/>
                        </a:lnTo>
                        <a:lnTo>
                          <a:pt x="84" y="3"/>
                        </a:lnTo>
                        <a:lnTo>
                          <a:pt x="88" y="20"/>
                        </a:lnTo>
                        <a:lnTo>
                          <a:pt x="94" y="25"/>
                        </a:lnTo>
                        <a:lnTo>
                          <a:pt x="99" y="25"/>
                        </a:lnTo>
                        <a:lnTo>
                          <a:pt x="102" y="14"/>
                        </a:lnTo>
                        <a:lnTo>
                          <a:pt x="100" y="9"/>
                        </a:lnTo>
                        <a:lnTo>
                          <a:pt x="102" y="1"/>
                        </a:lnTo>
                        <a:lnTo>
                          <a:pt x="105" y="0"/>
                        </a:lnTo>
                        <a:lnTo>
                          <a:pt x="109" y="10"/>
                        </a:lnTo>
                        <a:lnTo>
                          <a:pt x="112" y="13"/>
                        </a:lnTo>
                        <a:lnTo>
                          <a:pt x="115" y="22"/>
                        </a:lnTo>
                        <a:lnTo>
                          <a:pt x="119" y="35"/>
                        </a:lnTo>
                        <a:lnTo>
                          <a:pt x="126" y="38"/>
                        </a:lnTo>
                        <a:lnTo>
                          <a:pt x="133" y="47"/>
                        </a:lnTo>
                        <a:lnTo>
                          <a:pt x="135" y="52"/>
                        </a:lnTo>
                        <a:lnTo>
                          <a:pt x="141" y="58"/>
                        </a:lnTo>
                        <a:lnTo>
                          <a:pt x="143" y="68"/>
                        </a:lnTo>
                        <a:lnTo>
                          <a:pt x="143" y="76"/>
                        </a:lnTo>
                        <a:lnTo>
                          <a:pt x="141" y="89"/>
                        </a:lnTo>
                        <a:lnTo>
                          <a:pt x="135" y="97"/>
                        </a:lnTo>
                        <a:lnTo>
                          <a:pt x="132" y="107"/>
                        </a:lnTo>
                        <a:lnTo>
                          <a:pt x="132" y="116"/>
                        </a:lnTo>
                        <a:lnTo>
                          <a:pt x="126" y="118"/>
                        </a:lnTo>
                        <a:lnTo>
                          <a:pt x="119" y="123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6948360" y="4013280"/>
                    <a:ext cx="180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6">
                        <a:moveTo>
                          <a:pt x="5" y="14"/>
                        </a:moveTo>
                        <a:lnTo>
                          <a:pt x="2" y="11"/>
                        </a:lnTo>
                        <a:lnTo>
                          <a:pt x="2" y="9"/>
                        </a:lnTo>
                        <a:lnTo>
                          <a:pt x="2" y="6"/>
                        </a:lnTo>
                        <a:lnTo>
                          <a:pt x="1" y="4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5" y="2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10" y="0"/>
                        </a:lnTo>
                        <a:lnTo>
                          <a:pt x="10" y="6"/>
                        </a:lnTo>
                        <a:lnTo>
                          <a:pt x="9" y="9"/>
                        </a:lnTo>
                        <a:lnTo>
                          <a:pt x="8" y="11"/>
                        </a:lnTo>
                        <a:lnTo>
                          <a:pt x="8" y="13"/>
                        </a:lnTo>
                        <a:lnTo>
                          <a:pt x="7" y="14"/>
                        </a:lnTo>
                        <a:lnTo>
                          <a:pt x="7" y="15"/>
                        </a:lnTo>
                        <a:lnTo>
                          <a:pt x="5" y="14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19800" bIns="-19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6133680" y="3781440"/>
                    <a:ext cx="2628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60">
                        <a:moveTo>
                          <a:pt x="2" y="21"/>
                        </a:moveTo>
                        <a:lnTo>
                          <a:pt x="8" y="16"/>
                        </a:lnTo>
                        <a:lnTo>
                          <a:pt x="12" y="0"/>
                        </a:lnTo>
                        <a:lnTo>
                          <a:pt x="15" y="24"/>
                        </a:lnTo>
                        <a:lnTo>
                          <a:pt x="10" y="53"/>
                        </a:lnTo>
                        <a:lnTo>
                          <a:pt x="0" y="59"/>
                        </a:lnTo>
                        <a:lnTo>
                          <a:pt x="0" y="45"/>
                        </a:lnTo>
                        <a:lnTo>
                          <a:pt x="3" y="36"/>
                        </a:lnTo>
                        <a:lnTo>
                          <a:pt x="2" y="21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43" name=""/>
            <p:cNvSpPr/>
            <p:nvPr/>
          </p:nvSpPr>
          <p:spPr>
            <a:xfrm>
              <a:off x="7569360" y="2762280"/>
              <a:ext cx="1700640" cy="12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anchor="t">
              <a:spAutoFit/>
            </a:bodyPr>
            <a:p>
              <a:pPr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Geographi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Information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44" name=""/>
          <p:cNvGraphicFramePr/>
          <p:nvPr/>
        </p:nvGraphicFramePr>
        <p:xfrm>
          <a:off x="2943360" y="2862360"/>
          <a:ext cx="2533680" cy="1326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43360" y="2862360"/>
                    <a:ext cx="2533680" cy="1326960"/>
                  </a:xfrm>
                  <a:prstGeom prst="rect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  <a:effectLst>
                    <a:outerShdw dist="107932" dir="2700000" blurRad="0" rotWithShape="0">
                      <a:srgbClr val="1c1c1c"/>
                    </a:outerShdw>
                  </a:effectLst>
                </p:spPr>
              </p:pic>
            </p:oleObj>
          </a:graphicData>
        </a:graphic>
      </p:graphicFrame>
      <p:pic>
        <p:nvPicPr>
          <p:cNvPr id="446" name="a8-129" descr=""/>
          <p:cNvPicPr/>
          <p:nvPr/>
        </p:nvPicPr>
        <p:blipFill>
          <a:blip r:embed="rId8"/>
          <a:stretch/>
        </p:blipFill>
        <p:spPr>
          <a:xfrm>
            <a:off x="5857920" y="4989600"/>
            <a:ext cx="3200400" cy="14587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6124680" y="6383160"/>
            <a:ext cx="312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ilitary Applica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38400" y="6269040"/>
            <a:ext cx="22766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anchor="t">
            <a:sp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igital Biolog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frog" descr=""/>
          <p:cNvPicPr/>
          <p:nvPr/>
        </p:nvPicPr>
        <p:blipFill>
          <a:blip r:embed="rId9"/>
          <a:stretch/>
        </p:blipFill>
        <p:spPr>
          <a:xfrm>
            <a:off x="5019840" y="4075200"/>
            <a:ext cx="1361880" cy="1218960"/>
          </a:xfrm>
          <a:prstGeom prst="rect">
            <a:avLst/>
          </a:prstGeom>
          <a:ln w="0">
            <a:noFill/>
          </a:ln>
        </p:spPr>
      </p:pic>
      <p:pic>
        <p:nvPicPr>
          <p:cNvPr id="450" name="butterfly" descr=""/>
          <p:cNvPicPr/>
          <p:nvPr/>
        </p:nvPicPr>
        <p:blipFill>
          <a:blip r:embed="rId10"/>
          <a:stretch/>
        </p:blipFill>
        <p:spPr>
          <a:xfrm>
            <a:off x="3267000" y="4913280"/>
            <a:ext cx="2181240" cy="1295280"/>
          </a:xfrm>
          <a:prstGeom prst="rect">
            <a:avLst/>
          </a:prstGeom>
          <a:ln w="0">
            <a:noFill/>
          </a:ln>
        </p:spPr>
      </p:pic>
      <p:pic>
        <p:nvPicPr>
          <p:cNvPr id="451" name="HumanGenome" descr=""/>
          <p:cNvPicPr/>
          <p:nvPr/>
        </p:nvPicPr>
        <p:blipFill>
          <a:blip r:embed="rId11"/>
          <a:stretch/>
        </p:blipFill>
        <p:spPr>
          <a:xfrm>
            <a:off x="1666800" y="2627280"/>
            <a:ext cx="176364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calable Parallel Computer Architectur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axonomy 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ased on how processors, memory &amp; interconnect are laid ou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Massively Parallel Processors (MPP)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ymmetric Multiprocessors (SMP)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ache-Coherent Nonuniform Memory Access (CC-NUMA)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Distributed System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uster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presentative Cluster System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e Berkeley Network of Workstations (NOW) Project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nstrate building of a large-scale parallel computer system using mass produced commercial workstations &amp; the latest commodity switch-based network compon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process commun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tive Messages (A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sic communication primitives in Berkeley NO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simplified remote procedure call that can be implemented efficiently on a wide range of hardwa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obal Layer Unix (GLUnix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 OS layer designed to provide transparent remote execution, support for interactive parallel &amp; sequential jobs, load balancing, &amp; backward compatibility for existing application binar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im to provide a cluster-wide namespace and uses Network PIDs (NPIDs), and Virtual Node Numbers (VNN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rchitecture of NOW System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455" name="bnow" descr=""/>
          <p:cNvPicPr/>
          <p:nvPr/>
        </p:nvPicPr>
        <p:blipFill>
          <a:blip r:embed="rId1"/>
          <a:srcRect l="0" t="5201" r="0" b="5201"/>
          <a:stretch/>
        </p:blipFill>
        <p:spPr>
          <a:xfrm>
            <a:off x="152280" y="1828800"/>
            <a:ext cx="880128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presentative Cluster System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e Berkeley Network of Workstations (NOW) Project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 R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ow to utilize free resources on idle machines as a paging device for busy machin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erles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y machine can be a server when it is idle, or a client when it needs more memory than physically availab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FS: Serverless Network File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serverless, distributed file system, which attempt to have low latency, high bandwidth access to file system data by distributing the functionality of the server among the client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function of locating data in xFS is distributed by having each client responsible for servicing requests on a subset of the fil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le data is striped across multiple clients to provide high bandwid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presentative Cluster System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 High Performance Virtual Machine (HPVM) Projec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liver supercomputer performance on a low cost COTS syste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ide the complexities of a distributed system behind a clean interfa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hallenges addressed by HPV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ivering high performance communication to standard, high-level AP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ordinating scheduling and resource manag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aging heterogene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PVM Layered Archite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762120" y="1523880"/>
            <a:ext cx="7772040" cy="5105160"/>
            <a:chOff x="762120" y="1523880"/>
            <a:chExt cx="7772040" cy="5105160"/>
          </a:xfrm>
        </p:grpSpPr>
        <p:pic>
          <p:nvPicPr>
            <p:cNvPr id="462" name="hpvm" descr=""/>
            <p:cNvPicPr/>
            <p:nvPr/>
          </p:nvPicPr>
          <p:blipFill>
            <a:blip r:embed="rId1"/>
            <a:srcRect l="1039" t="8517" r="1039" b="7038"/>
            <a:stretch/>
          </p:blipFill>
          <p:spPr>
            <a:xfrm>
              <a:off x="762120" y="1523880"/>
              <a:ext cx="777204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844200" y="6450120"/>
              <a:ext cx="760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presentative Cluster System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e High Performance Virtual Machine (HPVM) Project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ast Messages (FM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high bandwidth &amp; low-latency comm protocol, based on Berkeley 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ains functions for sending long and short messages &amp; for extracting messages from the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uarantees and controls the memory hierarch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uarantees reliable and ordered packet delivery as well as control over the scheduling of communication 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iginally developed on a Cray T3D &amp; a cluster of SPARCstations connected by Myrinet hardwa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w-level software interface that delivery hardware communication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-level layers interface offer greater functionality, application portability, and ease of u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presentative Cluster System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he Beowulf Project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vestigate the potential of PC clusters for performing computational task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er to a Pile-of-PCs (PoPC) to describe a loose ensemble or cluster of P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phasize the use of mass-market commodity components, dedicated processors, and the use of a private communication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hieve the best overall system cost/performance ratio for the clus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presentative Cluster Systems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e Beowulf Project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 Softwa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ndel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collection of software tool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source management &amp; support distributed application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rough TCP/IP over Ethernet internal to clust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ploy multiple Ethernet networks in parallel to satisfy the internal data transfer bandwidth requi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hieved by ‘channel binding’ techniqu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tend the Linux kernel to allow a loose ensemble of nodes to participate in a number of global namespac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wo Global Process ID (GPID) schem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dependent of external librari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PID-PVM compatible with PVM Task ID format &amp; uses PVM as its signal transpor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presentative Cluster Systems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olaris MC: A High Performance Operating System for Cluster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distributed OS for a multicomputer, a cluster of computing nodes connected by a high-speed interconnec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vide a single system image, making the cluster appear like a single machine to the user, to applications, and the the network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uilt as a globalization layer on top of the existing Solaris kern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teresting featur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tends existing Solaris 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serves the existing Solaris ABI/API compli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s support for high availa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s C++, IDL, CORBA in the kern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verages spring technolog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olaris MC Archite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473" name="solarismc" descr=""/>
          <p:cNvPicPr/>
          <p:nvPr/>
        </p:nvPicPr>
        <p:blipFill>
          <a:blip r:embed="rId1"/>
          <a:srcRect l="1906" t="4165" r="950" b="5559"/>
          <a:stretch/>
        </p:blipFill>
        <p:spPr>
          <a:xfrm>
            <a:off x="762120" y="1600200"/>
            <a:ext cx="77724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calable Parallel Computer Architectur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PP 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large parallel processing system with a shared-nothing architectur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nsist of several hundred nodes with a high-speed interconnection network/switch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ach node consists of a main memory &amp; one or more processor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ns a separate copy of the 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MP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2-64 processors toda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hared-everything architectur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l processors share all the global resources availabl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ingle copy of the OS runs on these syste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presentative Cluster Systems (V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olaris MC: A High Performance Operating System for Cluster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an object-oriented framework for communication between nod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sed on CORB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remote object method invo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object reference coun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port multiple object handl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ingle system image featur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obal file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tributed file system, called ProXy File System (PXFS), provides a globalized file system without need for modifying the existing file syst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obalized process manag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obalized network and I/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System Comparison Matrix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152280" y="1523880"/>
          <a:ext cx="8839440" cy="4969080"/>
        </p:xfrm>
        <a:graphic>
          <a:graphicData uri="http://schemas.openxmlformats.org/drawingml/2006/table">
            <a:tbl>
              <a:tblPr/>
              <a:tblGrid>
                <a:gridCol w="1524240"/>
                <a:gridCol w="1676160"/>
                <a:gridCol w="2286000"/>
                <a:gridCol w="1584360"/>
                <a:gridCol w="17686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rojec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atfor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mmunic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Beowu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ultiple Ethernet with TCP/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nux and Gren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PI/PVM. Sockets and HP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Berkeley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laris-based PCs and work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rinet and Active Mess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laris + GLUnix + x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, PVM, MPI, HPF, Split-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HPV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rinet with Fast Mess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T or Linux connection and global resource manager + LS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ava-fronted, FM, Sockets, Global Arrays, SHEMEM and MP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olaris 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laris-based PCs and work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laris-sup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laris + Globalization lay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++ and COR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of SMPs (CLUMPS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usters of multiprocessors (CLUMPS)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o be the supercomputers of the futur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ultiple SMPs with several network interfaces can be connected using high performance network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2 advantag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efit from the high performance, easy-to-use-and program SMP systems with a small number of CP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usters can be set up with moderate effort, resulting in easier administration and better support for data locality inside a n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ardware and Software Trend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Network performance increase of tenfold using 100BaseT Ethernet with full duplex support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e availability of switched network circuits, including full crossbar switches for proprietary network technologies such as Myrinet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Workstation performance has improved significantly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Improvement of microprocessor performance has led to the availability of desktop PCs with performance of low-end workstations at significant low cost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Performance gap between supercomputer and commodity-based clusters is closing rapidly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Parallel supercomputers are now equipped with COTS components, especially microprocessor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Increasing usage of SMP nodes with two to four processor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e average number of transistors on a chip is growing by about 40% per annum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e clock frequency growth rate is about 30% per annum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cpuPerf" descr=""/>
          <p:cNvPicPr/>
          <p:nvPr/>
        </p:nvPicPr>
        <p:blipFill>
          <a:blip r:embed="rId1"/>
          <a:stretch/>
        </p:blipFill>
        <p:spPr>
          <a:xfrm>
            <a:off x="1038240" y="1447920"/>
            <a:ext cx="7115040" cy="521496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echnology Trend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dvantages of using COTS-based Cluster Syste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925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Price/performance when compared with a dedicated parallel supercomputer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Incremental growth that often matches yearly funding pattern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 provision of a multipurpose system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OFCBLD03" descr=""/>
          <p:cNvPicPr/>
          <p:nvPr/>
        </p:nvPicPr>
        <p:blipFill>
          <a:blip r:embed="rId1"/>
          <a:stretch/>
        </p:blipFill>
        <p:spPr>
          <a:xfrm>
            <a:off x="4664160" y="1757520"/>
            <a:ext cx="1182600" cy="985680"/>
          </a:xfrm>
          <a:prstGeom prst="rect">
            <a:avLst/>
          </a:prstGeom>
          <a:ln w="0">
            <a:noFill/>
          </a:ln>
        </p:spPr>
      </p:pic>
      <p:grpSp>
        <p:nvGrpSpPr>
          <p:cNvPr id="487" name=""/>
          <p:cNvGrpSpPr/>
          <p:nvPr/>
        </p:nvGrpSpPr>
        <p:grpSpPr>
          <a:xfrm>
            <a:off x="814320" y="4307040"/>
            <a:ext cx="1717560" cy="1179360"/>
            <a:chOff x="814320" y="4307040"/>
            <a:chExt cx="1717560" cy="1179360"/>
          </a:xfrm>
        </p:grpSpPr>
        <p:grpSp>
          <p:nvGrpSpPr>
            <p:cNvPr id="488" name=""/>
            <p:cNvGrpSpPr/>
            <p:nvPr/>
          </p:nvGrpSpPr>
          <p:grpSpPr>
            <a:xfrm>
              <a:off x="1190160" y="5210280"/>
              <a:ext cx="1056240" cy="199800"/>
              <a:chOff x="1190160" y="5210280"/>
              <a:chExt cx="1056240" cy="199800"/>
            </a:xfrm>
          </p:grpSpPr>
          <p:grpSp>
            <p:nvGrpSpPr>
              <p:cNvPr id="489" name=""/>
              <p:cNvGrpSpPr/>
              <p:nvPr/>
            </p:nvGrpSpPr>
            <p:grpSpPr>
              <a:xfrm>
                <a:off x="1190160" y="5210280"/>
                <a:ext cx="1056240" cy="199800"/>
                <a:chOff x="1190160" y="5210280"/>
                <a:chExt cx="1056240" cy="19980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1196280" y="5381640"/>
                  <a:ext cx="1040400" cy="284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190160" y="5210280"/>
                  <a:ext cx="1056240" cy="169920"/>
                </a:xfrm>
                <a:custGeom>
                  <a:avLst/>
                  <a:gdLst/>
                  <a:ahLst/>
                  <a:rect l="l" t="t" r="r" b="b"/>
                  <a:pathLst>
                    <a:path w="666" h="107">
                      <a:moveTo>
                        <a:pt x="0" y="106"/>
                      </a:moveTo>
                      <a:lnTo>
                        <a:pt x="665" y="106"/>
                      </a:lnTo>
                      <a:lnTo>
                        <a:pt x="626" y="1"/>
                      </a:lnTo>
                      <a:lnTo>
                        <a:pt x="49" y="0"/>
                      </a:lnTo>
                      <a:lnTo>
                        <a:pt x="0" y="10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221480" y="5229360"/>
                  <a:ext cx="988200" cy="128520"/>
                </a:xfrm>
                <a:custGeom>
                  <a:avLst/>
                  <a:gdLst/>
                  <a:ahLst/>
                  <a:rect l="l" t="t" r="r" b="b"/>
                  <a:pathLst>
                    <a:path w="623" h="81">
                      <a:moveTo>
                        <a:pt x="35" y="0"/>
                      </a:moveTo>
                      <a:lnTo>
                        <a:pt x="0" y="80"/>
                      </a:lnTo>
                      <a:lnTo>
                        <a:pt x="622" y="80"/>
                      </a:lnTo>
                      <a:lnTo>
                        <a:pt x="593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1304280" y="5226120"/>
                <a:ext cx="831960" cy="39600"/>
                <a:chOff x="1304280" y="5226120"/>
                <a:chExt cx="831960" cy="3960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1304280" y="5226120"/>
                  <a:ext cx="36000" cy="27000"/>
                </a:xfrm>
                <a:custGeom>
                  <a:avLst/>
                  <a:gdLst/>
                  <a:ahLst/>
                  <a:rect l="l" t="t" r="r" b="b"/>
                  <a:pathLst>
                    <a:path w="23" h="17">
                      <a:moveTo>
                        <a:pt x="6" y="0"/>
                      </a:moveTo>
                      <a:lnTo>
                        <a:pt x="22" y="0"/>
                      </a:lnTo>
                      <a:lnTo>
                        <a:pt x="17" y="16"/>
                      </a:lnTo>
                      <a:lnTo>
                        <a:pt x="0" y="16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386360" y="5226120"/>
                  <a:ext cx="131400" cy="23760"/>
                </a:xfrm>
                <a:custGeom>
                  <a:avLst/>
                  <a:gdLst/>
                  <a:ahLst/>
                  <a:rect l="l" t="t" r="r" b="b"/>
                  <a:pathLst>
                    <a:path w="83" h="15">
                      <a:moveTo>
                        <a:pt x="4" y="0"/>
                      </a:moveTo>
                      <a:lnTo>
                        <a:pt x="82" y="0"/>
                      </a:lnTo>
                      <a:lnTo>
                        <a:pt x="79" y="14"/>
                      </a:lnTo>
                      <a:lnTo>
                        <a:pt x="0" y="14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1553040" y="5226120"/>
                  <a:ext cx="126720" cy="27000"/>
                </a:xfrm>
                <a:custGeom>
                  <a:avLst/>
                  <a:gdLst/>
                  <a:ahLst/>
                  <a:rect l="l" t="t" r="r" b="b"/>
                  <a:pathLst>
                    <a:path w="80" h="17">
                      <a:moveTo>
                        <a:pt x="3" y="0"/>
                      </a:moveTo>
                      <a:lnTo>
                        <a:pt x="79" y="0"/>
                      </a:lnTo>
                      <a:lnTo>
                        <a:pt x="78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1703520" y="5226120"/>
                  <a:ext cx="129960" cy="27000"/>
                </a:xfrm>
                <a:custGeom>
                  <a:avLst/>
                  <a:gdLst/>
                  <a:ahLst/>
                  <a:rect l="l" t="t" r="r" b="b"/>
                  <a:pathLst>
                    <a:path w="82" h="17">
                      <a:moveTo>
                        <a:pt x="1" y="0"/>
                      </a:moveTo>
                      <a:lnTo>
                        <a:pt x="81" y="0"/>
                      </a:lnTo>
                      <a:lnTo>
                        <a:pt x="81" y="16"/>
                      </a:lnTo>
                      <a:lnTo>
                        <a:pt x="0" y="16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857600" y="5226120"/>
                  <a:ext cx="112320" cy="28440"/>
                </a:xfrm>
                <a:custGeom>
                  <a:avLst/>
                  <a:gdLst/>
                  <a:ahLst/>
                  <a:rect l="l" t="t" r="r" b="b"/>
                  <a:pathLst>
                    <a:path w="71" h="18">
                      <a:moveTo>
                        <a:pt x="0" y="0"/>
                      </a:moveTo>
                      <a:lnTo>
                        <a:pt x="68" y="0"/>
                      </a:lnTo>
                      <a:lnTo>
                        <a:pt x="70" y="17"/>
                      </a:lnTo>
                      <a:lnTo>
                        <a:pt x="0" y="1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1998360" y="5241960"/>
                  <a:ext cx="137880" cy="23760"/>
                </a:xfrm>
                <a:custGeom>
                  <a:avLst/>
                  <a:gdLst/>
                  <a:ahLst/>
                  <a:rect l="l" t="t" r="r" b="b"/>
                  <a:pathLst>
                    <a:path w="87" h="15">
                      <a:moveTo>
                        <a:pt x="0" y="0"/>
                      </a:moveTo>
                      <a:lnTo>
                        <a:pt x="78" y="0"/>
                      </a:lnTo>
                      <a:lnTo>
                        <a:pt x="86" y="14"/>
                      </a:lnTo>
                      <a:lnTo>
                        <a:pt x="4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1278720" y="5270400"/>
                <a:ext cx="860400" cy="66960"/>
                <a:chOff x="1278720" y="5270400"/>
                <a:chExt cx="860400" cy="66960"/>
              </a:xfrm>
            </p:grpSpPr>
            <p:grpSp>
              <p:nvGrpSpPr>
                <p:cNvPr id="501" name=""/>
                <p:cNvGrpSpPr/>
                <p:nvPr/>
              </p:nvGrpSpPr>
              <p:grpSpPr>
                <a:xfrm>
                  <a:off x="1354680" y="5273640"/>
                  <a:ext cx="419400" cy="57240"/>
                  <a:chOff x="1354680" y="5273640"/>
                  <a:chExt cx="419400" cy="5724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>
                    <a:off x="1354680" y="5273640"/>
                    <a:ext cx="396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1371600" y="5292720"/>
                    <a:ext cx="402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1376640" y="5311800"/>
                    <a:ext cx="348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1384560" y="5330880"/>
                    <a:ext cx="36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6" name=""/>
                <p:cNvGrpSpPr/>
                <p:nvPr/>
              </p:nvGrpSpPr>
              <p:grpSpPr>
                <a:xfrm>
                  <a:off x="1278720" y="5281560"/>
                  <a:ext cx="60120" cy="38160"/>
                  <a:chOff x="1278720" y="5281560"/>
                  <a:chExt cx="60120" cy="3816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>
                    <a:off x="1297440" y="5281560"/>
                    <a:ext cx="28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1289520" y="5302440"/>
                    <a:ext cx="26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1278720" y="5319720"/>
                    <a:ext cx="60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0" name=""/>
                <p:cNvGrpSpPr/>
                <p:nvPr/>
              </p:nvGrpSpPr>
              <p:grpSpPr>
                <a:xfrm>
                  <a:off x="1446840" y="5270400"/>
                  <a:ext cx="381240" cy="61920"/>
                  <a:chOff x="1446840" y="5270400"/>
                  <a:chExt cx="381240" cy="61920"/>
                </a:xfrm>
              </p:grpSpPr>
              <p:sp>
                <p:nvSpPr>
                  <p:cNvPr id="511" name=""/>
                  <p:cNvSpPr/>
                  <p:nvPr/>
                </p:nvSpPr>
                <p:spPr>
                  <a:xfrm>
                    <a:off x="1446840" y="5330880"/>
                    <a:ext cx="234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1782360" y="5270400"/>
                    <a:ext cx="45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1798560" y="5292720"/>
                    <a:ext cx="2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1766520" y="5313240"/>
                    <a:ext cx="61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1703160" y="5330880"/>
                    <a:ext cx="26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1755360" y="5332320"/>
                    <a:ext cx="71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1863360" y="5281560"/>
                  <a:ext cx="109080" cy="52560"/>
                  <a:chOff x="1863360" y="5281560"/>
                  <a:chExt cx="109080" cy="5256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>
                    <a:off x="1863360" y="5281560"/>
                    <a:ext cx="102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1878840" y="5307120"/>
                    <a:ext cx="90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1880640" y="5334120"/>
                    <a:ext cx="91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1" name=""/>
                <p:cNvGrpSpPr/>
                <p:nvPr/>
              </p:nvGrpSpPr>
              <p:grpSpPr>
                <a:xfrm>
                  <a:off x="2006280" y="5281560"/>
                  <a:ext cx="132840" cy="55800"/>
                  <a:chOff x="2006280" y="5281560"/>
                  <a:chExt cx="132840" cy="5580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>
                    <a:off x="2017080" y="5281560"/>
                    <a:ext cx="97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2006280" y="5303880"/>
                    <a:ext cx="77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2017080" y="5319720"/>
                    <a:ext cx="70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2012400" y="5337360"/>
                    <a:ext cx="91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2115360" y="530388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2125080" y="532944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28" name=""/>
            <p:cNvGrpSpPr/>
            <p:nvPr/>
          </p:nvGrpSpPr>
          <p:grpSpPr>
            <a:xfrm>
              <a:off x="2252880" y="5319720"/>
              <a:ext cx="279000" cy="166680"/>
              <a:chOff x="2252880" y="5319720"/>
              <a:chExt cx="279000" cy="166680"/>
            </a:xfrm>
          </p:grpSpPr>
          <p:sp>
            <p:nvSpPr>
              <p:cNvPr id="529" name=""/>
              <p:cNvSpPr/>
              <p:nvPr/>
            </p:nvSpPr>
            <p:spPr>
              <a:xfrm>
                <a:off x="2252880" y="5319720"/>
                <a:ext cx="279000" cy="111240"/>
              </a:xfrm>
              <a:custGeom>
                <a:avLst/>
                <a:gdLst/>
                <a:ahLst/>
                <a:rect l="l" t="t" r="r" b="b"/>
                <a:pathLst>
                  <a:path w="176" h="70">
                    <a:moveTo>
                      <a:pt x="0" y="0"/>
                    </a:moveTo>
                    <a:lnTo>
                      <a:pt x="33" y="3"/>
                    </a:lnTo>
                    <a:lnTo>
                      <a:pt x="57" y="5"/>
                    </a:lnTo>
                    <a:lnTo>
                      <a:pt x="78" y="8"/>
                    </a:lnTo>
                    <a:lnTo>
                      <a:pt x="100" y="13"/>
                    </a:lnTo>
                    <a:lnTo>
                      <a:pt x="115" y="16"/>
                    </a:lnTo>
                    <a:lnTo>
                      <a:pt x="134" y="21"/>
                    </a:lnTo>
                    <a:lnTo>
                      <a:pt x="144" y="24"/>
                    </a:lnTo>
                    <a:lnTo>
                      <a:pt x="152" y="26"/>
                    </a:lnTo>
                    <a:lnTo>
                      <a:pt x="156" y="28"/>
                    </a:lnTo>
                    <a:lnTo>
                      <a:pt x="160" y="29"/>
                    </a:lnTo>
                    <a:lnTo>
                      <a:pt x="164" y="31"/>
                    </a:lnTo>
                    <a:lnTo>
                      <a:pt x="169" y="34"/>
                    </a:lnTo>
                    <a:lnTo>
                      <a:pt x="173" y="37"/>
                    </a:lnTo>
                    <a:lnTo>
                      <a:pt x="175" y="41"/>
                    </a:lnTo>
                    <a:lnTo>
                      <a:pt x="175" y="44"/>
                    </a:lnTo>
                    <a:lnTo>
                      <a:pt x="174" y="48"/>
                    </a:lnTo>
                    <a:lnTo>
                      <a:pt x="173" y="53"/>
                    </a:lnTo>
                    <a:lnTo>
                      <a:pt x="171" y="57"/>
                    </a:lnTo>
                    <a:lnTo>
                      <a:pt x="168" y="60"/>
                    </a:lnTo>
                    <a:lnTo>
                      <a:pt x="164" y="64"/>
                    </a:lnTo>
                    <a:lnTo>
                      <a:pt x="160" y="66"/>
                    </a:lnTo>
                    <a:lnTo>
                      <a:pt x="155" y="67"/>
                    </a:lnTo>
                    <a:lnTo>
                      <a:pt x="150" y="69"/>
                    </a:lnTo>
                    <a:lnTo>
                      <a:pt x="143" y="69"/>
                    </a:lnTo>
                    <a:lnTo>
                      <a:pt x="137" y="68"/>
                    </a:lnTo>
                    <a:lnTo>
                      <a:pt x="127" y="66"/>
                    </a:lnTo>
                  </a:path>
                </a:pathLst>
              </a:custGeom>
              <a:noFill/>
              <a:ln cap="rnd" w="255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0" name=""/>
              <p:cNvGrpSpPr/>
              <p:nvPr/>
            </p:nvGrpSpPr>
            <p:grpSpPr>
              <a:xfrm>
                <a:off x="2265120" y="5375160"/>
                <a:ext cx="192960" cy="111240"/>
                <a:chOff x="2265120" y="5375160"/>
                <a:chExt cx="192960" cy="111240"/>
              </a:xfrm>
            </p:grpSpPr>
            <p:grpSp>
              <p:nvGrpSpPr>
                <p:cNvPr id="531" name=""/>
                <p:cNvGrpSpPr/>
                <p:nvPr/>
              </p:nvGrpSpPr>
              <p:grpSpPr>
                <a:xfrm>
                  <a:off x="2265120" y="5375160"/>
                  <a:ext cx="192960" cy="111240"/>
                  <a:chOff x="2265120" y="5375160"/>
                  <a:chExt cx="192960" cy="11124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>
                    <a:off x="2265120" y="5375160"/>
                    <a:ext cx="1188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44">
                        <a:moveTo>
                          <a:pt x="0" y="26"/>
                        </a:moveTo>
                        <a:lnTo>
                          <a:pt x="19" y="0"/>
                        </a:lnTo>
                        <a:lnTo>
                          <a:pt x="74" y="14"/>
                        </a:lnTo>
                        <a:lnTo>
                          <a:pt x="52" y="43"/>
                        </a:lnTo>
                        <a:lnTo>
                          <a:pt x="0" y="26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2265120" y="5418360"/>
                    <a:ext cx="8388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43">
                        <a:moveTo>
                          <a:pt x="0" y="0"/>
                        </a:moveTo>
                        <a:lnTo>
                          <a:pt x="0" y="23"/>
                        </a:lnTo>
                        <a:lnTo>
                          <a:pt x="1" y="23"/>
                        </a:lnTo>
                        <a:lnTo>
                          <a:pt x="52" y="42"/>
                        </a:lnTo>
                        <a:lnTo>
                          <a:pt x="52" y="1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2350440" y="5400720"/>
                    <a:ext cx="1076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4">
                        <a:moveTo>
                          <a:pt x="0" y="29"/>
                        </a:moveTo>
                        <a:lnTo>
                          <a:pt x="21" y="0"/>
                        </a:lnTo>
                        <a:lnTo>
                          <a:pt x="67" y="8"/>
                        </a:lnTo>
                        <a:lnTo>
                          <a:pt x="67" y="29"/>
                        </a:lnTo>
                        <a:lnTo>
                          <a:pt x="0" y="53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2296440" y="5375160"/>
                    <a:ext cx="1616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22">
                        <a:moveTo>
                          <a:pt x="0" y="0"/>
                        </a:moveTo>
                        <a:lnTo>
                          <a:pt x="51" y="5"/>
                        </a:lnTo>
                        <a:lnTo>
                          <a:pt x="101" y="21"/>
                        </a:lnTo>
                        <a:lnTo>
                          <a:pt x="55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6" name=""/>
                <p:cNvGrpSpPr/>
                <p:nvPr/>
              </p:nvGrpSpPr>
              <p:grpSpPr>
                <a:xfrm>
                  <a:off x="2271240" y="5403600"/>
                  <a:ext cx="178560" cy="58680"/>
                  <a:chOff x="2271240" y="5403600"/>
                  <a:chExt cx="178560" cy="58680"/>
                </a:xfrm>
              </p:grpSpPr>
              <p:sp>
                <p:nvSpPr>
                  <p:cNvPr id="537" name=""/>
                  <p:cNvSpPr/>
                  <p:nvPr/>
                </p:nvSpPr>
                <p:spPr>
                  <a:xfrm>
                    <a:off x="2271240" y="5434200"/>
                    <a:ext cx="72360" cy="1584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 flipV="1">
                    <a:off x="2358000" y="5403600"/>
                    <a:ext cx="20160" cy="58680"/>
                  </a:xfrm>
                  <a:prstGeom prst="line">
                    <a:avLst/>
                  </a:prstGeom>
                  <a:ln w="12600">
                    <a:solidFill>
                      <a:srgbClr val="606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2392920" y="5410080"/>
                    <a:ext cx="56880" cy="6480"/>
                  </a:xfrm>
                  <a:prstGeom prst="line">
                    <a:avLst/>
                  </a:prstGeom>
                  <a:ln w="12600">
                    <a:solidFill>
                      <a:srgbClr val="606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40" name=""/>
            <p:cNvGrpSpPr/>
            <p:nvPr/>
          </p:nvGrpSpPr>
          <p:grpSpPr>
            <a:xfrm>
              <a:off x="1432800" y="5106960"/>
              <a:ext cx="559800" cy="96840"/>
              <a:chOff x="1432800" y="5106960"/>
              <a:chExt cx="559800" cy="96840"/>
            </a:xfrm>
          </p:grpSpPr>
          <p:sp>
            <p:nvSpPr>
              <p:cNvPr id="541" name=""/>
              <p:cNvSpPr/>
              <p:nvPr/>
            </p:nvSpPr>
            <p:spPr>
              <a:xfrm>
                <a:off x="1432800" y="5106960"/>
                <a:ext cx="559800" cy="54000"/>
              </a:xfrm>
              <a:custGeom>
                <a:avLst/>
                <a:gdLst/>
                <a:ahLst/>
                <a:rect l="l" t="t" r="r" b="b"/>
                <a:pathLst>
                  <a:path w="353" h="34">
                    <a:moveTo>
                      <a:pt x="0" y="33"/>
                    </a:moveTo>
                    <a:lnTo>
                      <a:pt x="352" y="33"/>
                    </a:lnTo>
                    <a:lnTo>
                      <a:pt x="332" y="0"/>
                    </a:lnTo>
                    <a:lnTo>
                      <a:pt x="21" y="0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437120" y="5164200"/>
                <a:ext cx="546840" cy="396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1562760" y="5060880"/>
              <a:ext cx="299880" cy="100080"/>
            </a:xfrm>
            <a:custGeom>
              <a:avLst/>
              <a:gdLst/>
              <a:ahLst/>
              <a:rect l="l" t="t" r="r" b="b"/>
              <a:pathLst>
                <a:path w="189" h="63">
                  <a:moveTo>
                    <a:pt x="0" y="35"/>
                  </a:moveTo>
                  <a:lnTo>
                    <a:pt x="0" y="0"/>
                  </a:lnTo>
                  <a:lnTo>
                    <a:pt x="188" y="0"/>
                  </a:lnTo>
                  <a:lnTo>
                    <a:pt x="188" y="36"/>
                  </a:lnTo>
                  <a:lnTo>
                    <a:pt x="187" y="39"/>
                  </a:lnTo>
                  <a:lnTo>
                    <a:pt x="185" y="42"/>
                  </a:lnTo>
                  <a:lnTo>
                    <a:pt x="182" y="45"/>
                  </a:lnTo>
                  <a:lnTo>
                    <a:pt x="178" y="47"/>
                  </a:lnTo>
                  <a:lnTo>
                    <a:pt x="172" y="50"/>
                  </a:lnTo>
                  <a:lnTo>
                    <a:pt x="167" y="52"/>
                  </a:lnTo>
                  <a:lnTo>
                    <a:pt x="161" y="54"/>
                  </a:lnTo>
                  <a:lnTo>
                    <a:pt x="154" y="56"/>
                  </a:lnTo>
                  <a:lnTo>
                    <a:pt x="148" y="57"/>
                  </a:lnTo>
                  <a:lnTo>
                    <a:pt x="138" y="59"/>
                  </a:lnTo>
                  <a:lnTo>
                    <a:pt x="130" y="60"/>
                  </a:lnTo>
                  <a:lnTo>
                    <a:pt x="122" y="61"/>
                  </a:lnTo>
                  <a:lnTo>
                    <a:pt x="113" y="62"/>
                  </a:lnTo>
                  <a:lnTo>
                    <a:pt x="102" y="62"/>
                  </a:lnTo>
                  <a:lnTo>
                    <a:pt x="89" y="62"/>
                  </a:lnTo>
                  <a:lnTo>
                    <a:pt x="77" y="62"/>
                  </a:lnTo>
                  <a:lnTo>
                    <a:pt x="66" y="61"/>
                  </a:lnTo>
                  <a:lnTo>
                    <a:pt x="55" y="60"/>
                  </a:lnTo>
                  <a:lnTo>
                    <a:pt x="46" y="59"/>
                  </a:lnTo>
                  <a:lnTo>
                    <a:pt x="39" y="57"/>
                  </a:lnTo>
                  <a:lnTo>
                    <a:pt x="31" y="55"/>
                  </a:lnTo>
                  <a:lnTo>
                    <a:pt x="24" y="53"/>
                  </a:lnTo>
                  <a:lnTo>
                    <a:pt x="17" y="51"/>
                  </a:lnTo>
                  <a:lnTo>
                    <a:pt x="12" y="48"/>
                  </a:lnTo>
                  <a:lnTo>
                    <a:pt x="8" y="46"/>
                  </a:lnTo>
                  <a:lnTo>
                    <a:pt x="5" y="43"/>
                  </a:lnTo>
                  <a:lnTo>
                    <a:pt x="3" y="41"/>
                  </a:lnTo>
                  <a:lnTo>
                    <a:pt x="1" y="38"/>
                  </a:lnTo>
                  <a:lnTo>
                    <a:pt x="0" y="3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369080" y="4307040"/>
              <a:ext cx="682200" cy="766800"/>
            </a:xfrm>
            <a:custGeom>
              <a:avLst/>
              <a:gdLst>
                <a:gd name="textAreaLeft" fmla="*/ 3960 w 682200"/>
                <a:gd name="textAreaRight" fmla="*/ 678240 w 682200"/>
                <a:gd name="textAreaTop" fmla="*/ 3960 h 766800"/>
                <a:gd name="textAreaBottom" fmla="*/ 762840 h 766800"/>
              </a:gdLst>
              <a:ahLst/>
              <a:rect l="textAreaLeft" t="textAreaTop" r="textAreaRight" b="textAreaBottom"/>
              <a:pathLst>
                <a:path w="21600" h="24277">
                  <a:moveTo>
                    <a:pt x="458" y="0"/>
                  </a:moveTo>
                  <a:arcTo wR="458" hR="458" stAng="16200000" swAng="-5400000"/>
                  <a:lnTo>
                    <a:pt x="0" y="23819"/>
                  </a:lnTo>
                  <a:arcTo wR="458" hR="458" stAng="10800000" swAng="-5400000"/>
                  <a:lnTo>
                    <a:pt x="21142" y="24277"/>
                  </a:lnTo>
                  <a:arcTo wR="458" hR="458" stAng="5400000" swAng="-5400000"/>
                  <a:lnTo>
                    <a:pt x="21600" y="458"/>
                  </a:lnTo>
                  <a:arcTo wR="458" hR="458" stAng="0" swAng="-5400000"/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416960" y="4367160"/>
              <a:ext cx="597600" cy="636840"/>
            </a:xfrm>
            <a:custGeom>
              <a:avLst/>
              <a:gdLst>
                <a:gd name="textAreaLeft" fmla="*/ 29160 w 597600"/>
                <a:gd name="textAreaRight" fmla="*/ 568440 w 597600"/>
                <a:gd name="textAreaTop" fmla="*/ 29160 h 636840"/>
                <a:gd name="textAreaBottom" fmla="*/ 607680 h 636840"/>
              </a:gdLst>
              <a:ahLst/>
              <a:rect l="textAreaLeft" t="textAreaTop" r="textAreaRight" b="textAreaBottom"/>
              <a:pathLst>
                <a:path w="21600" h="23017">
                  <a:moveTo>
                    <a:pt x="3600" y="0"/>
                  </a:moveTo>
                  <a:arcTo wR="3600" hR="3600" stAng="16200000" swAng="-5400000"/>
                  <a:lnTo>
                    <a:pt x="0" y="19417"/>
                  </a:lnTo>
                  <a:arcTo wR="3600" hR="3600" stAng="10800000" swAng="-5400000"/>
                  <a:lnTo>
                    <a:pt x="18000" y="23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431000" y="5043600"/>
              <a:ext cx="61560" cy="9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91720" y="4449960"/>
              <a:ext cx="191880" cy="261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814320" y="4390920"/>
              <a:ext cx="278640" cy="1051200"/>
              <a:chOff x="814320" y="4390920"/>
              <a:chExt cx="278640" cy="1051200"/>
            </a:xfrm>
          </p:grpSpPr>
          <p:sp>
            <p:nvSpPr>
              <p:cNvPr id="549" name=""/>
              <p:cNvSpPr/>
              <p:nvPr/>
            </p:nvSpPr>
            <p:spPr>
              <a:xfrm>
                <a:off x="887040" y="4392720"/>
                <a:ext cx="205920" cy="10396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14320" y="4390920"/>
                <a:ext cx="68040" cy="1051200"/>
              </a:xfrm>
              <a:custGeom>
                <a:avLst/>
                <a:gdLst/>
                <a:ahLst/>
                <a:rect l="l" t="t" r="r" b="b"/>
                <a:pathLst>
                  <a:path w="43" h="662">
                    <a:moveTo>
                      <a:pt x="42" y="0"/>
                    </a:moveTo>
                    <a:lnTo>
                      <a:pt x="42" y="661"/>
                    </a:lnTo>
                    <a:lnTo>
                      <a:pt x="0" y="598"/>
                    </a:lnTo>
                    <a:lnTo>
                      <a:pt x="0" y="70"/>
                    </a:lnTo>
                    <a:lnTo>
                      <a:pt x="42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869400" y="4415040"/>
              <a:ext cx="0" cy="10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909360" y="5113440"/>
              <a:ext cx="165960" cy="261720"/>
              <a:chOff x="909360" y="5113440"/>
              <a:chExt cx="165960" cy="26172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909360" y="5113440"/>
                <a:ext cx="58320" cy="261720"/>
                <a:chOff x="909360" y="5113440"/>
                <a:chExt cx="58320" cy="26172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909360" y="5330880"/>
                  <a:ext cx="58320" cy="442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909360" y="5262480"/>
                  <a:ext cx="58320" cy="22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909360" y="5181480"/>
                  <a:ext cx="58320" cy="32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909360" y="5113440"/>
                  <a:ext cx="58320" cy="22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8" name=""/>
              <p:cNvSpPr/>
              <p:nvPr/>
            </p:nvSpPr>
            <p:spPr>
              <a:xfrm>
                <a:off x="1018440" y="5330880"/>
                <a:ext cx="56880" cy="44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018440" y="5262480"/>
                <a:ext cx="56880" cy="22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018440" y="5181480"/>
                <a:ext cx="56880" cy="32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018440" y="5113440"/>
                <a:ext cx="56880" cy="22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918720" y="4638600"/>
              <a:ext cx="142560" cy="130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909360" y="4861080"/>
              <a:ext cx="158400" cy="193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918720" y="4530960"/>
              <a:ext cx="142560" cy="72720"/>
              <a:chOff x="918720" y="4530960"/>
              <a:chExt cx="142560" cy="72720"/>
            </a:xfrm>
          </p:grpSpPr>
          <p:sp>
            <p:nvSpPr>
              <p:cNvPr id="565" name=""/>
              <p:cNvSpPr/>
              <p:nvPr/>
            </p:nvSpPr>
            <p:spPr>
              <a:xfrm>
                <a:off x="918720" y="4530960"/>
                <a:ext cx="142560" cy="72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923040" y="4541760"/>
                <a:ext cx="13788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923040" y="4575240"/>
                <a:ext cx="137880" cy="111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8" name=""/>
          <p:cNvGrpSpPr/>
          <p:nvPr/>
        </p:nvGrpSpPr>
        <p:grpSpPr>
          <a:xfrm>
            <a:off x="2220840" y="3081240"/>
            <a:ext cx="798120" cy="1441440"/>
            <a:chOff x="2220840" y="3081240"/>
            <a:chExt cx="798120" cy="1441440"/>
          </a:xfrm>
        </p:grpSpPr>
        <p:sp>
          <p:nvSpPr>
            <p:cNvPr id="569" name=""/>
            <p:cNvSpPr/>
            <p:nvPr/>
          </p:nvSpPr>
          <p:spPr>
            <a:xfrm>
              <a:off x="2220840" y="3081240"/>
              <a:ext cx="792000" cy="136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120" bIns="33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2266560" y="3549600"/>
              <a:ext cx="703080" cy="846360"/>
              <a:chOff x="2266560" y="3549600"/>
              <a:chExt cx="703080" cy="846360"/>
            </a:xfrm>
          </p:grpSpPr>
          <p:sp>
            <p:nvSpPr>
              <p:cNvPr id="571" name=""/>
              <p:cNvSpPr/>
              <p:nvPr/>
            </p:nvSpPr>
            <p:spPr>
              <a:xfrm>
                <a:off x="2266560" y="3549600"/>
                <a:ext cx="703080" cy="8463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120" bIns="331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266560" y="4335480"/>
                <a:ext cx="7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266560" y="4270320"/>
                <a:ext cx="7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266560" y="4203720"/>
                <a:ext cx="7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266560" y="4138560"/>
                <a:ext cx="7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266560" y="4070520"/>
                <a:ext cx="7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266560" y="4005360"/>
                <a:ext cx="7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266560" y="3938760"/>
                <a:ext cx="7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266560" y="3873600"/>
                <a:ext cx="7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266560" y="3807000"/>
                <a:ext cx="7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266560" y="3740040"/>
                <a:ext cx="7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266560" y="3675240"/>
                <a:ext cx="7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266560" y="3608280"/>
                <a:ext cx="7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>
              <a:off x="2228760" y="3103560"/>
              <a:ext cx="790200" cy="335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120" bIns="33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500560" y="3127320"/>
              <a:ext cx="0" cy="26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6600" rIns="666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622600" y="3121200"/>
              <a:ext cx="30456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8800"/>
                  <a:tab algn="l" pos="1317600"/>
                  <a:tab algn="l" pos="1976400"/>
                  <a:tab algn="l" pos="2635200"/>
                  <a:tab algn="l" pos="3294000"/>
                  <a:tab algn="l" pos="3952800"/>
                  <a:tab algn="l" pos="4611600"/>
                  <a:tab algn="l" pos="5270400"/>
                  <a:tab algn="l" pos="5929200"/>
                  <a:tab algn="l" pos="6588000"/>
                  <a:tab algn="l" pos="7246800"/>
                  <a:tab algn="l" pos="7905600"/>
                  <a:tab algn="l" pos="8564400"/>
                  <a:tab algn="l" pos="9223200"/>
                  <a:tab algn="l" pos="9882360"/>
                  <a:tab algn="l" pos="10541160"/>
                </a:tabLst>
              </a:pPr>
              <a:r>
                <a:rPr b="1" lang="zh-CN" sz="600" spc="-1" strike="noStrike">
                  <a:solidFill>
                    <a:srgbClr val="ffffff"/>
                  </a:solidFill>
                  <a:latin typeface="Arial"/>
                </a:rPr>
                <a:t>21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65240" y="3149640"/>
              <a:ext cx="82440" cy="3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1800" bIns="1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44600" y="3149640"/>
              <a:ext cx="81000" cy="3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1800" bIns="1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315880" y="4451400"/>
              <a:ext cx="2556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120" bIns="33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904840" y="4451400"/>
              <a:ext cx="2520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120" bIns="33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3257640" y="2001960"/>
            <a:ext cx="1217160" cy="1416960"/>
            <a:chOff x="3257640" y="2001960"/>
            <a:chExt cx="1217160" cy="1416960"/>
          </a:xfrm>
        </p:grpSpPr>
        <p:sp>
          <p:nvSpPr>
            <p:cNvPr id="592" name=""/>
            <p:cNvSpPr/>
            <p:nvPr/>
          </p:nvSpPr>
          <p:spPr>
            <a:xfrm>
              <a:off x="3603240" y="2669040"/>
              <a:ext cx="546120" cy="1062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9360" bIns="9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3257640" y="3039480"/>
              <a:ext cx="222120" cy="362520"/>
              <a:chOff x="3257640" y="3039480"/>
              <a:chExt cx="222120" cy="362520"/>
            </a:xfrm>
          </p:grpSpPr>
          <p:sp>
            <p:nvSpPr>
              <p:cNvPr id="594" name=""/>
              <p:cNvSpPr/>
              <p:nvPr/>
            </p:nvSpPr>
            <p:spPr>
              <a:xfrm>
                <a:off x="3257640" y="3039480"/>
                <a:ext cx="220680" cy="34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5" name=""/>
              <p:cNvGrpSpPr/>
              <p:nvPr/>
            </p:nvGrpSpPr>
            <p:grpSpPr>
              <a:xfrm>
                <a:off x="3272040" y="3160080"/>
                <a:ext cx="195120" cy="209520"/>
                <a:chOff x="3272040" y="3160080"/>
                <a:chExt cx="195120" cy="20952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3272040" y="3160080"/>
                  <a:ext cx="195120" cy="20952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272040" y="335880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272040" y="334116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272040" y="332388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272040" y="330768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3272040" y="329040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3272040" y="327276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272040" y="325548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72040" y="323964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3272040" y="322200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272040" y="320472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3272040" y="318888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272040" y="317124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9" name=""/>
              <p:cNvSpPr/>
              <p:nvPr/>
            </p:nvSpPr>
            <p:spPr>
              <a:xfrm>
                <a:off x="3260880" y="3045960"/>
                <a:ext cx="21888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335400" y="3052080"/>
                <a:ext cx="0" cy="57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374280" y="304128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zh-CN" sz="200" spc="-1" strike="noStrike">
                    <a:solidFill>
                      <a:srgbClr val="ffff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443400" y="3057120"/>
                <a:ext cx="17280" cy="1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265560" y="3057120"/>
                <a:ext cx="14400" cy="1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284640" y="3394080"/>
                <a:ext cx="1440" cy="7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454560" y="3394080"/>
                <a:ext cx="1440" cy="7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3603240" y="3045960"/>
              <a:ext cx="222120" cy="362160"/>
              <a:chOff x="3603240" y="3045960"/>
              <a:chExt cx="222120" cy="362160"/>
            </a:xfrm>
          </p:grpSpPr>
          <p:sp>
            <p:nvSpPr>
              <p:cNvPr id="617" name=""/>
              <p:cNvSpPr/>
              <p:nvPr/>
            </p:nvSpPr>
            <p:spPr>
              <a:xfrm>
                <a:off x="3603240" y="3045960"/>
                <a:ext cx="222120" cy="34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8" name=""/>
              <p:cNvGrpSpPr/>
              <p:nvPr/>
            </p:nvGrpSpPr>
            <p:grpSpPr>
              <a:xfrm>
                <a:off x="3617280" y="3165120"/>
                <a:ext cx="193320" cy="209520"/>
                <a:chOff x="3617280" y="3165120"/>
                <a:chExt cx="193320" cy="20952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3617280" y="3165120"/>
                  <a:ext cx="193320" cy="20952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617280" y="336492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3617280" y="334764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617280" y="333000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3617280" y="331416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3617280" y="329688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3617280" y="327924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3617280" y="326196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3617280" y="324576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3617280" y="322704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3617280" y="321084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617280" y="319356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3617280" y="317772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2" name=""/>
              <p:cNvSpPr/>
              <p:nvPr/>
            </p:nvSpPr>
            <p:spPr>
              <a:xfrm>
                <a:off x="3606120" y="3052080"/>
                <a:ext cx="21888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680640" y="3058560"/>
                <a:ext cx="0" cy="58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719520" y="304740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zh-CN" sz="200" spc="-1" strike="noStrike">
                    <a:solidFill>
                      <a:srgbClr val="ffff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788640" y="3057120"/>
                <a:ext cx="17280" cy="11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1800" bIns="1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610800" y="3057120"/>
                <a:ext cx="12600" cy="11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1800" bIns="1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629880" y="3400200"/>
                <a:ext cx="1440" cy="7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795120" y="3400200"/>
                <a:ext cx="9000" cy="7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3910320" y="3045960"/>
              <a:ext cx="223920" cy="362160"/>
              <a:chOff x="3910320" y="3045960"/>
              <a:chExt cx="223920" cy="362160"/>
            </a:xfrm>
          </p:grpSpPr>
          <p:sp>
            <p:nvSpPr>
              <p:cNvPr id="640" name=""/>
              <p:cNvSpPr/>
              <p:nvPr/>
            </p:nvSpPr>
            <p:spPr>
              <a:xfrm>
                <a:off x="3910320" y="3045960"/>
                <a:ext cx="222480" cy="34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1" name=""/>
              <p:cNvGrpSpPr/>
              <p:nvPr/>
            </p:nvGrpSpPr>
            <p:grpSpPr>
              <a:xfrm>
                <a:off x="3924720" y="3165120"/>
                <a:ext cx="193680" cy="209520"/>
                <a:chOff x="3924720" y="3165120"/>
                <a:chExt cx="193680" cy="20952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3924720" y="3165120"/>
                  <a:ext cx="193680" cy="20952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924720" y="336492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924720" y="334764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924720" y="333000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3924720" y="331416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3924720" y="329688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3924720" y="327924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3924720" y="326196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3924720" y="324576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3924720" y="322704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3924720" y="321084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3924720" y="319356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924720" y="317772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5" name=""/>
              <p:cNvSpPr/>
              <p:nvPr/>
            </p:nvSpPr>
            <p:spPr>
              <a:xfrm>
                <a:off x="3913560" y="3052080"/>
                <a:ext cx="22068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989880" y="3058560"/>
                <a:ext cx="0" cy="58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028760" y="304740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zh-CN" sz="200" spc="-1" strike="noStrike">
                    <a:solidFill>
                      <a:srgbClr val="ffff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096080" y="3057120"/>
                <a:ext cx="17640" cy="11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1800" bIns="1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918240" y="3057120"/>
                <a:ext cx="14400" cy="11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1800" bIns="1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932640" y="3400200"/>
                <a:ext cx="11160" cy="7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104000" y="34002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4252680" y="3058200"/>
              <a:ext cx="222120" cy="360720"/>
              <a:chOff x="4252680" y="3058200"/>
              <a:chExt cx="222120" cy="360720"/>
            </a:xfrm>
          </p:grpSpPr>
          <p:sp>
            <p:nvSpPr>
              <p:cNvPr id="663" name=""/>
              <p:cNvSpPr/>
              <p:nvPr/>
            </p:nvSpPr>
            <p:spPr>
              <a:xfrm>
                <a:off x="4252680" y="3058200"/>
                <a:ext cx="220680" cy="34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4" name=""/>
              <p:cNvGrpSpPr/>
              <p:nvPr/>
            </p:nvGrpSpPr>
            <p:grpSpPr>
              <a:xfrm>
                <a:off x="4265280" y="3178440"/>
                <a:ext cx="193680" cy="208800"/>
                <a:chOff x="4265280" y="3178440"/>
                <a:chExt cx="193680" cy="20880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4265280" y="3178440"/>
                  <a:ext cx="193680" cy="20880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265280" y="337608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265280" y="335880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265280" y="334116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265280" y="332532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265280" y="330768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265280" y="329040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265280" y="327492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265280" y="325584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265280" y="324000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265280" y="322236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265280" y="320652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4265280" y="318924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8" name=""/>
              <p:cNvSpPr/>
              <p:nvPr/>
            </p:nvSpPr>
            <p:spPr>
              <a:xfrm>
                <a:off x="4255920" y="3063960"/>
                <a:ext cx="218880" cy="75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329000" y="3070440"/>
                <a:ext cx="0" cy="56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369320" y="305928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zh-CN" sz="200" spc="-1" strike="noStrike">
                    <a:solidFill>
                      <a:srgbClr val="ffff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436640" y="3075120"/>
                <a:ext cx="19080" cy="1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259160" y="3075120"/>
                <a:ext cx="15840" cy="1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279680" y="3411360"/>
                <a:ext cx="1440" cy="7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800" bIns="-1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449600" y="3411360"/>
                <a:ext cx="1440" cy="7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800" bIns="-1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5" name=""/>
            <p:cNvSpPr/>
            <p:nvPr/>
          </p:nvSpPr>
          <p:spPr>
            <a:xfrm flipH="1">
              <a:off x="3306960" y="2743200"/>
              <a:ext cx="32400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3677040" y="2766240"/>
              <a:ext cx="75240" cy="2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941280" y="2766240"/>
              <a:ext cx="106200" cy="2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047840" y="2743200"/>
              <a:ext cx="29628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9" name=""/>
            <p:cNvGrpSpPr/>
            <p:nvPr/>
          </p:nvGrpSpPr>
          <p:grpSpPr>
            <a:xfrm>
              <a:off x="3257640" y="2018880"/>
              <a:ext cx="222120" cy="362160"/>
              <a:chOff x="3257640" y="2018880"/>
              <a:chExt cx="222120" cy="362160"/>
            </a:xfrm>
          </p:grpSpPr>
          <p:sp>
            <p:nvSpPr>
              <p:cNvPr id="690" name=""/>
              <p:cNvSpPr/>
              <p:nvPr/>
            </p:nvSpPr>
            <p:spPr>
              <a:xfrm>
                <a:off x="3257640" y="2018880"/>
                <a:ext cx="220680" cy="34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1" name=""/>
              <p:cNvGrpSpPr/>
              <p:nvPr/>
            </p:nvGrpSpPr>
            <p:grpSpPr>
              <a:xfrm>
                <a:off x="3272040" y="2139480"/>
                <a:ext cx="195120" cy="208080"/>
                <a:chOff x="3272040" y="2139480"/>
                <a:chExt cx="195120" cy="20808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3272040" y="2139480"/>
                  <a:ext cx="195120" cy="20808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3272040" y="233784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3272040" y="232056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3272040" y="230292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3272040" y="228708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3272040" y="226944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3272040" y="225216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272040" y="223452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3272040" y="221868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3272040" y="219960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3272040" y="218376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3272040" y="216648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3272040" y="215064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5" name=""/>
              <p:cNvSpPr/>
              <p:nvPr/>
            </p:nvSpPr>
            <p:spPr>
              <a:xfrm>
                <a:off x="3260880" y="2025000"/>
                <a:ext cx="21888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335400" y="2031480"/>
                <a:ext cx="0" cy="57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374280" y="202032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zh-CN" sz="200" spc="-1" strike="noStrike">
                    <a:solidFill>
                      <a:srgbClr val="ffff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443400" y="2030040"/>
                <a:ext cx="17280" cy="10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1440" bIns="1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265560" y="2030040"/>
                <a:ext cx="14400" cy="10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1440" bIns="1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284640" y="2373120"/>
                <a:ext cx="1440" cy="7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454560" y="2373120"/>
                <a:ext cx="1440" cy="7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3603240" y="2012760"/>
              <a:ext cx="222120" cy="362160"/>
              <a:chOff x="3603240" y="2012760"/>
              <a:chExt cx="222120" cy="362160"/>
            </a:xfrm>
          </p:grpSpPr>
          <p:sp>
            <p:nvSpPr>
              <p:cNvPr id="713" name=""/>
              <p:cNvSpPr/>
              <p:nvPr/>
            </p:nvSpPr>
            <p:spPr>
              <a:xfrm>
                <a:off x="3603240" y="2012760"/>
                <a:ext cx="22212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4" name=""/>
              <p:cNvGrpSpPr/>
              <p:nvPr/>
            </p:nvGrpSpPr>
            <p:grpSpPr>
              <a:xfrm>
                <a:off x="3617280" y="2133360"/>
                <a:ext cx="193320" cy="209520"/>
                <a:chOff x="3617280" y="2133360"/>
                <a:chExt cx="193320" cy="20952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617280" y="2133360"/>
                  <a:ext cx="193320" cy="209520"/>
                </a:xfrm>
                <a:prstGeom prst="rect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3617280" y="233172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3617280" y="231444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3617280" y="229680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3617280" y="228096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3617280" y="226188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3617280" y="224604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3617280" y="222876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3617280" y="221292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3617280" y="219528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3617280" y="217800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3617280" y="216216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3617280" y="214452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8" name=""/>
              <p:cNvSpPr/>
              <p:nvPr/>
            </p:nvSpPr>
            <p:spPr>
              <a:xfrm>
                <a:off x="3606120" y="2019240"/>
                <a:ext cx="218880" cy="777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680640" y="2025360"/>
                <a:ext cx="0" cy="57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719520" y="201456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zh-CN" sz="200" spc="-1" strike="noStrike">
                    <a:solidFill>
                      <a:srgbClr val="ffff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788640" y="2030400"/>
                <a:ext cx="17280" cy="1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610800" y="2030400"/>
                <a:ext cx="12600" cy="1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3629880" y="2366640"/>
                <a:ext cx="1440" cy="8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080" bIns="-10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795120" y="2366640"/>
                <a:ext cx="9000" cy="8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080" bIns="-10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3910320" y="2012760"/>
              <a:ext cx="223920" cy="362160"/>
              <a:chOff x="3910320" y="2012760"/>
              <a:chExt cx="223920" cy="362160"/>
            </a:xfrm>
          </p:grpSpPr>
          <p:sp>
            <p:nvSpPr>
              <p:cNvPr id="736" name=""/>
              <p:cNvSpPr/>
              <p:nvPr/>
            </p:nvSpPr>
            <p:spPr>
              <a:xfrm>
                <a:off x="3910320" y="2012760"/>
                <a:ext cx="22248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7" name=""/>
              <p:cNvGrpSpPr/>
              <p:nvPr/>
            </p:nvGrpSpPr>
            <p:grpSpPr>
              <a:xfrm>
                <a:off x="3924720" y="2133360"/>
                <a:ext cx="193680" cy="209520"/>
                <a:chOff x="3924720" y="2133360"/>
                <a:chExt cx="193680" cy="209520"/>
              </a:xfrm>
            </p:grpSpPr>
            <p:sp>
              <p:nvSpPr>
                <p:cNvPr id="738" name=""/>
                <p:cNvSpPr/>
                <p:nvPr/>
              </p:nvSpPr>
              <p:spPr>
                <a:xfrm>
                  <a:off x="3924720" y="2133360"/>
                  <a:ext cx="193680" cy="209520"/>
                </a:xfrm>
                <a:prstGeom prst="rect">
                  <a:avLst/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3924720" y="233172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924720" y="231444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924720" y="229680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3924720" y="228096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924720" y="226188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924720" y="224604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3924720" y="222876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3924720" y="221292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3924720" y="219528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3924720" y="217800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3924720" y="216216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3924720" y="214452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1" name=""/>
              <p:cNvSpPr/>
              <p:nvPr/>
            </p:nvSpPr>
            <p:spPr>
              <a:xfrm>
                <a:off x="3913560" y="2019240"/>
                <a:ext cx="220680" cy="777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989880" y="2025360"/>
                <a:ext cx="0" cy="57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028760" y="201456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zh-CN" sz="200" spc="-1" strike="noStrike">
                    <a:solidFill>
                      <a:srgbClr val="ffff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096080" y="2030400"/>
                <a:ext cx="17640" cy="1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918240" y="2030400"/>
                <a:ext cx="14400" cy="1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932640" y="2366640"/>
                <a:ext cx="11160" cy="8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080" bIns="-10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4104000" y="236664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080" bIns="-10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4252680" y="2001960"/>
              <a:ext cx="222120" cy="360720"/>
              <a:chOff x="4252680" y="2001960"/>
              <a:chExt cx="222120" cy="360720"/>
            </a:xfrm>
          </p:grpSpPr>
          <p:sp>
            <p:nvSpPr>
              <p:cNvPr id="759" name=""/>
              <p:cNvSpPr/>
              <p:nvPr/>
            </p:nvSpPr>
            <p:spPr>
              <a:xfrm>
                <a:off x="4252680" y="2001960"/>
                <a:ext cx="220680" cy="340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0" name=""/>
              <p:cNvGrpSpPr/>
              <p:nvPr/>
            </p:nvGrpSpPr>
            <p:grpSpPr>
              <a:xfrm>
                <a:off x="4265280" y="2122200"/>
                <a:ext cx="193680" cy="208800"/>
                <a:chOff x="4265280" y="2122200"/>
                <a:chExt cx="193680" cy="20880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4265280" y="2122200"/>
                  <a:ext cx="193680" cy="208800"/>
                </a:xfrm>
                <a:prstGeom prst="rect">
                  <a:avLst/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265280" y="232020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4265280" y="230256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4265280" y="228528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265280" y="226908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265280" y="225180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4265280" y="223416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265280" y="221868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4265280" y="219960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265280" y="218376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265280" y="216648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265280" y="215064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4265280" y="213300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4" name=""/>
              <p:cNvSpPr/>
              <p:nvPr/>
            </p:nvSpPr>
            <p:spPr>
              <a:xfrm>
                <a:off x="4255920" y="2008080"/>
                <a:ext cx="218880" cy="75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329000" y="2014560"/>
                <a:ext cx="0" cy="56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369320" y="200340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zh-CN" sz="200" spc="-1" strike="noStrike">
                    <a:solidFill>
                      <a:srgbClr val="ffff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436640" y="2019240"/>
                <a:ext cx="19080" cy="1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8280" bIns="-82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259160" y="2019240"/>
                <a:ext cx="15840" cy="1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8280" bIns="-82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279680" y="2355120"/>
                <a:ext cx="1440" cy="7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800" bIns="-1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449600" y="2355120"/>
                <a:ext cx="1440" cy="7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800" bIns="-1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 flipH="1" flipV="1">
              <a:off x="3306960" y="2372400"/>
              <a:ext cx="311760" cy="30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 flipV="1">
              <a:off x="3677040" y="2372040"/>
              <a:ext cx="7524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3941280" y="2372040"/>
              <a:ext cx="3204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4122000" y="2372040"/>
              <a:ext cx="22212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5997600" y="816120"/>
            <a:ext cx="1406160" cy="1778400"/>
            <a:chOff x="5997600" y="816120"/>
            <a:chExt cx="1406160" cy="1778400"/>
          </a:xfrm>
        </p:grpSpPr>
        <p:pic>
          <p:nvPicPr>
            <p:cNvPr id="786" name="" descr=""/>
            <p:cNvPicPr/>
            <p:nvPr/>
          </p:nvPicPr>
          <p:blipFill>
            <a:blip r:embed="rId14"/>
            <a:stretch/>
          </p:blipFill>
          <p:spPr>
            <a:xfrm>
              <a:off x="6196320" y="1249200"/>
              <a:ext cx="1034640" cy="91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7" name=""/>
            <p:cNvGrpSpPr/>
            <p:nvPr/>
          </p:nvGrpSpPr>
          <p:grpSpPr>
            <a:xfrm>
              <a:off x="6606360" y="816120"/>
              <a:ext cx="257400" cy="399240"/>
              <a:chOff x="6606360" y="816120"/>
              <a:chExt cx="257400" cy="399240"/>
            </a:xfrm>
          </p:grpSpPr>
          <p:sp>
            <p:nvSpPr>
              <p:cNvPr id="788" name=""/>
              <p:cNvSpPr/>
              <p:nvPr/>
            </p:nvSpPr>
            <p:spPr>
              <a:xfrm>
                <a:off x="6682320" y="990360"/>
                <a:ext cx="112320" cy="59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9" name=""/>
              <p:cNvGrpSpPr/>
              <p:nvPr/>
            </p:nvGrpSpPr>
            <p:grpSpPr>
              <a:xfrm>
                <a:off x="6606360" y="1049760"/>
                <a:ext cx="257400" cy="165600"/>
                <a:chOff x="6606360" y="1049760"/>
                <a:chExt cx="257400" cy="165600"/>
              </a:xfrm>
            </p:grpSpPr>
            <p:sp>
              <p:nvSpPr>
                <p:cNvPr id="790" name=""/>
                <p:cNvSpPr/>
                <p:nvPr/>
              </p:nvSpPr>
              <p:spPr>
                <a:xfrm flipV="1">
                  <a:off x="6621840" y="1050840"/>
                  <a:ext cx="49320" cy="101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flipV="1">
                  <a:off x="6701760" y="1050840"/>
                  <a:ext cx="0" cy="9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 flipV="1">
                  <a:off x="6770880" y="104976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6606360" y="1153080"/>
                  <a:ext cx="21600" cy="56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6688440" y="1147680"/>
                  <a:ext cx="25200" cy="67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6756120" y="1146240"/>
                  <a:ext cx="22680" cy="66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6843240" y="1153080"/>
                  <a:ext cx="20520" cy="56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flipH="1" flipV="1">
                  <a:off x="6789600" y="1050840"/>
                  <a:ext cx="72360" cy="101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6606360" y="816120"/>
                <a:ext cx="257400" cy="154080"/>
                <a:chOff x="6606360" y="816120"/>
                <a:chExt cx="257400" cy="15408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6621840" y="889560"/>
                  <a:ext cx="49320" cy="8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6701760" y="898200"/>
                  <a:ext cx="0" cy="70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6770880" y="893520"/>
                  <a:ext cx="0" cy="7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6606360" y="821880"/>
                  <a:ext cx="2160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6688440" y="816120"/>
                  <a:ext cx="2520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6756120" y="819000"/>
                  <a:ext cx="22680" cy="67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6843240" y="821880"/>
                  <a:ext cx="2052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 flipH="1">
                  <a:off x="6789600" y="889560"/>
                  <a:ext cx="72360" cy="8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7" name=""/>
            <p:cNvGrpSpPr/>
            <p:nvPr/>
          </p:nvGrpSpPr>
          <p:grpSpPr>
            <a:xfrm>
              <a:off x="7146720" y="1061640"/>
              <a:ext cx="257040" cy="396720"/>
              <a:chOff x="7146720" y="1061640"/>
              <a:chExt cx="257040" cy="396720"/>
            </a:xfrm>
          </p:grpSpPr>
          <p:sp>
            <p:nvSpPr>
              <p:cNvPr id="808" name=""/>
              <p:cNvSpPr/>
              <p:nvPr/>
            </p:nvSpPr>
            <p:spPr>
              <a:xfrm>
                <a:off x="7222680" y="1235160"/>
                <a:ext cx="111960" cy="5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9" name=""/>
              <p:cNvGrpSpPr/>
              <p:nvPr/>
            </p:nvGrpSpPr>
            <p:grpSpPr>
              <a:xfrm>
                <a:off x="7146720" y="1294200"/>
                <a:ext cx="257040" cy="164160"/>
                <a:chOff x="7146720" y="1294200"/>
                <a:chExt cx="257040" cy="164160"/>
              </a:xfrm>
            </p:grpSpPr>
            <p:sp>
              <p:nvSpPr>
                <p:cNvPr id="810" name=""/>
                <p:cNvSpPr/>
                <p:nvPr/>
              </p:nvSpPr>
              <p:spPr>
                <a:xfrm flipV="1">
                  <a:off x="7162200" y="1294560"/>
                  <a:ext cx="49320" cy="102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 flipV="1">
                  <a:off x="7241760" y="1296000"/>
                  <a:ext cx="0" cy="9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 flipV="1">
                  <a:off x="7308360" y="1294200"/>
                  <a:ext cx="0" cy="97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7146720" y="1397520"/>
                  <a:ext cx="2052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7228800" y="1392120"/>
                  <a:ext cx="2376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7296480" y="1389240"/>
                  <a:ext cx="21600" cy="67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383240" y="1397520"/>
                  <a:ext cx="2052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 flipH="1" flipV="1">
                  <a:off x="7329600" y="1294560"/>
                  <a:ext cx="72360" cy="102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8" name=""/>
              <p:cNvGrpSpPr/>
              <p:nvPr/>
            </p:nvGrpSpPr>
            <p:grpSpPr>
              <a:xfrm>
                <a:off x="7146720" y="1061640"/>
                <a:ext cx="257040" cy="153360"/>
                <a:chOff x="7146720" y="1061640"/>
                <a:chExt cx="257040" cy="153360"/>
              </a:xfrm>
            </p:grpSpPr>
            <p:sp>
              <p:nvSpPr>
                <p:cNvPr id="819" name=""/>
                <p:cNvSpPr/>
                <p:nvPr/>
              </p:nvSpPr>
              <p:spPr>
                <a:xfrm>
                  <a:off x="7162200" y="1134720"/>
                  <a:ext cx="49320" cy="80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7241760" y="1141920"/>
                  <a:ext cx="0" cy="72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7308360" y="1139040"/>
                  <a:ext cx="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7146720" y="1065600"/>
                  <a:ext cx="20520" cy="57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7228800" y="1061640"/>
                  <a:ext cx="2376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7296480" y="1064520"/>
                  <a:ext cx="2160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7383240" y="1065600"/>
                  <a:ext cx="20520" cy="57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 flipH="1">
                  <a:off x="7329600" y="1134720"/>
                  <a:ext cx="72360" cy="80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7" name=""/>
            <p:cNvGrpSpPr/>
            <p:nvPr/>
          </p:nvGrpSpPr>
          <p:grpSpPr>
            <a:xfrm>
              <a:off x="7146720" y="1942920"/>
              <a:ext cx="257040" cy="397440"/>
              <a:chOff x="7146720" y="1942920"/>
              <a:chExt cx="257040" cy="397440"/>
            </a:xfrm>
          </p:grpSpPr>
          <p:sp>
            <p:nvSpPr>
              <p:cNvPr id="828" name=""/>
              <p:cNvSpPr/>
              <p:nvPr/>
            </p:nvSpPr>
            <p:spPr>
              <a:xfrm>
                <a:off x="7222680" y="2116440"/>
                <a:ext cx="111960" cy="5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9" name=""/>
              <p:cNvGrpSpPr/>
              <p:nvPr/>
            </p:nvGrpSpPr>
            <p:grpSpPr>
              <a:xfrm>
                <a:off x="7146720" y="2175480"/>
                <a:ext cx="257040" cy="164880"/>
                <a:chOff x="7146720" y="2175480"/>
                <a:chExt cx="257040" cy="164880"/>
              </a:xfrm>
            </p:grpSpPr>
            <p:sp>
              <p:nvSpPr>
                <p:cNvPr id="830" name=""/>
                <p:cNvSpPr/>
                <p:nvPr/>
              </p:nvSpPr>
              <p:spPr>
                <a:xfrm flipV="1">
                  <a:off x="7162200" y="2176920"/>
                  <a:ext cx="49320" cy="101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V="1">
                  <a:off x="7241760" y="2176920"/>
                  <a:ext cx="0" cy="94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flipV="1">
                  <a:off x="7308360" y="2175480"/>
                  <a:ext cx="0" cy="9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7146720" y="2278440"/>
                  <a:ext cx="2052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228800" y="2272680"/>
                  <a:ext cx="23760" cy="67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296480" y="2271240"/>
                  <a:ext cx="2160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383240" y="2278440"/>
                  <a:ext cx="2052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H="1" flipV="1">
                  <a:off x="7329600" y="2176920"/>
                  <a:ext cx="72360" cy="101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7146720" y="1942920"/>
                <a:ext cx="257040" cy="153360"/>
                <a:chOff x="7146720" y="1942920"/>
                <a:chExt cx="257040" cy="15336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7162200" y="2016000"/>
                  <a:ext cx="49320" cy="80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7241760" y="2024280"/>
                  <a:ext cx="0" cy="70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7308360" y="2021760"/>
                  <a:ext cx="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146720" y="1948320"/>
                  <a:ext cx="2052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228800" y="1942920"/>
                  <a:ext cx="23760" cy="67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7296480" y="1945440"/>
                  <a:ext cx="21600" cy="67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7383240" y="1948320"/>
                  <a:ext cx="2052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 flipH="1">
                  <a:off x="7329600" y="2016000"/>
                  <a:ext cx="72360" cy="80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7" name=""/>
            <p:cNvGrpSpPr/>
            <p:nvPr/>
          </p:nvGrpSpPr>
          <p:grpSpPr>
            <a:xfrm>
              <a:off x="6615360" y="2195280"/>
              <a:ext cx="255600" cy="399240"/>
              <a:chOff x="6615360" y="2195280"/>
              <a:chExt cx="255600" cy="399240"/>
            </a:xfrm>
          </p:grpSpPr>
          <p:sp>
            <p:nvSpPr>
              <p:cNvPr id="848" name=""/>
              <p:cNvSpPr/>
              <p:nvPr/>
            </p:nvSpPr>
            <p:spPr>
              <a:xfrm>
                <a:off x="6688800" y="2370960"/>
                <a:ext cx="114480" cy="57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9" name=""/>
              <p:cNvGrpSpPr/>
              <p:nvPr/>
            </p:nvGrpSpPr>
            <p:grpSpPr>
              <a:xfrm>
                <a:off x="6615360" y="2428920"/>
                <a:ext cx="255600" cy="165600"/>
                <a:chOff x="6615360" y="2428920"/>
                <a:chExt cx="255600" cy="165600"/>
              </a:xfrm>
            </p:grpSpPr>
            <p:sp>
              <p:nvSpPr>
                <p:cNvPr id="850" name=""/>
                <p:cNvSpPr/>
                <p:nvPr/>
              </p:nvSpPr>
              <p:spPr>
                <a:xfrm flipV="1">
                  <a:off x="6629760" y="2430000"/>
                  <a:ext cx="48960" cy="101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flipV="1">
                  <a:off x="6710400" y="243144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flipV="1">
                  <a:off x="6777000" y="2428920"/>
                  <a:ext cx="0" cy="99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6615360" y="2532240"/>
                  <a:ext cx="20520" cy="56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6697440" y="2528280"/>
                  <a:ext cx="2376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6763680" y="2525400"/>
                  <a:ext cx="21600" cy="68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6849360" y="2532240"/>
                  <a:ext cx="21600" cy="56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flipH="1" flipV="1">
                  <a:off x="6797520" y="2430000"/>
                  <a:ext cx="72000" cy="101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8" name=""/>
              <p:cNvGrpSpPr/>
              <p:nvPr/>
            </p:nvGrpSpPr>
            <p:grpSpPr>
              <a:xfrm>
                <a:off x="6615360" y="2195280"/>
                <a:ext cx="255600" cy="154080"/>
                <a:chOff x="6615360" y="2195280"/>
                <a:chExt cx="255600" cy="154080"/>
              </a:xfrm>
            </p:grpSpPr>
            <p:sp>
              <p:nvSpPr>
                <p:cNvPr id="859" name=""/>
                <p:cNvSpPr/>
                <p:nvPr/>
              </p:nvSpPr>
              <p:spPr>
                <a:xfrm>
                  <a:off x="6629760" y="2268720"/>
                  <a:ext cx="48960" cy="8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6710400" y="2277360"/>
                  <a:ext cx="0" cy="70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777000" y="2274480"/>
                  <a:ext cx="0" cy="74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6615360" y="2201040"/>
                  <a:ext cx="2052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6697440" y="2195280"/>
                  <a:ext cx="23760" cy="68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6763680" y="2199240"/>
                  <a:ext cx="2160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6849360" y="2201040"/>
                  <a:ext cx="2160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H="1">
                  <a:off x="6797520" y="2268720"/>
                  <a:ext cx="72000" cy="8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67" name=""/>
            <p:cNvGrpSpPr/>
            <p:nvPr/>
          </p:nvGrpSpPr>
          <p:grpSpPr>
            <a:xfrm>
              <a:off x="6048360" y="1991160"/>
              <a:ext cx="255960" cy="397440"/>
              <a:chOff x="6048360" y="1991160"/>
              <a:chExt cx="255960" cy="397440"/>
            </a:xfrm>
          </p:grpSpPr>
          <p:sp>
            <p:nvSpPr>
              <p:cNvPr id="868" name=""/>
              <p:cNvSpPr/>
              <p:nvPr/>
            </p:nvSpPr>
            <p:spPr>
              <a:xfrm>
                <a:off x="6122880" y="2165040"/>
                <a:ext cx="113400" cy="59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9" name=""/>
              <p:cNvGrpSpPr/>
              <p:nvPr/>
            </p:nvGrpSpPr>
            <p:grpSpPr>
              <a:xfrm>
                <a:off x="6048360" y="2224440"/>
                <a:ext cx="255960" cy="164160"/>
                <a:chOff x="6048360" y="2224440"/>
                <a:chExt cx="255960" cy="164160"/>
              </a:xfrm>
            </p:grpSpPr>
            <p:sp>
              <p:nvSpPr>
                <p:cNvPr id="870" name=""/>
                <p:cNvSpPr/>
                <p:nvPr/>
              </p:nvSpPr>
              <p:spPr>
                <a:xfrm flipV="1">
                  <a:off x="6063840" y="2224800"/>
                  <a:ext cx="49320" cy="101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V="1">
                  <a:off x="6143760" y="222552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V="1">
                  <a:off x="6211440" y="2224440"/>
                  <a:ext cx="0" cy="97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6048360" y="2326320"/>
                  <a:ext cx="21600" cy="57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6130080" y="2322360"/>
                  <a:ext cx="2520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6196680" y="2319480"/>
                  <a:ext cx="22680" cy="68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6283800" y="2326320"/>
                  <a:ext cx="20520" cy="57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flipH="1" flipV="1">
                  <a:off x="6230520" y="2224800"/>
                  <a:ext cx="73440" cy="101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8" name=""/>
              <p:cNvGrpSpPr/>
              <p:nvPr/>
            </p:nvGrpSpPr>
            <p:grpSpPr>
              <a:xfrm>
                <a:off x="6048360" y="1991160"/>
                <a:ext cx="255960" cy="152640"/>
                <a:chOff x="6048360" y="1991160"/>
                <a:chExt cx="255960" cy="152640"/>
              </a:xfrm>
            </p:grpSpPr>
            <p:sp>
              <p:nvSpPr>
                <p:cNvPr id="879" name=""/>
                <p:cNvSpPr/>
                <p:nvPr/>
              </p:nvSpPr>
              <p:spPr>
                <a:xfrm>
                  <a:off x="6063840" y="2064600"/>
                  <a:ext cx="4932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6143760" y="2071440"/>
                  <a:ext cx="0" cy="72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6211440" y="2068560"/>
                  <a:ext cx="0" cy="74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6048360" y="1995120"/>
                  <a:ext cx="21600" cy="57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6130080" y="1991160"/>
                  <a:ext cx="2520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6196680" y="1994040"/>
                  <a:ext cx="2268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6283800" y="1995120"/>
                  <a:ext cx="20520" cy="57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H="1">
                  <a:off x="6230520" y="2064600"/>
                  <a:ext cx="7344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7" name=""/>
            <p:cNvGrpSpPr/>
            <p:nvPr/>
          </p:nvGrpSpPr>
          <p:grpSpPr>
            <a:xfrm>
              <a:off x="5997600" y="1099800"/>
              <a:ext cx="257400" cy="397800"/>
              <a:chOff x="5997600" y="1099800"/>
              <a:chExt cx="257400" cy="397800"/>
            </a:xfrm>
          </p:grpSpPr>
          <p:sp>
            <p:nvSpPr>
              <p:cNvPr id="888" name=""/>
              <p:cNvSpPr/>
              <p:nvPr/>
            </p:nvSpPr>
            <p:spPr>
              <a:xfrm>
                <a:off x="6073560" y="1274400"/>
                <a:ext cx="111960" cy="59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9" name=""/>
              <p:cNvGrpSpPr/>
              <p:nvPr/>
            </p:nvGrpSpPr>
            <p:grpSpPr>
              <a:xfrm>
                <a:off x="5997600" y="1333440"/>
                <a:ext cx="257400" cy="164160"/>
                <a:chOff x="5997600" y="1333440"/>
                <a:chExt cx="257400" cy="164160"/>
              </a:xfrm>
            </p:grpSpPr>
            <p:sp>
              <p:nvSpPr>
                <p:cNvPr id="890" name=""/>
                <p:cNvSpPr/>
                <p:nvPr/>
              </p:nvSpPr>
              <p:spPr>
                <a:xfrm flipV="1">
                  <a:off x="6013440" y="1334520"/>
                  <a:ext cx="48960" cy="101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V="1">
                  <a:off x="6093000" y="1334880"/>
                  <a:ext cx="0" cy="95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V="1">
                  <a:off x="6160680" y="1333440"/>
                  <a:ext cx="0" cy="97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5997600" y="1437120"/>
                  <a:ext cx="2052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6079680" y="1431360"/>
                  <a:ext cx="2376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6147360" y="1429920"/>
                  <a:ext cx="2268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6234480" y="1437120"/>
                  <a:ext cx="2052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flipV="1">
                  <a:off x="6181200" y="1334520"/>
                  <a:ext cx="72000" cy="101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5997600" y="1099800"/>
                <a:ext cx="257400" cy="154080"/>
                <a:chOff x="5997600" y="1099800"/>
                <a:chExt cx="257400" cy="15408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6013440" y="1173600"/>
                  <a:ext cx="48960" cy="80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6093000" y="1181880"/>
                  <a:ext cx="0" cy="70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6160680" y="1177560"/>
                  <a:ext cx="0" cy="7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5997600" y="1105560"/>
                  <a:ext cx="2052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6079680" y="1099800"/>
                  <a:ext cx="2376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6147360" y="1102680"/>
                  <a:ext cx="22680" cy="68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6234480" y="1105560"/>
                  <a:ext cx="2052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flipH="1">
                  <a:off x="6181200" y="1173600"/>
                  <a:ext cx="72000" cy="80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07" name=""/>
          <p:cNvSpPr/>
          <p:nvPr/>
        </p:nvSpPr>
        <p:spPr>
          <a:xfrm rot="16200000">
            <a:off x="-2293560" y="2471400"/>
            <a:ext cx="5708520" cy="771480"/>
          </a:xfrm>
          <a:prstGeom prst="rightArrow">
            <a:avLst>
              <a:gd name="adj1" fmla="val 50000"/>
              <a:gd name="adj2" fmla="val 113664"/>
            </a:avLst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69720" y="5486400"/>
            <a:ext cx="8664840" cy="800280"/>
          </a:xfrm>
          <a:prstGeom prst="rightArrow">
            <a:avLst>
              <a:gd name="adj1" fmla="val 50000"/>
              <a:gd name="adj2" fmla="val 105115"/>
            </a:avLst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92200" y="6153120"/>
            <a:ext cx="16286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Deskto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(Single Process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220840" y="6153120"/>
            <a:ext cx="118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SMPs or SuperComput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479760" y="6153120"/>
            <a:ext cx="925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Loc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Clus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292800" y="6227640"/>
            <a:ext cx="13273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Glob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Cluster/Gri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0" y="2521080"/>
            <a:ext cx="3538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01480" y="297000"/>
            <a:ext cx="7774200" cy="81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6356520" cy="1220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ffff00"/>
                </a:solidFill>
                <a:latin typeface="Comic Sans MS"/>
              </a:rPr>
              <a:t>Computing Platforms Evolution</a:t>
            </a:r>
            <a:r>
              <a:rPr b="0" lang="en-AU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reaking Administrative Barrier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6" name=""/>
          <p:cNvSpPr/>
          <p:nvPr/>
        </p:nvSpPr>
        <p:spPr>
          <a:xfrm>
            <a:off x="7598520" y="6172200"/>
            <a:ext cx="15670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Inter Plan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Cluster/Grid ??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7" name="IPN" descr=""/>
          <p:cNvPicPr/>
          <p:nvPr/>
        </p:nvPicPr>
        <p:blipFill>
          <a:blip r:embed="rId17"/>
          <a:stretch/>
        </p:blipFill>
        <p:spPr>
          <a:xfrm>
            <a:off x="7527960" y="74520"/>
            <a:ext cx="1512720" cy="170496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6580800" y="3559320"/>
            <a:ext cx="1167480" cy="2007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p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 Pla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ver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433200" y="3187800"/>
            <a:ext cx="226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Administrative Barr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0" name="" descr=""/>
          <p:cNvPicPr/>
          <p:nvPr/>
        </p:nvPicPr>
        <p:blipFill>
          <a:blip r:embed="rId18"/>
          <a:stretch/>
        </p:blipFill>
        <p:spPr>
          <a:xfrm>
            <a:off x="5330880" y="4003560"/>
            <a:ext cx="1111320" cy="920880"/>
          </a:xfrm>
          <a:prstGeom prst="rect">
            <a:avLst/>
          </a:prstGeom>
          <a:ln w="0">
            <a:noFill/>
          </a:ln>
        </p:spPr>
      </p:pic>
      <p:grpSp>
        <p:nvGrpSpPr>
          <p:cNvPr id="921" name=""/>
          <p:cNvGrpSpPr/>
          <p:nvPr/>
        </p:nvGrpSpPr>
        <p:grpSpPr>
          <a:xfrm>
            <a:off x="6070680" y="4129200"/>
            <a:ext cx="449280" cy="350280"/>
            <a:chOff x="6070680" y="4129200"/>
            <a:chExt cx="449280" cy="350280"/>
          </a:xfrm>
        </p:grpSpPr>
        <p:sp>
          <p:nvSpPr>
            <p:cNvPr id="922" name=""/>
            <p:cNvSpPr/>
            <p:nvPr/>
          </p:nvSpPr>
          <p:spPr>
            <a:xfrm>
              <a:off x="6070680" y="4383720"/>
              <a:ext cx="449280" cy="9576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75440" y="4129200"/>
              <a:ext cx="253080" cy="24840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190920" y="4149000"/>
              <a:ext cx="216000" cy="208080"/>
            </a:xfrm>
            <a:prstGeom prst="roundRect">
              <a:avLst>
                <a:gd name="adj" fmla="val 12486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4572000" y="6172200"/>
            <a:ext cx="14479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Enterpri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Cluster/Gri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4960800" y="2668680"/>
            <a:ext cx="309240" cy="447480"/>
            <a:chOff x="4960800" y="2668680"/>
            <a:chExt cx="309240" cy="447480"/>
          </a:xfrm>
        </p:grpSpPr>
        <p:sp>
          <p:nvSpPr>
            <p:cNvPr id="927" name=""/>
            <p:cNvSpPr/>
            <p:nvPr/>
          </p:nvSpPr>
          <p:spPr>
            <a:xfrm>
              <a:off x="5049720" y="2865600"/>
              <a:ext cx="138600" cy="651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8" name=""/>
            <p:cNvGrpSpPr/>
            <p:nvPr/>
          </p:nvGrpSpPr>
          <p:grpSpPr>
            <a:xfrm>
              <a:off x="4960800" y="2930760"/>
              <a:ext cx="309240" cy="185400"/>
              <a:chOff x="4960800" y="2930760"/>
              <a:chExt cx="309240" cy="185400"/>
            </a:xfrm>
          </p:grpSpPr>
          <p:sp>
            <p:nvSpPr>
              <p:cNvPr id="929" name=""/>
              <p:cNvSpPr/>
              <p:nvPr/>
            </p:nvSpPr>
            <p:spPr>
              <a:xfrm flipV="1">
                <a:off x="4978080" y="2931840"/>
                <a:ext cx="594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V="1">
                <a:off x="5076000" y="2933280"/>
                <a:ext cx="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V="1">
                <a:off x="5156280" y="2930760"/>
                <a:ext cx="0" cy="11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960800" y="3046320"/>
                <a:ext cx="24480" cy="637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059800" y="3041640"/>
                <a:ext cx="28800" cy="745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140080" y="3038400"/>
                <a:ext cx="25920" cy="7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243760" y="3046320"/>
                <a:ext cx="26280" cy="637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 flipV="1">
                <a:off x="5181120" y="2931840"/>
                <a:ext cx="8712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4960800" y="2668680"/>
              <a:ext cx="309240" cy="173160"/>
              <a:chOff x="4960800" y="2668680"/>
              <a:chExt cx="309240" cy="173160"/>
            </a:xfrm>
          </p:grpSpPr>
          <p:sp>
            <p:nvSpPr>
              <p:cNvPr id="938" name=""/>
              <p:cNvSpPr/>
              <p:nvPr/>
            </p:nvSpPr>
            <p:spPr>
              <a:xfrm>
                <a:off x="4978080" y="2751120"/>
                <a:ext cx="5940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076000" y="276084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156280" y="2757600"/>
                <a:ext cx="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960800" y="2675160"/>
                <a:ext cx="24480" cy="633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059800" y="2668680"/>
                <a:ext cx="28800" cy="7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140080" y="2673360"/>
                <a:ext cx="25920" cy="745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243760" y="2675160"/>
                <a:ext cx="26280" cy="633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flipH="1">
                <a:off x="5181120" y="2751120"/>
                <a:ext cx="8712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6" name=""/>
          <p:cNvGrpSpPr/>
          <p:nvPr/>
        </p:nvGrpSpPr>
        <p:grpSpPr>
          <a:xfrm>
            <a:off x="5553000" y="2521080"/>
            <a:ext cx="309240" cy="447480"/>
            <a:chOff x="5553000" y="2521080"/>
            <a:chExt cx="309240" cy="447480"/>
          </a:xfrm>
        </p:grpSpPr>
        <p:sp>
          <p:nvSpPr>
            <p:cNvPr id="947" name=""/>
            <p:cNvSpPr/>
            <p:nvPr/>
          </p:nvSpPr>
          <p:spPr>
            <a:xfrm>
              <a:off x="5641920" y="2718000"/>
              <a:ext cx="138600" cy="651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8" name=""/>
            <p:cNvGrpSpPr/>
            <p:nvPr/>
          </p:nvGrpSpPr>
          <p:grpSpPr>
            <a:xfrm>
              <a:off x="5553000" y="2783160"/>
              <a:ext cx="309240" cy="185400"/>
              <a:chOff x="5553000" y="2783160"/>
              <a:chExt cx="309240" cy="185400"/>
            </a:xfrm>
          </p:grpSpPr>
          <p:sp>
            <p:nvSpPr>
              <p:cNvPr id="949" name=""/>
              <p:cNvSpPr/>
              <p:nvPr/>
            </p:nvSpPr>
            <p:spPr>
              <a:xfrm flipV="1">
                <a:off x="5570280" y="2784240"/>
                <a:ext cx="594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flipV="1">
                <a:off x="5668200" y="2785680"/>
                <a:ext cx="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5748480" y="2783160"/>
                <a:ext cx="0" cy="11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553000" y="2898720"/>
                <a:ext cx="24480" cy="637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652000" y="2894040"/>
                <a:ext cx="28800" cy="745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732280" y="2890800"/>
                <a:ext cx="25920" cy="7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835960" y="2898720"/>
                <a:ext cx="26280" cy="637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H="1" flipV="1">
                <a:off x="5773320" y="2784240"/>
                <a:ext cx="8712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5553000" y="2521080"/>
              <a:ext cx="309240" cy="173160"/>
              <a:chOff x="5553000" y="2521080"/>
              <a:chExt cx="309240" cy="173160"/>
            </a:xfrm>
          </p:grpSpPr>
          <p:sp>
            <p:nvSpPr>
              <p:cNvPr id="958" name=""/>
              <p:cNvSpPr/>
              <p:nvPr/>
            </p:nvSpPr>
            <p:spPr>
              <a:xfrm>
                <a:off x="5570280" y="2603520"/>
                <a:ext cx="5940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668200" y="261324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748480" y="2610000"/>
                <a:ext cx="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553000" y="2527560"/>
                <a:ext cx="24480" cy="633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652000" y="2521080"/>
                <a:ext cx="28800" cy="7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732280" y="2525760"/>
                <a:ext cx="25920" cy="745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835960" y="2527560"/>
                <a:ext cx="26280" cy="633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5773320" y="2603520"/>
                <a:ext cx="8712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6" name=""/>
          <p:cNvGrpSpPr/>
          <p:nvPr/>
        </p:nvGrpSpPr>
        <p:grpSpPr>
          <a:xfrm>
            <a:off x="4813200" y="1260360"/>
            <a:ext cx="309240" cy="447480"/>
            <a:chOff x="4813200" y="1260360"/>
            <a:chExt cx="309240" cy="447480"/>
          </a:xfrm>
        </p:grpSpPr>
        <p:sp>
          <p:nvSpPr>
            <p:cNvPr id="967" name=""/>
            <p:cNvSpPr/>
            <p:nvPr/>
          </p:nvSpPr>
          <p:spPr>
            <a:xfrm>
              <a:off x="4902120" y="1457280"/>
              <a:ext cx="138600" cy="651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8" name=""/>
            <p:cNvGrpSpPr/>
            <p:nvPr/>
          </p:nvGrpSpPr>
          <p:grpSpPr>
            <a:xfrm>
              <a:off x="4813200" y="1522440"/>
              <a:ext cx="309240" cy="185400"/>
              <a:chOff x="4813200" y="1522440"/>
              <a:chExt cx="309240" cy="185400"/>
            </a:xfrm>
          </p:grpSpPr>
          <p:sp>
            <p:nvSpPr>
              <p:cNvPr id="969" name=""/>
              <p:cNvSpPr/>
              <p:nvPr/>
            </p:nvSpPr>
            <p:spPr>
              <a:xfrm flipV="1">
                <a:off x="4830480" y="1523520"/>
                <a:ext cx="594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V="1">
                <a:off x="4928400" y="1524960"/>
                <a:ext cx="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V="1">
                <a:off x="5008680" y="1522440"/>
                <a:ext cx="0" cy="11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813200" y="1638000"/>
                <a:ext cx="24480" cy="637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912200" y="1633320"/>
                <a:ext cx="28800" cy="745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992480" y="1630080"/>
                <a:ext cx="25920" cy="7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096160" y="1638000"/>
                <a:ext cx="26280" cy="637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H="1" flipV="1">
                <a:off x="5033520" y="1523520"/>
                <a:ext cx="8712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7" name=""/>
            <p:cNvGrpSpPr/>
            <p:nvPr/>
          </p:nvGrpSpPr>
          <p:grpSpPr>
            <a:xfrm>
              <a:off x="4813200" y="1260360"/>
              <a:ext cx="309240" cy="173160"/>
              <a:chOff x="4813200" y="1260360"/>
              <a:chExt cx="309240" cy="173160"/>
            </a:xfrm>
          </p:grpSpPr>
          <p:sp>
            <p:nvSpPr>
              <p:cNvPr id="978" name=""/>
              <p:cNvSpPr/>
              <p:nvPr/>
            </p:nvSpPr>
            <p:spPr>
              <a:xfrm>
                <a:off x="4830480" y="1342800"/>
                <a:ext cx="5940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928400" y="135252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008680" y="1349280"/>
                <a:ext cx="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813200" y="1266840"/>
                <a:ext cx="24480" cy="633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912200" y="1260360"/>
                <a:ext cx="28800" cy="7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992480" y="1265040"/>
                <a:ext cx="25920" cy="745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096160" y="1266840"/>
                <a:ext cx="26280" cy="633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>
                <a:off x="5033520" y="1342800"/>
                <a:ext cx="8712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86" name="MANFRME1" descr=""/>
          <p:cNvPicPr/>
          <p:nvPr/>
        </p:nvPicPr>
        <p:blipFill>
          <a:blip r:embed="rId19"/>
          <a:stretch/>
        </p:blipFill>
        <p:spPr>
          <a:xfrm>
            <a:off x="1184400" y="1898640"/>
            <a:ext cx="1925640" cy="1066680"/>
          </a:xfrm>
          <a:prstGeom prst="rect">
            <a:avLst/>
          </a:prstGeom>
          <a:ln w="0">
            <a:noFill/>
          </a:ln>
        </p:spPr>
      </p:pic>
      <p:sp>
        <p:nvSpPr>
          <p:cNvPr id="987" name=""/>
          <p:cNvSpPr/>
          <p:nvPr/>
        </p:nvSpPr>
        <p:spPr>
          <a:xfrm>
            <a:off x="1999080" y="2283480"/>
            <a:ext cx="450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zh-CN" sz="35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calable Parallel Computer Architectur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C-NUMA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scalable multiprocessor system having a cache-coherent nonuniform memory access archite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ry processor has a global view of all of the memo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Distributed system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idered conventional networks of independent compu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ve multiple system images as each node runs its own 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individual machines could be combinations of MPPs, SMPs, clusters, &amp; individual compu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luster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collection of workstations of PCs that are interconnected by a high-speed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 as an integrated collection of resourc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ve a single system image spanning all its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i Jin</dc:creator>
  <dc:description/>
  <dc:language>en-US</dc:language>
  <cp:lastModifiedBy>Rajkumar Buyya</cp:lastModifiedBy>
  <dcterms:modified xsi:type="dcterms:W3CDTF">2001-12-31T06:55:19Z</dcterms:modified>
  <cp:revision>844</cp:revision>
  <dc:subject/>
  <dc:title>HPCC - Chapter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pac.syr.edu/projects/pcrc/HPJava/beijing.html</vt:lpwstr>
  </property>
  <property fmtid="{D5CDD505-2E9C-101B-9397-08002B2CF9AE}" pid="9" name="LinkColor">
    <vt:r8>16711782</vt:r8>
  </property>
  <property fmtid="{D5CDD505-2E9C-101B-9397-08002B2CF9AE}" pid="10" name="MailAddress">
    <vt:lpwstr>dbc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dbc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