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F99E-6FB8-4988-B3BA-7F031AA6D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1135-B2C1-4E2C-80A8-867F3AB4E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380D-1FCA-44E6-9230-AE843B398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44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96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44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96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ECE5-8EFA-4576-8A04-6FC6FBABF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EA6E-6FDF-4D79-89D2-0C2D4800C6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5A13-BCEC-4E3D-B6E4-88234552BB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5587-8A7B-44C0-8B3A-B3B88A8E14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6D26-7B05-4FA2-A12E-4539B6B61D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D5DC-1400-496F-9F4F-FB037AC07E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50DB-D530-4A07-A702-9F4E9F97DF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2656-EF6A-4E1C-8219-8E964B999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936D-965A-406E-B07D-4DF08D721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2371-9F25-485D-AD4A-D9DFA78932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0493-712C-4612-83FB-AB97F99C95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09D2-B436-4ED4-8757-EA634A3FD9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03A2-E16A-4D46-B6B9-DF971E19CB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44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192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44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D1EB-A28D-4908-908F-9B6CA006DA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126F-742F-4E9E-8FE5-8702129CF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B8BE-0372-4E87-A146-EA54D29ED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3425-18BA-47BC-945F-94F3AE276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835B-C07A-4367-9096-8DF85FBFA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CE44-C6A6-410E-9E6F-9DFFD6B14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120A-A2DD-435E-94AA-00C0DBF78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74AD-2050-4FB5-B69F-C62191BAF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58A6-5D7B-4652-A694-35840D8E46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5999-64B8-493F-98CF-7D15A8320E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7FB2-8A67-4950-B7B8-FD0233BBD73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iles can be accessed synchronized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y collective file oper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4 execution modes for parallel file I/O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oadcast-redu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the same data collectiv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read, all processes get a copy of the rea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write, data is written only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tter-gath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processes access different parts of the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red offs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cesses share a common file handle but access the file individu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depend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rocess has its own private hand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lective Communication in MPI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1" name="mpi26" descr=""/>
          <p:cNvPicPr/>
          <p:nvPr/>
        </p:nvPicPr>
        <p:blipFill>
          <a:blip r:embed="rId1"/>
          <a:srcRect l="8555" t="14660" r="6281" b="9096"/>
          <a:stretch/>
        </p:blipFill>
        <p:spPr>
          <a:xfrm>
            <a:off x="714240" y="1519200"/>
            <a:ext cx="761688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lective Communication in MPI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3" name="mpi27" descr=""/>
          <p:cNvPicPr/>
          <p:nvPr/>
        </p:nvPicPr>
        <p:blipFill>
          <a:blip r:embed="rId1"/>
          <a:srcRect l="8909" t="18137" r="13714" b="10415"/>
          <a:stretch/>
        </p:blipFill>
        <p:spPr>
          <a:xfrm>
            <a:off x="973080" y="1492200"/>
            <a:ext cx="738504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lective Computation in MPI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5" name="mpi31" descr=""/>
          <p:cNvPicPr/>
          <p:nvPr/>
        </p:nvPicPr>
        <p:blipFill>
          <a:blip r:embed="rId1"/>
          <a:srcRect l="2448" t="15118" r="7583" b="21335"/>
          <a:stretch/>
        </p:blipFill>
        <p:spPr>
          <a:xfrm>
            <a:off x="152280" y="1517760"/>
            <a:ext cx="8677440" cy="47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080" y="153360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ayers in the file architecture to allow flexibility for the programmer and the administration method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e independent layers in the file architectu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blem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efine problem specific data distribution among cooperating parallel processe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le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rovide a composed view of persistently stored data in the system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efine physical data distribution among the available disk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9680" y="1576440"/>
            <a:ext cx="8584920" cy="5221080"/>
            <a:chOff x="409680" y="1576440"/>
            <a:chExt cx="8584920" cy="5221080"/>
          </a:xfrm>
        </p:grpSpPr>
        <p:graphicFrame>
          <p:nvGraphicFramePr>
            <p:cNvPr id="130" name=""/>
            <p:cNvGraphicFramePr/>
            <p:nvPr/>
          </p:nvGraphicFramePr>
          <p:xfrm>
            <a:off x="409680" y="1576440"/>
            <a:ext cx="8584920" cy="522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680" y="1576440"/>
                      <a:ext cx="8584920" cy="522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4597560" y="5348160"/>
              <a:ext cx="785520" cy="336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94200" y="3500280"/>
              <a:ext cx="677880" cy="336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17760" y="5348160"/>
              <a:ext cx="785880" cy="336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5800" y="3500280"/>
              <a:ext cx="690480" cy="336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25720" y="1944720"/>
              <a:ext cx="690840" cy="336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48360" y="1960560"/>
              <a:ext cx="677880" cy="336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Mapping functions between these laye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Logical data independence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ist between the problem and the file lay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hysical data independe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ist between the file and data lay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and Techniqu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im to accomplish following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ximize the use of available parallel I/O device to increase the bandwid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ize the number of disk read and write operation per devi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ize the number of I/O specific messages between processes to avoid unnecessary costly communic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ximize hit ratio (ratio between accessed data to requested data): data siev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and Techniqu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hree groups of methods in the parallel I/O execution framewor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 level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to organize the main memory objects mapping the disk space to make disk accesses effici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ffering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runtime libraries which are linked to the application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pplication program performs the data accesses itself without the need for dedicated I/O server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/O level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to reorganize the disk access requests of the application programs to achieve better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independent I/O node servers which collect the requests and perform the ac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anticipation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ticipate data access patterns which are drawn by hints from the code advance to its exec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 Phase Method (TPM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method for reading/writing in-core arrays from/to dis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ase on the fact that I/O performance is better when process make an small number of large request instead of a large number of small on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cesses read data from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is redistributed among the processes by inter-process commun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ETP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ral I/O requests are combined into fewer larger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minate multiple disk accesses for the same data (reducing contention for disk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processes have to participate in the collective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vantage: process can cooperate to perform certain optimizations when the same data is required by more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I/O for Clusters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ologies and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549440"/>
            <a:ext cx="535968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ap 18 by E. Schikuta &amp; H.Stocking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Case for Cluster I/O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Parallel I/O Probl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ile Abstrac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hods and Techniqu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rchitectures and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ViPIOS Approac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nclusions and Future Trend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04520" y="2827440"/>
            <a:ext cx="2785320" cy="3431160"/>
            <a:chOff x="6104520" y="282744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323040" y="282744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104520" y="595152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k Directed I/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mprove the performance of reading/writing large, regular data structures such as a matrix distributed between memory and distributed disk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 traditional Unix-like parallel filesystems, individual processor make a request to the file system for each piece of data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many processes request the same data, a file is read multiple times and the data is transmitted to each processor independen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terface that support collective I/O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processes make a single joint request to the file syste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mizing data trans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igh-level request is sent to an I/O nod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age of less memory, less CPU and message passing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ouble-bufferin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pecial remote-memory “get” and “put” message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ipeline the transfer of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-Phase Data Administr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y to anticipate data access patterns of the application program as early as possible in the program execution cycle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anagement of data is split into two distinct phases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ation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layout decisions, data distribution opera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cedes the execution of the application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s the information collected during the application program compilation proce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ysical data layout schemes are defin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ual server process for each application process and disks for the stored data are chos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storage areas are prepa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 memory buffers allo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ration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accesses and data prefetch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omplishes the I/O requests of the application processes and performs necessary reorganization of the data layo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-Phase Data Administ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4120" y="1803240"/>
          <a:ext cx="861696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803240"/>
                    <a:ext cx="861696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-Phase Data Administr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nts are the general tool to support the I/O subsystem with information for the data administration proces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nts: data and problem-specific information provided by the application programmer or compi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administration h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information on the problem specific data distribution of the application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parallelization can be reached if the problem specific data distribution of the application processes matches the physical data layout on di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prefetching h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ield better performance by pipelined parallelism and file alig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ration h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he configuration of the I/O subsystem according to the problem situation respective to the underlying hardware characteristics and their specific I/O nee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chitectures and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o solve I/O bottleneck problem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wo different approach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rallel file system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level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 is enhanced by special features that deal directly with I/O at the level of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untime library for high performance languag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hance conventional high performance language such as Fortran or C/C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untime Modules and Librar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aim is to adapt graciously to the requirements of the problem characteristics specified in the application program and tools for the application programmer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executing application can hardly react dynamically to changing system situations or problem characteristic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data decisions were made during the programming and not during the execution phase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CPU of a node has to accomplish both the application processing and the I/O request of the application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optimal performance is nearly impossible to reach by the usage of runtime librari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/O Runtime Librar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4800" y="1509840"/>
          <a:ext cx="809964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509840"/>
                    <a:ext cx="809964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PI-I/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arallel I/O interface based on MPI message passing framework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pports a high-level interfac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files among multiple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er global data structures between process memories and fi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mizations of physical file layout on storage de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ree access function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itioning is accomplished by explicit offsets, individual file pointers, and shared file poin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nchronization and asynchronization (blocking, nonblocking, respectivel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rdination by collective oper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ypical implementation of MPI-IO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MPIO: Portable MPI I/O by NASA Ames Research Cen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MIO: as MPI-IO extension of MPICH by Argonne National La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PI-IO/PIOFS: by IBM Watson Research Cen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PSS implementation: by Lawrence Livermore National La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iling a File Using a Filetyp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952640"/>
          <a:ext cx="879156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52640"/>
                    <a:ext cx="879156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File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arallel disk access via a parallel filesystem interfac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Balance the parallel processing capabilities of their processor architectures with the I/O capabilities of a parallel I/O subsyste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pared to runtime libraries, parallel filesystems have the advantage that they execute independently from their applica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ecute independently from their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/O servers are directly sup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c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poin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rawback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support the capabilities of the available high performance languages direc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llow the programmer to coordinate the disk access according to the distribution profile of the problem specif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croprocessors increase their performance by 50% to 100% per year, but disk hardly their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blem is more exaggerated in processing huge data s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rt parallel I/O algorithms are required to access the data on disk effici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 high performance computing the application shifted from being CPU-bound to be I/O boun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erformance cannot be scaled up by increasing the number of CPUs any more, but by increasing the bandwidth of the I/O sub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File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73120" y="1525680"/>
          <a:ext cx="607536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525680"/>
                    <a:ext cx="60753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Database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ink to the spread of the relational model as the common user interfa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lational queries are well suited for parallel execu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wo different types of parallelism can be distinguished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-operator parallel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allelism from independent, but simultaneous, execution of different operators of the query execution tree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ra-operator parallel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titioning input data stream of one operator to a number of parallel query processe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ach process execute the same operation on a different part of dat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ViPIOS Approach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y the University of Vienn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full-fledged parallel I/O runtime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vailable both as runtime library and as I/O server configur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can serve as I/O module for high performance languages and supports the standardized MPI-IO interfa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t was developed by focusing on workstation cluster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rallel I/O for High Performance Langu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atic fit property: adapt disk access profile of programmer or compil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ynamic fit property: adaptability of the I/O runtime subsystem to applications or environment’s characteristic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Principl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Gather all available information on the application process both during the compilation process and runtime exec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 the optimal fitting data access profile for the application and may then react to the execution behavior dynamical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ow optimal performance by aiming for maximum I/O bandwid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ViPIOS is an I/O runtime system which provides efficient access to persistent files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y optimizing the data layout on the disks and allowing parallel read/write operation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Principl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ViPIOS is supporting I/O module for high performance langu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ign principl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architecture is highly distributed and decentral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ffici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itable data organization to provide a transparent view of the stored data on disk to the outside wor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ze data layout on disk respective to the static application problem description and dynamic runtime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various forms of efficient and parallel data access m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basic idea to solve the I/O bottleneck in ViPIOS is decoupl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k access operations are de-coupled from the application and performed by an independent I/O sub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ild upon a set of cooperating server process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rver processes run independently on all or a number of dedicated processing nodes on the underlying MP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-to-many relationship between the application and the serv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iPIOS System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666880" y="1487520"/>
          <a:ext cx="395316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87520"/>
                    <a:ext cx="395316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Loca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is design principle to achieve high data access performa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data requested by an application process should be read/written from to the best-suited dis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gical Data Local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the best suited ViPIOS server for an application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hysical Data Local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disk set providing the best data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ViPIOS Serv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face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the connection to the outside wor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nel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ible for all server specific ta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essage mana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responsible for communication externally and intern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Fragmen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kes decisions on the effective data layout, administration, and ViPIOS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irectory mana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ores the meta information of th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emory mana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responsible for prefetching, caching and buffer 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k manager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the access to the available and supported disk sub-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iPIOS Server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14400" y="1512720"/>
          <a:ext cx="53406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1512720"/>
                    <a:ext cx="53406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luster-based parallel I/O system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ViPIO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ent-server based tool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ing capabilities found in parallel I/O runtime libraries and parallel file 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tem Mod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untime librar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all disk I/O requests of the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is not running on independent servers, but as part of the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pendent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is running as an independent module in parallel to the application, but is started together with the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dependent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hieve highest possible I/O bandwidth by exploiting all available data administration possi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is running similar to a parallel filesystem or a database server waiting to connect via ViPIOS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iPIOS System Mod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520" y="1542960"/>
          <a:ext cx="9123480" cy="48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542960"/>
                    <a:ext cx="9123480" cy="48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ata Administr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data administration in ViPIOS is guided by two principl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wo phase data administ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ta access mo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access mod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cal data access (buddy acces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uddy server can resolve the applications requests on its own dis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mote data access (foe acces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uddy server cannot resolve the request on its disks and must broadcast the request to the other ViPIOS servers to find the owner of th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uddy” and “Foe” Serv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825560" y="1531800"/>
          <a:ext cx="5389560" cy="52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560" y="1531800"/>
                    <a:ext cx="5389560" cy="52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cal versus Remote Data Acces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6600" y="1593720"/>
          <a:ext cx="899172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1593720"/>
                    <a:ext cx="899172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ata Administr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k access mod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quential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 single application process to send a sequential read/write operation, which is processed by a single ViPIOS server in sequential man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processes the sequential process in parallel by splitting the operation into independent sub-operations and distributing them onto available ViPIOS server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ordinated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read/write operation is requested by a number of application processes collectiv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-operations are processed by ViPIOS servers sequenti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k Access Mod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560" y="1812960"/>
          <a:ext cx="8991360" cy="40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812960"/>
                    <a:ext cx="899136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11" name="paralelio" descr=""/>
          <p:cNvPicPr/>
          <p:nvPr/>
        </p:nvPicPr>
        <p:blipFill>
          <a:blip r:embed="rId1"/>
          <a:stretch/>
        </p:blipFill>
        <p:spPr>
          <a:xfrm>
            <a:off x="4554360" y="1741320"/>
            <a:ext cx="3616560" cy="4692960"/>
          </a:xfrm>
          <a:prstGeom prst="rect">
            <a:avLst/>
          </a:prstGeom>
          <a:ln w="0">
            <a:noFill/>
          </a:ln>
        </p:spPr>
      </p:pic>
      <p:pic>
        <p:nvPicPr>
          <p:cNvPr id="212" name="MYBOOK" descr=""/>
          <p:cNvPicPr/>
          <p:nvPr/>
        </p:nvPicPr>
        <p:blipFill>
          <a:blip r:embed="rId2"/>
          <a:stretch/>
        </p:blipFill>
        <p:spPr>
          <a:xfrm>
            <a:off x="546120" y="1711440"/>
            <a:ext cx="349416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ase for Cluster I/O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n architectural framework similar to a cluster of computers can be found in state-of-the-art MPP systems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wo different types of I/O systems for MPP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ernal attached I/O sub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ed with the MPP by a separate interconnection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dicat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administration and application development are relatively si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nal I/O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/O node is a conventional processing node with a disk attach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the software distinguishes between I/O and computing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/O Architecture Topolog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1852560"/>
          <a:ext cx="879156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52560"/>
                    <a:ext cx="879156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ase for Cluster I/O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PP I/O framework is similar to cluster I/O framework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minent drawback is the latency of the interconnection network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putational-bound appl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overcome by applying new bus technologies (Giganet, Myrinet) or by using multiple I/O buses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/O based appl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already developed methods and paradigms to overcome this I/O bottleneck on MPP systems can similarly be used on cluster system.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s are a suitable platform for I/O based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arallel I/O Problem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O needs of typical supercomputing applic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ratch fi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point/resta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cessing out-of-core stru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gular Probl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approach is supported by the well-known SPMD mod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thread control-parallel exec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namespa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se synchron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model design a sequential program and transfer it to parallel execu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arallel I/O Problem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rregular Proble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ccess patterns cannot be predicted until run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different kinds to be optim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gular control stru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ditional statements making it inefficient to run on synchronous programming mode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gular data stru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balanced trees or graph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gular communication patter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e lead to non-determini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ut of Core (OOC) Comput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mary data structure do not wholly fit into main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ation is carried out in several ph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s brought into main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re back onto secondary sto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3:58Z</dcterms:modified>
  <cp:revision>812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