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215E-FF9D-4BD9-BB5F-F7B296086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720" y="428832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A1FE-1523-41FB-886D-716E55CEB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BBB6-4DBF-4D5A-A378-C62B14A83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752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868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72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752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868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DA0E-356B-4EEF-B3E4-80D385ECF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3C687-725A-4EEF-ADB0-0357DD89B5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F935-9328-4A93-BDE2-6F7668DCD6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67C6-E0E2-4481-B391-05D69E04CF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FB77-0156-46D2-9A1A-0BF2548511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C4B92-54D9-47DD-9698-E13F558327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8AD10-F822-4B20-9C07-3567B19365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FC2C-0038-4FBC-BF25-509410A390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8E17-A284-45A8-B084-C2DFC4086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4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7A74E-2472-4FB5-9E3F-B0D5E2A6F1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7574-CD7A-4E6B-9210-2407BE68F8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720" y="428832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37328-CD13-4481-9E52-4DBBEBB5E5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4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B20E-A576-4B86-AEAD-FBB0782C7E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0752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868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72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0752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868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0D4DB-75C7-4567-B873-41467263B1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E86B-C862-4A87-B3A5-7E8C61637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FF3A-ACCA-4445-A161-74E550699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6052-1C48-45E2-A98F-6B360DE4C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6A7C-4DBE-4F2C-B769-251FA5B81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F389-B31E-4528-8263-E6EAB0887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9C5D-B46F-4CA1-AB43-CC1C0C843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BA64-7EE7-4848-A319-7E498BB81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012D-7FC5-4F86-A8BE-C5E2E5EC21A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EAAC-0179-4AB4-98A2-C513EBCFEE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641E-8E52-4337-8036-11CD030CFA6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Paging System Stru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76280" y="1467000"/>
          <a:ext cx="8184960" cy="52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467000"/>
                    <a:ext cx="818496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Memory Paging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mplementation Alternativ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client workstation has a remote paging sub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-leve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able it to use network memory as backing sto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global resource management proces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ning on a workstation in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ld information about the memory resources &amp; how they are being utilized in the clust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configuration server  (registry server) proc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onsible for the setup of the network memory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contacted when a machine wants to enter or leave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enticated according to the system administrator’s ru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Memory Paging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ent remote paging sub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 main compon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echanism for intercepting &amp; handling page fau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ge management poli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ep track of which local pages are stored on which remote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 alternative implementations of transparent remote paging subsystem on the client workst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the mechanisms provided by the existing client’s 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modifying the virtual memory manager &amp; its mechanisms in the client’s OS kern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ransparent Network RAM Implementation using Existing OS Mechanisms (I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er Level Memory Managemen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ach program uses new memory allocation &amp; management calls, which are usually contained in a library dynamically or statically linked to the user appl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quire some program code modif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totype by E. Anders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ustom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mallo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ibrar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TCP/IP, perform a 4K page replacement in 1.5 – 8.0 ms (1.3 – 6.6 fas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echanis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cept page faults through the use of segmentation faul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egmentation fault signal from OS memory mana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signal intercepted by the user level signal handler rout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ge management algorithm is called to locate &amp; transfer a remote page into local memory, replacing a local p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 Level Memory Management Solution’s Stru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35200" y="1515960"/>
          <a:ext cx="7569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515960"/>
                    <a:ext cx="7569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ransparent Network RAM Implementation using Existing OS Mechanisms (II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wap Device Driver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OS level implemen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modern operating system provide virtual memory manager which swap pages to the first device on the list of swap devices which will be the remote memory paging device dri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 a custom block device &amp; configure the virtual memory manager to use it for physical memory backing stor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run out of physical memory, it will swap pages to the first device on the list (may be the remote memory paging device drive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and when this Network RAM device runs out of space, the virtual memory manager will swap pages to the next dev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in concept &amp; require one minor modification to the 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addition of a device driv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wap Device Driver Solution’s Stru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58760" y="1542960"/>
          <a:ext cx="720900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1542960"/>
                    <a:ext cx="720900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ransparent Network RAM Implementation using Existing OS Mechanisms (III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age Management Polici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ich memory server should the client select each time to send p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resource management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 the pages equally among the serv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ndling of a server’s pages when its workstation becomes load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rm the client &amp; the other servers of its loaded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er them to the server’s disk &amp; deallocate them each time they are referenc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er all the pages back to the 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en all servers are ful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 the pages on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ransparent Network RAM Implementation Through OS Kernel Modification (I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OS modific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ftware solution offers the highest performance without modifying user progra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 arduous tas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ot portable between architectur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Kernel modific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 global memory management in a workstation clu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ing a single unified memory manager as low-level component of OS that runs on each workst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integrate all the Network RAM for use by all higher-level functions, including virtual memory paging, memory mapped files and filesystem cach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Operating System Modification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90640" y="1544760"/>
          <a:ext cx="7091280" cy="52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1544760"/>
                    <a:ext cx="7091280" cy="52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twork RAM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636560"/>
            <a:ext cx="5240520" cy="493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hap 16 by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760320" indent="-266760">
              <a:lnSpc>
                <a:spcPts val="3498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. Flouris &amp; E. Marka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emote Memory Pag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etwork Memory File System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pplications of Network RAM in Databas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847120" y="2214720"/>
            <a:ext cx="2785320" cy="3431160"/>
            <a:chOff x="5847120" y="221472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065640" y="221472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847120" y="533880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ransparent Network RAM Implementation Through OS Kernel Modification (II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Global memory management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age fault in node P in GM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aulted page is in the global memory of another node Q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aulted page is in the global memory nodes of node Q, but P’s memory contains only local p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age is on dis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aulted page is a shared page in the local memory of another node Q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080" y="151920"/>
            <a:ext cx="89917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oosting Performance with Subpag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ubpages are transferred over the network much faster than whole pag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ot with magnetic disk transfe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sing subpages allow a large window for the overlap of computation with communica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liability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ain disadvantages of remote memory pag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curity: can be resolved through the use of a registr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liability (fault-toleran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e a reliable devi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simplest reliability polic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liable device such as the dis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ync write but, bandwidth lim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chieve high availability but sim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 under fail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k memory overhead (expensiv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plication – mirror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ing page replication to remote memory without using dis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-) use a lot of memory space, high network overhea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liability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mple par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tensively used in RAIDs, based on XOR op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duce memory requirement (1+1/S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twork bandwidth &amp; computation overhea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wo servers have failure???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arity logg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duce the network overhead close to (1 + 1/S)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fficult problems from page overwri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n Example of the Simple Parity Policy (Each server in this example can store 1000 pages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547640"/>
          <a:ext cx="8791560" cy="488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47640"/>
                    <a:ext cx="8791560" cy="48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Parity Logging Example with Four Memory Servers and One Parity Server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41440" y="1501920"/>
          <a:ext cx="840240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501920"/>
                    <a:ext cx="840240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Paging Prototyp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Global Memory Service (GMS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 modified kernel solution for using Network RAM as a paging device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reliability) Write data asynchronously to dis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prototype was implemented on the DEC OSF/1 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 real application workloads, show speedups of 1.5 to 3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d effectively to load chan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enerally very efficient system for remote memory pag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s and Cons of G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280" y="2289240"/>
          <a:ext cx="8791560" cy="35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9240"/>
                    <a:ext cx="879156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Paging Prototyp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he Remote Memory Pager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se the swap device driver approach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prototype was implemented on the DEC OSF/1 v3.2 O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nsist of a swap device driver on the client machine &amp; a user-level memory server program runs on the server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ffective remote paging syst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need to modify the 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s and Cons of the Remote Memory Pag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5680" y="2203560"/>
          <a:ext cx="8991720" cy="34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2203560"/>
                    <a:ext cx="8991720" cy="34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iscuss efficient distribution &amp; exploitation of main memory in a cluster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Network RAM or Network Memor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ggregate main memory of the workstation in a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al memory vs. remote mem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significant amount of resources unused in the cluster at any given tim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0-90% of workstation will be idle in the evening &amp; late afterno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3 of workstations are completely unused, even at the busiest times of d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0-85% of the Network RAM in a cluster is id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nsist of volatile memor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till can offer good reliabilit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some form of redundancy, such as replication of data or par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fer an excellent cost-effective alternative to magnetic disk stor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twork Memory File System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e the Network RAM as a filesystem cache, or directly as a faster-than-disk storage device for file I/O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ing Network Memory as a File Cach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 filesystem use a portion of the workstation’s memory as a filesystem cach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wo probl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e cached copies waste local mem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knowledge of the file’s exist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ral ways to improve the filesystem’s caching performa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iminate the multiple cached cop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 a global network memory filesystem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operate caching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twork Memory File System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Network RamDisk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k’s I/O performanc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reliable network memory for directly storing temporary fi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ilar to Remote Memory Pag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be easily implemented without modifying OS (Device Driv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be accessed by any filesystem (NF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RamDi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block device that unifies all the idle main memories in a NOW under a disk interf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haves like any normal disk, but implemented in main memory (RA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iff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ead of memory pages, send disk blocks to remote memo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sk blocks are much smaller than memory pages (512 or 1024 bytes) and on many OSs variable in size (from 512 bytes to 8 Kbytes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pplications of Network RAM in Databas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ansaction-Based System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substitute the disk accesses with Network RAM ac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ducing the latency of a trans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transaction during its execution makes a number of disk accesses to read its data, makes some designated calculations on that data, writes its results to the disk and, at the end, comm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omicity &amp; recover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main areas where Network RAM can be used to boost a transactions-based system’s performan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 the initial phase of a transaction when read requests from the disk are performe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ugh the use of global filesystem cach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ed up synchronous write operations to reliable storag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at transaction commit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action-based systems make many small synchronous writes to stable stor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pplications of Network RAM in Databas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ansaction-Based System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teps performed in a transaction-based system that uses Network RA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transaction commit time, the data are synchronously written to remote main mem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urrently, the same data are asynchronously sent to the dis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ata have been safely written to the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the modified transaction-based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transaction commits after the second ste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icate the data in the main memories of 2 works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use of Network RAM can deliver up to 2 orders of magnitude higher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Emergence of high speed interconnection network added a new layer in memory hierarchy (Network RAM)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Boost the performance of application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te memory pag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system &amp; data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nclus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Network RAM results in significant performance improv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grating Network RAM in existing systems is eas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ice driver, loadable filesystem, user-level c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benefits of Network RAM will probably increase with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ap between memory and disk continue to be wid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uture Trend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ability &amp; Filesystem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echnology tren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gh performance network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witched high performance local area network : ex) myri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 latency communication and messaging protocols : ex) U-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tency of Active Message on ATM (2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) vs. magnetic disk latency (10m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gh performance workst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mories with low c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RAM even more attractiv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I/O processor performance gap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erformance improvement rate f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croprocessor:  50-100% per y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k latency:  10% per y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latency:  20% per y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bandwidth:  45% per y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Hierarchy Figures for a Typical Workstation Clust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1960" y="1957320"/>
          <a:ext cx="7945560" cy="25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957320"/>
                    <a:ext cx="794556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720" y="5091120"/>
            <a:ext cx="88167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typical NOW with 100 worksta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network of 20 </a:t>
            </a:r>
            <a:r>
              <a:rPr b="0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 latency &amp; 15 MB/s bandwidth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Issues in Using Network RA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network RAM consists essentially of locating &amp; managing effectively unused memory resources in a workstation clust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s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up-to-date inform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bout unused mem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loit memory in a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transparent wa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 that local users will not notice any performance degrad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 the cooperation of several different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on use of Network 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ote memory pag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formance: between the local RAM and the dis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memory file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 be used to store temporary 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y providing Network RAM with a filesystem abstra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memory DB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 be used as a large DB cache and/or a fast non-volatile data buffer to store DB sensitive 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Memory Pag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64-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it address spa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avy memory usa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ication’s working sets have increased dramaticall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phisticated GUI, multimedia, AI, VLSI design tools, DB and transaction processing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etwork RA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quivalent of remote memory pag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ache) – (main memory) – (network RAM) – (dis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ster than the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memory-intensive applications could benefit from Network RA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ful for mobile or portable computers, where storage space is lim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nging the Memory Hierarch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280" y="1706400"/>
          <a:ext cx="879156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06400"/>
                    <a:ext cx="879156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Memory Pag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mplementation Alternativ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in idea of remote memory pag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memory server processes on workstations that are either idle or lightly loaded and have sufficient amount of unused physical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 policy for the page managem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local pag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remote nodes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periodically asks the global resource mana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 the pages equally among the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server lo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gotiation from server to client &amp; mig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er data to server’s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8:02Z</dcterms:modified>
  <cp:revision>780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