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8CD0-050A-4330-8339-280811D59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FA48-6361-4BE4-9236-A4D75E408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DE3A-AA08-495C-980C-F58FCE926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FCBB-18CC-4F02-811B-EFC1DE59D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E5EE-CC9F-46E7-AE16-D2FC5AE76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7520-E727-4673-9B61-16BC83040D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C529-00E1-4ACF-8DA9-0775DA1E83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6715-BA02-41D7-82C4-247147D58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F0E0-4509-48F5-B515-AEE5938776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04EE-BBD0-4903-B325-156C3A0C2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108D-E901-489E-BBBF-E545D1042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915E-CDE4-42E0-9FE9-3F014FC7A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DD94-D8E3-4F8B-889B-CBD5B9F4EC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388D-0968-45BD-8157-21DBFA66CF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4DD3-27A1-49CF-B125-E1348A28E1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91A3-24C4-4984-8CDF-7D5BB6EA65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F33E-D56A-4A9E-A299-CD6AD1BC5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1DD5-B099-4E74-B194-75FF585BE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5770-BB4C-466B-9AE1-9DA915804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1B95-6328-42EA-BD1F-DEFCB86ED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9F99-57E1-4A58-80C5-2A120A692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9597-DA4A-4576-85EB-92F2DC1AE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B5E9-8A5A-4328-9AC4-DF7E0BAB2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AD60-2BEF-4A64-9BC2-A3FBBD205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6EE8-C798-46A0-9826-784DB3F705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ED2-2D6A-4FE5-BF37-3FB8A0CC7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ADED-ECAD-4375-AF53-BA7E421E1EC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CP, UDP, IP, and Sock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most standard communication protocols</a:t>
            </a: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net Protocol (IP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unreliable delivery of single packets to one-hop distant hos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lements two basic kinds of Q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ed,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, UD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rkeley Socke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oth TCP/IP and UDP/IP were made available to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application lev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hrough the API, namely Berkeley Socke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is perceived a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character devic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and sockets ar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file descriptor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ed to the devi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level of abstraction is quite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P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mote Procedure Call, RPC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hanced general purpose (specially distributed client-server applications) network abstraction atop sock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 facto standard for distributed client-serv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level of abstraction is hig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miliarity and general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quential-like programm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s are requested by calling procedures with suitable parameters. The called service may also return a res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ding any format differe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ides any format difference across different systems connected to the network in heterogeneous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PI and PV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eneral-purpose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general-purpose systems for message passing and parallel program management on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distributed platform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t the application level, based on available IPC mechanis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Virtual Machine (PVM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an easy-to-use programming interface for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process cre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P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lu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run-time syste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or elementary application manage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un-time programmable but ineffici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Passing Interface (MPI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ffers a larger and more versatile set of routines than PVM, but does not offer run-time management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reater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 efficien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ared to PV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ne-sided communication paradig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ever the sender process transmits a message, the message exchange occurs regardless of the current activity of the receiver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ducing overhead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goal is to reduce the impact of communication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n application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tive Messag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s the need of many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temporary stor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messages along the communication p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proper hardware support, it is easy to overlap communication with compu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soon as delivered, each message triggers a user-programmed function of the destination process, called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receiver hand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ceiver handler act as a separate thread consuming the message, therefore decoupling message management from the current activity of the main thread of the destination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01760" y="1771560"/>
          <a:ext cx="4492800" cy="4741920"/>
        </p:xfrm>
        <a:graphic>
          <a:graphicData uri="http://schemas.openxmlformats.org/drawingml/2006/table">
            <a:tbl>
              <a:tblPr/>
              <a:tblGrid>
                <a:gridCol w="449280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-II API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rtual Network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irmwar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ardwar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Communication Mode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566720"/>
          <a:ext cx="7688160" cy="51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66720"/>
                    <a:ext cx="7688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400" y="152280"/>
            <a:ext cx="8991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nceptual Depiction of Send-Receive Protocol for Small Mess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28600" y="1566720"/>
          <a:ext cx="6762960" cy="52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1566720"/>
                    <a:ext cx="6762960" cy="52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400" y="152280"/>
            <a:ext cx="8991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nceptual Depiction of Send-Receive Protocol for Large Mess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25640" y="1617840"/>
          <a:ext cx="681012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17840"/>
                    <a:ext cx="68101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M-II API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pport three types of messag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medium, bul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turn-to-sender error mod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undeliverable messages are returned to their se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s can register per-endpoint error handl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Virtual networ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bstract view of collections of endpoints as virtualized interconn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rect network acces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ndpoint is mapped into a process’s address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t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standard virtual memory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-demand binding of endpoint to physical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 memory: endpoint cache – active end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memory: less active end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point fault hand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ghtweight Messaging System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ter 10: b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. Chiola &amp; G.Ciacc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30360"/>
            <a:ext cx="543564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y/Bandwidth Evaluation of Communication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ditional Communication Mechanisms for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 Communication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-Level Lightweight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Level Lightweight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parison Among Message Passing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4320" y="2741760"/>
            <a:ext cx="2785320" cy="3431160"/>
            <a:chOff x="6304320" y="274176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22840" y="274176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04320" y="586584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irmwa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point schedul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ighted round-robin polic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kip empty queu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attempts to send, where k=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ll the communication pipe between sender and receiv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vent receiver buffer overru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e level flow contro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r-level credit base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C level stop-and-wait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-level back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nnel management tab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nnel-based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r manag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out and retransmis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rror hand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duplicated or dropped messa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quence number &amp; timesta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unreachable endpoi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out &amp; retransmis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&amp; correction other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r-level error handl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erforman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100 Ultra SPARC stations &amp; 40 Myrinet switch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42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round trip tim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1 MB/s bandwidth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ghtweight Communication Mechanis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ightweight protocol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e with the lack of efficiency of standard communication protocols for cluster compu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inux TCP/IP is not good for cluster computin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formance test in Fast Etherne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ntium II 300 MHz, Linux kernel 2.0.2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PCs are connected by UTP ported 3Com 3c905 Fast Eth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tency = 77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(socket) /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(car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rge data stream: 86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rt message (&lt;1500 bytes): less than 50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rawbacks of layered protocol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-to-memory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r code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vy functional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nux 2.0.29 TCP/IP Sockets: Half-Duplex “Ping-Pong” Throughput with Various NICs and CPUs (Nagle Disabled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36600" y="1521000"/>
          <a:ext cx="609300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521000"/>
                    <a:ext cx="609300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We Need for Efficient Cluster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o implement an efficient messaging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oose an appropriate LAN hardwa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) 3COM 3c905 NIC can be programmed in two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descriptor-based DMA (DBDMA), the NIC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 it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forms DMA transfers between host memory and the network by ‘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MA descrip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PU-driven DMA, this leads to a ‘store-and-forward’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ilor the protocols to the underlying LAN hard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) flow control of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avoids packet overflow at the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receiver si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cannot prevent overflow to occur in a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LAN swit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luster computing, the overflow in a LAN switch is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We Need for Efficient Cluster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 implement an efficient messaging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arget the protocols to the user nee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users and different application domains may need different tradeoffs between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timize the protocol code and the NIC driver as much as possibl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use of memory-to-memory copy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)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IP is the layered structure needed memory-to-memory data mov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multiple networks in paralle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reases the aggregate communication bandwidt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not reduce lat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mplifying LAN-wide host nam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ressing conventions in a LAN might be simpler than in a W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mplifying communication protoco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ng protocol functions are time-consuming and have poor locality that generates a large number of cache mi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neral-purpose networks have a high error rate, but LANs have a low error r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mistic protocols assume no communication errors and no conges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voiding temporary buffering of mess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ero-copy protoco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apping the kernel-level temporary buffers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user memory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k the user data structures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hysical 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let the NIC access them directly upon communication via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gather/scatter fac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ipelined communication pat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me NICs may transmit data over the physical medium while the host-to-NIC DMA or programmed I/O transfer is still in prog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formance improvement is obtained at both latency and through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void system calls for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voking a system call is a time-consuming ta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r-level communication architec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s the communication system entirely at the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user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buffers and registers of the NIC are remapped from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kernel s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user memory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prote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llenges in a multitasking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ightweight system calls for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liminate the need of system cal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ve only a subset of CPU registers and do not invoke the scheduler upon 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interrupt pat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order to reduc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terrupt latenc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interrupt-driven receives,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code pa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the interrupt handler of the network device driver is optimiz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olling the network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usual method of notifying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message arrival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terrup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time-consuming and sometimes unaccept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the ability of explicitl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spectin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r polling the network devices for incoming messages, besides interrupt-based arrival not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viding very low-level mechanis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kind of RISC approa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only very low-level primitives that can be combined in various ways to form higher level communication semantics and APIs in an ‘ad hoc’ 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mmunication mechanism is one of the most important part in cluster syst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s and Workstations become more powerful and fast network hardware become more affor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ing communication software needs to be revisited in order not to be a severe bottleneck of cluster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n this chapt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icture of the state-of-the-art in the field of clusterwide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 existing proto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essage-passing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s and clusters are distributed-memory archite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distributed-memory architectures are based on message-passing communication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Importanc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fficient Collective Communic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o turn the potential benefits of clusters into widespread use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velopment of parallel applications exhibiting high enough performance and efficiency with a reasonable programming eff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orting probl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MPI code is easily ported from one hardware platform to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performance and efficiency of the code execution is not ported across platfo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llective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ive routines often provide the most frequent and extreme instance of “lack of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erformance port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most cases, collective communications are implemented in terms of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oint-to-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munications arranged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standard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mplies very poor performance with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a result, parallel programs hardly ever rely on collective rout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79156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lassification of Lightweight Communication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assification of lightweight communication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nel-level systems and user-level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Kernel-level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essaging system is supported by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S kern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with a set of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low-lev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mmunication mechanisms embedding a communication protoc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ch mechanisms are made available to the user level through a number of OS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ystem c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t into the architecture of modern OS providing protected acces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drawback is that traditional protection mechanisms may require quite a high softwar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verhea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kernel-to-user data movement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lassification of Lightweight Communication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r-level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roves performance by minimizing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S involv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the communication pat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 to the communication buffers of the network interface is granted without invoking an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ystem c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communication layer as well as API is implemented a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user-level programming libra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allow protected access to the communication de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-user network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cceptable to modern process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ict gang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efficient, intervening OS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 programmable communication de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common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ition or modification of OS are nee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rnel-level Lightweight Communic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dustry-Standard API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owul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ast So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M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est-Performance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oa Active Message MAchine (GAMMA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xford BSP Clust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-Net on Fast Ethern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rtability and reus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main goal besides efficiency is to comply an industry-standard for the low-level communication AP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oes not force any major modification to the existing OS, a new communication system is simply added as an extension of the OS itsel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rawback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optimization in the underlying communication layer could be hampered by the choice of an industry standar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eowulf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inux-based cluster of PC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nnel bond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or more LANs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-dimensional me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Ethernet cards on each node are connected to horizontal and vertical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node acts as a software ro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Socke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lementation of TCP sockets atop an Active Message laye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cket descriptors opened at fork time are shared with child process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oor performance: UltraSPARC 1 connected by Myri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7.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latency due to Active Mes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.9 MB/s asymptotic bandwidth due to SBus bottlene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2232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M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reduce communication overhead in a cluster of PCs running Linux connected by Fast Ethern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flow control and packet acknowledge from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y host 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tain BSD socket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porting of applications (ex. MPIC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ing NIC dr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: Fast Ethernet and Pentium 133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6.6 MB/s (TCP/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 for MPI/PARMA (4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for MP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 for MPIP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ified protocols designed according to a performance-oriented approa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enoa Active Message Machine (GAMMA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tive Message-like communication abstraction called Active Ports allowed a </a:t>
            </a:r>
            <a:r>
              <a:rPr b="0" lang="en-US" sz="2600" spc="-1" strike="noStrike">
                <a:solidFill>
                  <a:srgbClr val="ffcf01"/>
                </a:solidFill>
                <a:latin typeface="Comic Sans MS"/>
              </a:rPr>
              <a:t>zero-copy optimist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protoco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lightweight system call, fast interrupt path, and pipelined communication pa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user protected access to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reliable: raise error condition without recove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icient performance (100base-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12.2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*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ommunication system for Fast Ethernet based upon a reliable protocol implemented at kernel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ap kernel-space buffers into user-space to allow direct ac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ly a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 sing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user process per node can be granted network ac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rawbac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ernel-operated network multiplexing is perform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processes have to explicitly fragment and reassemble messages longer than the Ethernet MT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y good 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.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 and 12.2 MB/s asymptotic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tency/Bandwidth Evaluation of Communication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jor performance measuremen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erformance of communication systems are mostly measured by two parameters below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ncy, 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s with the synchronization semantics of a message ex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ptotic bandwidth,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s with the (large, intensive) data transfer semantics of a message ex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xford BSP Clus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some structural restriction on communication traffic by allowing only some well known patterns to occ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od to optimizing error detection and recov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rallel program running on a BSP cluster is assumed to comply with the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BSP computational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s of BSP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tination scheduling is different from processor to 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d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ing exchanged packets as acknowledgement packe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Plib-N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ost efficient version of the BSP cluster protocol has been implemented as a device driver called BSPlib-N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apping the kernel-level FIFOs of the NIC into user memory space to allow user-level access to the FIF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eed to “start transmission” system calls along the whole end-to-end communication pa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9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 latency, 11.7 MB/s asymptotic bandwid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-Net on Fast Ether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 a NIC’s programmable onboard proces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drawback is the very raw programming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one-way latency, 12.1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-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-level network interface for parallel and distributed compu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sign goa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w latency, high bandwidth with small messag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phasis protocol design and integration flexibi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rtable to off-the-shelf communication 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ole of U-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plex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t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irtualization of N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ditional Communication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2160" y="2009880"/>
          <a:ext cx="896148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2009880"/>
                    <a:ext cx="89614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-Net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862280"/>
          <a:ext cx="897408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62280"/>
                    <a:ext cx="897408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uilding Blocks of U-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280" y="1744560"/>
          <a:ext cx="879156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4560"/>
                    <a:ext cx="87915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-level approa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rived from the assumption that OS communications are inefficient by defini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OS involvement in the communication path is minimiz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ree solutions to guarantee prot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verage programmable NIC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device multiplexing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anting network access to one single trusted us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ways accep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gang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lusive access to the network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asic Interface for Parallelism (BIP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ed atop a Myrinet network of Pentium PCs running 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both blocking and unblocking communication primi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-receive paradigm implemented according to rendezvous communication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licies for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mple detection feature without recove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 any send message for pipeli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id of protected multiplexing of the N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gister of the Myrinet adapter and the memory regions are fully exposed to user-level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4.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126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/IP over BIP: 7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35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PI over BIP: 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113.7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Mess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 Message-like system running on Myrinet-connected clu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le in-order delivery with flow control and retransmiss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orks only in single-user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hancement in FM 2.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gramming interface for 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/scatter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CH over FM: 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77 MB/s bandwidth (FM 1.x, Sun SPAR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77 MB/s bandwidth (FM 2.x, Pentiu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ewlett-Packard Active Messages (HPAM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implementation of Active Messages on a FDDI-connected network of HP 9000/735 worksta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ed, direct access to the network by a single process in mutual exclu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iable delivery with flow control and retransmi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 (FDDI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12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tenc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ze the speed of underlying system to synchronize two cooperating processes by a message exchan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ime needed to send a minimal-size message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the instant the sender starts a send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the instant receiver is notified about the message arri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nder and receiver are application level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asure the latency, 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 ping-pong microbenchmar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computed as half the average round-trip time (RT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card the first few data for excluding “warm-up” eff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30320"/>
            <a:ext cx="87915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-Net for AT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 processes are given direct protected access to the network device with no virtualiz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gramming interface of U-Net is very similar to the one of the NIC itsel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dpoi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rconnect is virtualized as a set of ‘endpoint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point buffers are used as portions of the NIC’s send/receive FIFO que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point remapping is to grant direct, memory-mapped, protected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ance (155 Mbps AT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4.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15 MB/s asymptotic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30320"/>
            <a:ext cx="87915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Virtual Interface Architecture (VIA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attempt to standardize user-level communication architectures by Compaq, Intel, and Microsof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es a communication architecture extending the basic U-Net interface with remote DMA (RDMA)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N with high bandwidth, low latency, low error rate, scalable, and highly available interconn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detection in communication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ed multiplexing in NIC among user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 is not mandat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-V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irst version of VIA implementation on Fast/Gigabit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rnel-emulated VIA for Linu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 latency, 11.9 MB/s asymptotic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omparison Among Message Passing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lusters vs. MPP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tandard Interface approach vs. other approach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User level vs. kernel-level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ng-Pong” Comparison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ssage Passing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63520" y="1463760"/>
          <a:ext cx="6489720" cy="53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463760"/>
                    <a:ext cx="648972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d-to-end and One-sided Asymptotic Bandwidth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zes how fast a data transfer may occur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ymptotic”: the transfer speed is measured for a very large amount da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, bulk, or 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 of asymptotic bandwidth, 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 = S/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time needed to send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ytes of data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ust be very large in order to isolate the data transfer from any other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ed to the synchronization semant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d-to-end and One-sided Asymptotic Bandwidth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asure the asymptotic bandwidth, 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d-to-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ping-pong microbenchmark to measure the average round-trip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omputed as half the average round-trip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measures the transfer rate of the whole end-to-end communication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e-si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crobenchmark to measure the average sen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measures the transfer rate as perceived by the sender side of the communication path, thus hiding the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the receiver s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omputed as the average data transfer time (not divided by 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value of one-sided is greater than one of end-to-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roughpu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Delay, D(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(S) = L + (S –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/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minimal message size allowed by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lf the round-trip time (ping-po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 transfer time (p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 of throughput, T(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(S) = S/D(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worth nothing that the asymptotic bandwidth is nothing but the throughput for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very large mess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partial view of the entire throughput curv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B /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the messag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ditional Communication Mechanisms for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rconnection of standard componen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focus on the standardization for interoperation and portability than efficient use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CP/IP , UDP/IP and Socke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PC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PI and PV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ctive Messag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3:35Z</dcterms:modified>
  <cp:revision>821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