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779640" y="-36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779640" y="942768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0C6CAA-629F-4F85-8859-26F1A83528E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배경설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C7CF-92B7-4B27-865C-05C39CF5A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A7D3-8569-4B99-BA21-BFE043C4F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F0F0-3681-4935-8DD5-EAA1A5615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80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028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932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80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028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2C3E-4693-44E7-8C46-9F3C8C61A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7A69-4167-4BEF-88F7-64F5D09FC2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4E81-F603-4F78-807D-64E854A1D1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7CB2-2383-4928-9E57-921DAC5D9A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230C-2805-4AB3-99CC-FCB0269DF5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BC20-68AF-470B-B3FC-8EF3ADD64C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E13E-357F-49A5-BEB4-4A8CFDBD38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0E6C-1D91-4789-AFEA-019711905E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670B-D49C-4730-9549-744C30237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A3F5-917F-4318-83DA-C0D5897DA3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95CE-4057-41D5-9D9A-B732C4B1EB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3411-9F77-4FCD-B62A-D0B785E49E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535E-515F-4040-9573-8243A2E779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80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028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932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80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028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A6D2-9008-40AE-B268-6A80727AC4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8FF5-919C-4B0E-92AE-404C850D9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8EB2-3682-4318-B3E0-CA49C9C4A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1DA4-EB77-418B-A993-78186C9D8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9B3F-ECB1-4484-82AC-18C6BD740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E758-7E99-45FF-B372-A23FE3004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4556-A192-4241-8589-FDDE88BC2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78EE-B723-4773-81B1-D8803563E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D770-0A20-4C90-9C1F-9B97856AEF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A597-5949-4772-BAB7-B9EBCFCA51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1376-B772-457A-9D5F-F3E6B1D7C9C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omain Nam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m the basis of many balancing metho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ping Fully Qualified Domain Name (FQDN) to IP add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ation of both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ost name and the domain 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reate a uniquely identifiable name for a system on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omain Name System (DN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tandard translation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ping names to address and vice 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 multiple hosts to a single host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 most computer are referenced by their FQDN and not their direct IP add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  server becomes a crucial aid to the balancing device system to help determine load distrib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ire-speed Process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bility to perform network traffic processing and redirection at the full speed of the incoming packets to prevent any traffic bottlenecks at the network devic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perating system may be limited in this capacit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is can result in slower response or an inability to accept new connections at individual nodes in a cluste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ode Operating System Limit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me operating systems have limitation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peed at which they can process pack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umber of connections they can sup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ype of traffic they can ac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arge number of interrupts as new packets arri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is affects the cluster in much the same way as for wire-speed process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alancing Device Limit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ll balancing devices have practical limitations incurred by memory and processing spe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alancing methods which work well in small clusters may not be scaleable to large numbers of no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tables of information on incoming connections and node statu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 limit the size of the cluster and the traffic processing 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ssion- and nonsession-based Traffic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ssion-based  traffi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IP packet with TCP_SYN and TCP_FIN messages as the start and end of a sess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all traffic between the source and destination to a specific node in the clu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nsession-based traffi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not be completely accounte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d a patchwork system for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ing track of incoming datagram from a 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blishing a time limit for a ‘sessio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interval-based ‘UDP session’ managem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pplication Dependenci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me applications require that once a source computer has accessed a particular node, they continue to connect to that same node every time in the futur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inuous service in shared nothing clu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n be fixed by changing the application code to build a more cluster-aware appl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not always poss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 single function that select the node within a cluster to send a new request to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ome of these methods can be used by themselv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Used in conjunction with another simple or advanced method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eight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ovides a simple way of conferring load onto the nodes according to the priority value or weight of the nod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fferent weights to the nodes of different capacit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Randomiz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ssigns each node with a value generated by a pseudorandom algorith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orks good in identical node environmen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ound-Robi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signs the next incoming request to the next node in the list and rotates through the list continuously for further reques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monly used by itself in D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NS servers don’t keep track of server lo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caching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fective where all the nodes in the cluster are identical in capacity and performa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knowledge of nodes, address cach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as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similar to the simple weighting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nef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ckets from the same source address will always get assigned to the same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Least Connection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s track of all currently active connections assigned to each node in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gns the next new incoming connection request to the node which currently has the least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 from actual amount of proc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ume more system resource than ot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s a maximum limit on the number of connections assigned to each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ad Balancing Over Network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p 14 by: R. Shaw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7480" y="1947960"/>
            <a:ext cx="4933800" cy="46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mon Erro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actical Implementat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02760" y="2209680"/>
            <a:ext cx="2785320" cy="3431160"/>
            <a:chOff x="5702760" y="2209680"/>
            <a:chExt cx="2785320" cy="3431160"/>
          </a:xfrm>
        </p:grpSpPr>
        <p:pic>
          <p:nvPicPr>
            <p:cNvPr id="108" name="vol1pic_large" descr=""/>
            <p:cNvPicPr/>
            <p:nvPr/>
          </p:nvPicPr>
          <p:blipFill>
            <a:blip r:embed="rId1"/>
            <a:stretch/>
          </p:blipFill>
          <p:spPr>
            <a:xfrm>
              <a:off x="5921280" y="220968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702760" y="533376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Minimum Miss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Keeps long-term track of all incoming requests assignments to the nod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ssign the next incoming request to the nodes which has processed the least number of incoming request in its histo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ifference with Least Connect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keeps track of the number of current and past conne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astest Respons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Keeps track of the network response time between the node and itself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signs the next incoming connection request to the node with the fastest respon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quires active monitoring of the individual no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ing ICMP packets with the ‘ping’ comm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rietary mechanism based upon UDP 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ke little sense except heavy load dow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ful in different network segm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rimary optimization vecto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etwork traffic opt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air load distribu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etwork route opt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onse latency min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pplication-specific performa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dministrative or network management opt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imary Optimization Vectors of Advanced Balancing Metho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3440" y="1550880"/>
          <a:ext cx="879156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1550880"/>
                    <a:ext cx="879156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Use a combination of the simple systems described earlier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etwork Traffic-based Balanc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quires active monitoring of incoming traffic from different sources and distributing them accordingly to the no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cus on predicting the volume of incoming traffic from a source on the network based upon past histor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ased on a simple weighting func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ode Traffic-base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verse of the network traffic balancing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d Least Connecti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tact software agent on the no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nitoring of the status of the network buff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ode Load-base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ftware ag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PU or system load in UNIX 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ous system load in Windows NT 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oad-balancing Domain Name Resol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volves the Round-Robin method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ad-balancing occurs within the DNS server itself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ependent of the application that generates the traffi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 create an effective load-balancing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adding a few algorithms to a standard DNS server 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mple &amp; most popular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est used in a cluster of nodes with identical application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opology-based Redir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direct traffic to the cluster nearest to the user’s computer in terms of network top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 (static) and network latency (dynam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p count is the number of routers the packets have to traverse to reach the destin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latency is the amount of time taken for a network packet to travel between the client and the cluster balancing devi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test respo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op level node in a particular do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fective in several clusters deployed across a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ing Triangulation in Topology-based Redire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57320" y="1522440"/>
          <a:ext cx="522936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7320" y="1522440"/>
                    <a:ext cx="522936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olicy-based Redir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ication of a mathematical or functional set of rules that define the balancing behavior of the clus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andwidth Allocation Poli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priority on network administration &amp; security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dministrative Poli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to the needs of each message in network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urity Poli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er access right for access the re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oad balancing over a network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of devices external to the processing nodes in a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 workload or network traffic load across the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des may be interconnected among themselv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be connected directly or indirectly to the balancing de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cessing nod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various status inform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ent processor 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pplication system 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 of active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vailability of network protocol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specific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pplication-specific Redirection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ovides load-balancing features dependent upon the type application or resource the client trying to acc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upport for application level of sess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atabase &amp; Web load-balanc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re are four common error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verflo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nderflo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outing err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uced network err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at can be destabilize efficient network cluster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verflow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cur when too much network traffic to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cur at the balancing device or at individual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t packets or throttling of packets intended for a destinatio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s of data and proces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alancing de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ly much greater than that of individual cluster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 it possible to be overflo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 in throttling or deleting some data streams to the nodes (leaving an adequate level of traffic to the no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CP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is an idle timeout clock for receiving an acknowled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an overflow situation, the acknowledge can’t be send 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ries from the client to deliver the same packet again until the timeout limits or connection droppe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nderflow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blem within the cluster itsel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one node is not getting enough traffic as compared to the other member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ode is underutilized or starved while others are getting loaded d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cating an inefficient distribution of traff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typically a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algorithm itself  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improper use of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 of Non symmetric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nodes in the cluster are not identical in power and one or more member nodes have far more computing resources than 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6000" y="1576440"/>
            <a:ext cx="84963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Routing Erro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t occu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ween a balancing device and the cluster n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ween the source client and the cluster no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ypically, it occurs from misconfiguration or a disconnected link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duced Network Erro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rrors generated b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rmal use of the networ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an incorrect or unstable network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not really err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results from delays in the propagation of packets along a network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o much traffic can result in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bottleneck in the network route in network route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ar as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se errors are temporary, but can last for hou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particular, the Fastest Response method and Topology-based redirection are the most affected by these err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actical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number of  vendors have different approached, but arrived with similar solutio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re is no commonly accepted standar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st vendor implementations are proprietary and work with only other products from the same vend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in Vendor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280" y="2000160"/>
          <a:ext cx="879156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00160"/>
                    <a:ext cx="879156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in Vendor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2247840"/>
          <a:ext cx="879156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47840"/>
                    <a:ext cx="879156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ndependent of the software application using the network and transport laye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P balanc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CP session load-balancing on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DP sess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alancing devic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onitors the status of all the processing no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ctates where to direct the next processing job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n be a single unit or a group of units working in parallel or under a tree hierarch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 one or more algorithms or methods together with static or dynamic setting to decide which node gets the next incoming connection reques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HolenTech HyperFlow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ad balancing at the IP network lev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of the TCP and UD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be functionally useful or efficient as balancing TCP ses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eighting &amp; round-robin in initial load balanc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wo level hashing as the basic method for mapping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-to-one, many-source-to-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balancing de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isco LocalDirecto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-based system originally based on N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IP (Channel interface processor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80Mbps, 700,000 TCP connections, 8,000 IP map in 1997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400Mbps, 1,000,000 TCP connections, 64,000 IP map no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isco DistributedDirecto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AN-based system based on D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pology-based redir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DP-based Director Response Protocol (DRP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sonate Central Dispat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imary scheduler communicates with the agent to determine server and network traffic lo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sonate Global Dispat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pology-based Redirection server that works with RC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lteon Networks ACEdirecto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0 or 100 Mbps Ethernet switches with load balanc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5 Labs BIG/ip and 3D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ad balancing, DNS, firewal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b-specific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ydraWEB Load Manag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b content level cluster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rtions of URL may be distributed across several nodes for asymmetric balanc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gents on nodes to monit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ND Network Web Server Director and Director Pro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-based cluster WSN, WSN Pr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SN-DS (Distributed Sites) for distributed environ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ynamically reassigns nodes from other clusters to become part of the loaded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ther Application Specific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un Microsystems StorEdg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pansion of RAID to two-node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mote mirroring (replica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-bandwidth direct connection between the two end-poi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 Point FireWall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access security monitors or firewal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 Point VPN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P-gateway providing certificate-based authent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 Point FloodGate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ndwidth can be assignment via domain names, IP address, or user inform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eparate balancing devi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 network load balancing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itor traffic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ecute a method of distributing traffic to a cluster of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alancing method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lemented independently, but very simila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NS as a crucial part in many load-balancing metho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twork layer (IP) &amp; transport layer (TCP, UDP) implement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stead of QoS, best-guess and proprietary metho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wo ways of network loa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point of vie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balancing system monitors incoming data to a cluster and distributes traffic based upon network protocol and traffic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application point of vie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level in the network communications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o build an application-specific balancing system on top of an existing network-specific balancing system or combine the two into a more complex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mplement of loa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rough the employment of several basic method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combined to create more advance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ethod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 be looked upon as mathematical functions that work on statistics of network traffic and node status to determine an appropriate target for receiving new lo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of these functions are influenced by several fact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behavior and role of the de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ow new traffic is to be distributed across the nodes of the cluster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actors Affecting Balancing 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mple Balancing 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dvanced Balancing 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efine the capabilities and limits of the balancing devic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Influences of the environment that the device works in and have to suppor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most basic factor: TCP/IP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ck of a separate session lay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ck of appropriate QoS guarante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, ICMP, TCP, UD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twork Address Translation (NAT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verting internal or private network address and routing information into external or public addresses and rout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ue to the limited address space of the current version of the IPV4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 security reason, NAT as firewal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y balancing device required to perform network address translation must keep separate tables for internal and external representations of computer or host inform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not be used with VPN (Virtual Private Network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6:12Z</dcterms:modified>
  <cp:revision>792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